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dfca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 rtl="1">
              <a:spcBef>
                <a:spcPts val="799"/>
              </a:spcBef>
              <a:buClr>
                <a:srgbClr val="00ff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25560">
            <a:solidFill>
              <a:srgbClr val="d98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2520" y="6400800"/>
            <a:ext cx="8315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8cf4ea"/>
                </a:solidFill>
                <a:latin typeface="Arial"/>
                <a:cs typeface="David"/>
              </a:rPr>
              <a:t>מצגות בעיצוב תכנה - המרכז להוראת המדעים, האונ’ העברית בי-ם - תשנ”ז         שקף מס' </a:t>
            </a:r>
            <a:fld id="{27ACFA06-6269-4634-AE55-17328D40C5D2}" type="slidenum">
              <a:rPr b="0" lang="he-IL" sz="1600" spc="-1" strike="noStrike">
                <a:solidFill>
                  <a:srgbClr val="8cf4ea"/>
                </a:solidFill>
                <a:latin typeface="Arial"/>
                <a:ea typeface="David"/>
              </a:rPr>
              <a:t>&lt;number&gt;</a:t>
            </a:fld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52280"/>
            <a:ext cx="183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afd00"/>
                </a:solidFill>
                <a:latin typeface="Arial"/>
                <a:cs typeface="David"/>
              </a:rPr>
              <a:t>מחסנית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</a:rPr>
              <a:t>בדיקת תקינות סוגריים</a:t>
            </a: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46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47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+ ( [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] / {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}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(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+ {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*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 ) + (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157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158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+ {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*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 ) + (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6212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169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170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(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{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*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 ) + (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89864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181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705720" y="3619440"/>
            <a:ext cx="990360" cy="457200"/>
            <a:chOff x="6705720" y="3619440"/>
            <a:chExt cx="990360" cy="457200"/>
          </a:xfrm>
        </p:grpSpPr>
        <p:sp>
          <p:nvSpPr>
            <p:cNvPr id="190" name=""/>
            <p:cNvSpPr/>
            <p:nvPr/>
          </p:nvSpPr>
          <p:spPr>
            <a:xfrm>
              <a:off x="6705720" y="361944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0572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05720" y="4076640"/>
              <a:ext cx="990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69608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05720" y="36576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}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(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{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*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 + (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198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199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705720" y="3619440"/>
            <a:ext cx="990360" cy="457200"/>
            <a:chOff x="6705720" y="3619440"/>
            <a:chExt cx="990360" cy="457200"/>
          </a:xfrm>
        </p:grpSpPr>
        <p:sp>
          <p:nvSpPr>
            <p:cNvPr id="207" name=""/>
            <p:cNvSpPr/>
            <p:nvPr/>
          </p:nvSpPr>
          <p:spPr>
            <a:xfrm>
              <a:off x="6705720" y="361944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4076640"/>
              <a:ext cx="990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69608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36576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}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289548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(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{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*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 + (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216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2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705720" y="3619440"/>
            <a:ext cx="990360" cy="457200"/>
            <a:chOff x="6705720" y="3619440"/>
            <a:chExt cx="990360" cy="457200"/>
          </a:xfrm>
        </p:grpSpPr>
        <p:sp>
          <p:nvSpPr>
            <p:cNvPr id="225" name=""/>
            <p:cNvSpPr/>
            <p:nvPr/>
          </p:nvSpPr>
          <p:spPr>
            <a:xfrm>
              <a:off x="6705720" y="361944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572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4076640"/>
              <a:ext cx="990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69608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36576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}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V="1">
            <a:off x="289548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1520" y="3886200"/>
            <a:ext cx="49626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afd00"/>
                </a:solidFill>
                <a:latin typeface="Arial"/>
                <a:cs typeface="David"/>
              </a:rPr>
              <a:t>אין התאמה בין הסוגר הנוכחי לבין הפותח שבראש המחסנית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234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235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0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705720" y="3619440"/>
            <a:ext cx="990360" cy="457200"/>
            <a:chOff x="6705720" y="3619440"/>
            <a:chExt cx="990360" cy="457200"/>
          </a:xfrm>
        </p:grpSpPr>
        <p:sp>
          <p:nvSpPr>
            <p:cNvPr id="243" name=""/>
            <p:cNvSpPr/>
            <p:nvPr/>
          </p:nvSpPr>
          <p:spPr>
            <a:xfrm>
              <a:off x="6705720" y="361944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0572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5720" y="4076640"/>
              <a:ext cx="990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69608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05720" y="36576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}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V="1">
            <a:off x="289548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142640" y="4952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afd00"/>
                </a:solidFill>
                <a:latin typeface="Arial"/>
              </a:rPr>
              <a:t>הביטוי אינו תקין !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(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{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*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 + (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 rtl="1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afd00"/>
                </a:solidFill>
                <a:latin typeface="Arial"/>
              </a:rPr>
              <a:t>ביטוי נוסף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( (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 +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256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2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76212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 +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268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 flipV="1">
            <a:off x="105732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 +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280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281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6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705720" y="3619440"/>
            <a:ext cx="990360" cy="457200"/>
            <a:chOff x="6705720" y="3619440"/>
            <a:chExt cx="990360" cy="457200"/>
          </a:xfrm>
        </p:grpSpPr>
        <p:sp>
          <p:nvSpPr>
            <p:cNvPr id="289" name=""/>
            <p:cNvSpPr/>
            <p:nvPr/>
          </p:nvSpPr>
          <p:spPr>
            <a:xfrm>
              <a:off x="6705720" y="361944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0572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05720" y="4076640"/>
              <a:ext cx="990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69608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05720" y="36576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57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58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(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[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] / {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}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44792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>
            <a:off x="228924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( (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299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 flipV="1">
            <a:off x="315900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( (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) +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310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311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 flipV="1">
            <a:off x="313704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320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321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57200" y="38862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    בסיום המעבר על הביטוי </a:t>
            </a:r>
            <a:br>
              <a:rPr sz="3200"/>
            </a:br>
            <a:r>
              <a:rPr b="0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המחסנית אינה ריקה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( (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) +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371240" y="4876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afd00"/>
                </a:solidFill>
                <a:latin typeface="Arial"/>
              </a:rPr>
              <a:t>הביטוי אינו תקין !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04812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335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336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1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( (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) +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69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70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[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] / {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}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67652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705720" y="3619440"/>
            <a:ext cx="990360" cy="457200"/>
            <a:chOff x="6705720" y="3619440"/>
            <a:chExt cx="990360" cy="457200"/>
          </a:xfrm>
        </p:grpSpPr>
        <p:sp>
          <p:nvSpPr>
            <p:cNvPr id="80" name=""/>
            <p:cNvSpPr/>
            <p:nvPr/>
          </p:nvSpPr>
          <p:spPr>
            <a:xfrm>
              <a:off x="6705720" y="361944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05720" y="4076640"/>
              <a:ext cx="990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69608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5720" y="36576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]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87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88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( [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/ {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}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9548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99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100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( [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] /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{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}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42900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705720" y="3619440"/>
            <a:ext cx="990360" cy="457200"/>
            <a:chOff x="6705720" y="3619440"/>
            <a:chExt cx="990360" cy="457200"/>
          </a:xfrm>
        </p:grpSpPr>
        <p:sp>
          <p:nvSpPr>
            <p:cNvPr id="110" name=""/>
            <p:cNvSpPr/>
            <p:nvPr/>
          </p:nvSpPr>
          <p:spPr>
            <a:xfrm>
              <a:off x="6705720" y="361944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72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4076640"/>
              <a:ext cx="990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696080" y="361944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36576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}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117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( [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] / {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7200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129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130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( [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] / {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}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8952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705720" y="4076640"/>
            <a:ext cx="990360" cy="457200"/>
            <a:chOff x="6705720" y="4076640"/>
            <a:chExt cx="990360" cy="457200"/>
          </a:xfrm>
        </p:grpSpPr>
        <p:grpSp>
          <p:nvGrpSpPr>
            <p:cNvPr id="141" name=""/>
            <p:cNvGrpSpPr/>
            <p:nvPr/>
          </p:nvGrpSpPr>
          <p:grpSpPr>
            <a:xfrm>
              <a:off x="6705720" y="4076640"/>
              <a:ext cx="990360" cy="457200"/>
              <a:chOff x="6705720" y="4076640"/>
              <a:chExt cx="990360" cy="457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705720" y="407664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6705720" y="4076640"/>
                <a:ext cx="990360" cy="457200"/>
                <a:chOff x="6705720" y="4076640"/>
                <a:chExt cx="990360" cy="4572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70572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705720" y="4533840"/>
                  <a:ext cx="9903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7696080" y="4076640"/>
                  <a:ext cx="0" cy="457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5720" y="41148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V="1">
            <a:off x="5105520" y="2742840"/>
            <a:ext cx="0" cy="6858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480" y="464796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 rtl="1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afd00"/>
                </a:solidFill>
                <a:latin typeface="Arial"/>
              </a:rPr>
              <a:t>הביטוי תקין!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057400"/>
            <a:ext cx="465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( [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] / {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da4b5"/>
                </a:solidFill>
                <a:latin typeface="Arial"/>
              </a:rPr>
              <a:t> }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dfca"/>
                </a:solidFill>
                <a:latin typeface="Arial"/>
                <a:cs typeface="David"/>
              </a:rPr>
              <a:t>בדיקת תקינות סוגרי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 rtl="1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afd00"/>
                </a:solidFill>
                <a:latin typeface="Arial"/>
              </a:rPr>
              <a:t>ביטוי נוסף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8T11:28:44Z</dcterms:created>
  <dc:creator>MicroSoft Office</dc:creator>
  <dc:description/>
  <dc:language>en-US</dc:language>
  <cp:lastModifiedBy>Tal</cp:lastModifiedBy>
  <dcterms:modified xsi:type="dcterms:W3CDTF">2004-07-21T10:29:53Z</dcterms:modified>
  <cp:revision>30</cp:revision>
  <dc:subject/>
  <dc:title>בדיקת תקינות סוגריים</dc:title>
</cp:coreProperties>
</file>