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76C2-9856-4DE9-9378-6F8F99DBB75F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3771-665C-4B75-B06A-320EDBBFF4D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1B9E-3DB4-4226-BAD1-7622B8C5095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294-E79E-4199-9741-E7C56E87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4C6-EFE6-48BA-8552-9D2ABD16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5FA-31B4-4599-B15E-58ADED05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87D-AA1D-44BB-BC46-513CCEFC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5D1-8E4F-4359-BE69-FC0F7A7D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DE2-8EC9-47D0-9EB1-0410C58B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85B-70A2-4D33-A1FA-63D632C6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367-B842-47B0-B8F4-72CA3F30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A2D-FBE5-4F6B-AAED-53B69F1A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DC5-9D3D-434E-9F7E-1B08F494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36F-1671-4C58-A133-E4F26814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402-BAF1-4A31-B436-BD19A7D3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AD7A1E6E-79EF-49CF-8B3B-F210DF979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219320"/>
            <a:ext cx="784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600" spc="-1" strike="noStrike">
                <a:solidFill>
                  <a:srgbClr val="ff3300"/>
                </a:solidFill>
                <a:latin typeface="Arial"/>
                <a:cs typeface="David"/>
              </a:rPr>
              <a:t>רקורסיה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  <a:cs typeface="David"/>
              </a:rPr>
              <a:t>מה מותר ומה אסו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24382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9AD-3E5D-4BA2-BF7C-68688C8D993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5335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נאי עצירה שגוי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David"/>
              </a:rPr>
              <a:t>אינו מכסה את המקרה הפשו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880" y="2590920"/>
            <a:ext cx="3644640" cy="2806560"/>
            <a:chOff x="380880" y="2590920"/>
            <a:chExt cx="3644640" cy="2806560"/>
          </a:xfrm>
        </p:grpSpPr>
        <p:sp>
          <p:nvSpPr>
            <p:cNvPr id="55" name=""/>
            <p:cNvSpPr/>
            <p:nvPr/>
          </p:nvSpPr>
          <p:spPr>
            <a:xfrm>
              <a:off x="380880" y="259092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480" y="285768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אין טיפו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David"/>
                </a:rPr>
                <a:t> במחרוזת ריק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62520" y="2971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Times New Roman"/>
                <a:cs typeface="Arial"/>
              </a:rPr>
              <a:t>אם אורך המחרוזת הינו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 אז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4648320"/>
            <a:ext cx="6324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תיקו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אם אורך המחרוזת הינו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Arial"/>
              </a:rPr>
              <a:t> אזי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CAE-12E4-4D39-B96A-512FFDF8A97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Adi</cp:lastModifiedBy>
  <dcterms:modified xsi:type="dcterms:W3CDTF">2004-07-22T07:30:00Z</dcterms:modified>
  <cp:revision>70</cp:revision>
  <dc:subject/>
  <dc:title>עולמנו המופלא</dc:title>
</cp:coreProperties>
</file>