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8E2F-D2FB-4089-9549-503341A800B9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BE5B-56A9-43EE-9FAF-0073F2EA3F9A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37C7-D440-49CF-BB25-85F9BB9A2CDB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8118-3A17-4B86-84FC-F66F549139AA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2A04-A461-4457-9122-BAEF80385E2D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C766-4462-4B6D-847B-E1A9E7FC51B0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9EA2-F1E6-4A36-B2F3-D5A02D401C82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1E3F-A470-4EF9-98F4-C547E91829FA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FD6-4159-49D9-9F73-66420ADE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9CD-33D1-4AE6-8D24-B9DFBD0A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988-AE00-4749-84A7-00C405F1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33C-F21F-4F4B-891D-40852C69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35D-828F-40EC-9BD6-0BEB0886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9E8-5C6D-4154-81A7-9A94E38A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46B-05B5-4292-A68C-FE666A9C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C14-31AF-4EC7-A1B7-6FE13419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8D6-6D4E-4649-A474-A971579D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4A8-7C19-4B5E-830F-8E709C12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42A-0A36-44EF-8720-8AD93F49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B6B-A95F-4352-B54E-4AC824FC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 בעיצוב תכנ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4680" y="6459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קבוצת מדעי המחשב – אוניברסיטת תל-אבי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2960" y="6451560"/>
            <a:ext cx="18320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קופית מספר: </a:t>
            </a:r>
            <a:fld id="{4A681539-1E36-4303-8D62-44DFAD4401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 u="sng">
                <a:solidFill>
                  <a:srgbClr val="ff3300"/>
                </a:solidFill>
                <a:uFillTx/>
                <a:latin typeface="Arial"/>
                <a:cs typeface="David"/>
              </a:rPr>
              <a:t>פעולות הממש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243828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5410080"/>
            <a:ext cx="5486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cs typeface="David"/>
                <a:hlinkClick r:id="rId1" action="ppaction://hlinksldjump"/>
              </a:rPr>
              <a:t>הצץ-לתור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  <a:hlinkClick r:id="rId2" action="ppaction://hlinksldjump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  <a:hlinkClick r:id="rId3" action="ppaction://hlinksldjump"/>
              </a:rPr>
              <a:t>(Q)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  <a:hlinkClick r:id="rId4" action="ppaction://hlinksldjump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4495680"/>
            <a:ext cx="5486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cs typeface="David"/>
                <a:hlinkClick r:id="rId5" action="ppaction://hlinksldjump"/>
              </a:rPr>
              <a:t>הוצא-מתור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  <a:hlinkClick r:id="rId6" action="ppaction://hlinksldjump"/>
              </a:rPr>
              <a:t>(Q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3809880"/>
            <a:ext cx="5486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cs typeface="David"/>
                <a:hlinkClick r:id="rId7" action="ppaction://hlinksldjump"/>
              </a:rPr>
              <a:t>הכנס-לתור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  <a:hlinkClick r:id="rId8" action="ppaction://hlinksldjump"/>
              </a:rPr>
              <a:t>(Q, x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3048120"/>
            <a:ext cx="4419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cs typeface="David"/>
              </a:rPr>
              <a:t>תור-ריק?(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David"/>
              </a:rPr>
              <a:t>Q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David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9" action="ppaction://hlinksldjump"/>
          </p:cNvPr>
          <p:cNvSpPr/>
          <p:nvPr/>
        </p:nvSpPr>
        <p:spPr>
          <a:xfrm>
            <a:off x="5257800" y="1981080"/>
            <a:ext cx="3352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cs typeface="David"/>
                <a:hlinkClick r:id="rId10" action="ppaction://hlinksldjump"/>
              </a:rPr>
              <a:t>אתחל-תו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BB6-9B18-430C-B937-54E130664B2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76320"/>
            <a:ext cx="4419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3300"/>
                </a:solidFill>
                <a:latin typeface="Arial"/>
                <a:cs typeface="David"/>
              </a:rPr>
              <a:t>אתחל-תו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2438280"/>
            <a:ext cx="3644640" cy="2806560"/>
            <a:chOff x="609480" y="2438280"/>
            <a:chExt cx="3644640" cy="2806560"/>
          </a:xfrm>
        </p:grpSpPr>
        <p:sp>
          <p:nvSpPr>
            <p:cNvPr id="61" name=""/>
            <p:cNvSpPr/>
            <p:nvPr/>
          </p:nvSpPr>
          <p:spPr>
            <a:xfrm>
              <a:off x="609480" y="243828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8080" y="270504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נוצר תור רי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274320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72400" y="441972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981760" y="4343040"/>
            <a:ext cx="1104480" cy="800280"/>
            <a:chOff x="5981760" y="4343040"/>
            <a:chExt cx="1104480" cy="800280"/>
          </a:xfrm>
        </p:grpSpPr>
        <p:sp>
          <p:nvSpPr>
            <p:cNvPr id="67" name=""/>
            <p:cNvSpPr/>
            <p:nvPr/>
          </p:nvSpPr>
          <p:spPr>
            <a:xfrm>
              <a:off x="5981760" y="5143320"/>
              <a:ext cx="110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5981760" y="4343040"/>
              <a:ext cx="110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BC0-C4DA-44A1-AE25-E38672DEBAB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152280"/>
            <a:ext cx="4724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cs typeface="David"/>
              </a:rPr>
              <a:t>תור-ריק? (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Q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)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175248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מצב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281952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ערך מוחזר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"אמת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80880" y="1523880"/>
            <a:ext cx="3644640" cy="2806560"/>
            <a:chOff x="380880" y="1523880"/>
            <a:chExt cx="3644640" cy="2806560"/>
          </a:xfrm>
        </p:grpSpPr>
        <p:sp>
          <p:nvSpPr>
            <p:cNvPr id="75" name=""/>
            <p:cNvSpPr/>
            <p:nvPr/>
          </p:nvSpPr>
          <p:spPr>
            <a:xfrm>
              <a:off x="380880" y="152388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480" y="179064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נחה: </a:t>
              </a: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תור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Q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מאותח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600880" y="1752480"/>
            <a:ext cx="1104480" cy="723960"/>
            <a:chOff x="5600880" y="1752480"/>
            <a:chExt cx="1104480" cy="723960"/>
          </a:xfrm>
        </p:grpSpPr>
        <p:sp>
          <p:nvSpPr>
            <p:cNvPr id="78" name=""/>
            <p:cNvSpPr/>
            <p:nvPr/>
          </p:nvSpPr>
          <p:spPr>
            <a:xfrm flipH="1">
              <a:off x="5600880" y="1752480"/>
              <a:ext cx="110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00880" y="2476440"/>
              <a:ext cx="110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181480" y="563868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ערך מוחזר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"שקר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52520" y="4419360"/>
            <a:ext cx="2438640" cy="647640"/>
            <a:chOff x="4952520" y="4419360"/>
            <a:chExt cx="2438640" cy="647640"/>
          </a:xfrm>
        </p:grpSpPr>
        <p:grpSp>
          <p:nvGrpSpPr>
            <p:cNvPr id="82" name=""/>
            <p:cNvGrpSpPr/>
            <p:nvPr/>
          </p:nvGrpSpPr>
          <p:grpSpPr>
            <a:xfrm>
              <a:off x="5257440" y="4419360"/>
              <a:ext cx="1904400" cy="647640"/>
              <a:chOff x="5257440" y="4419360"/>
              <a:chExt cx="1904400" cy="64764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5257440" y="4419360"/>
                <a:ext cx="1904400" cy="647640"/>
                <a:chOff x="5257440" y="4419360"/>
                <a:chExt cx="1904400" cy="6476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257800" y="5067000"/>
                  <a:ext cx="190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>
                  <a:off x="5257440" y="4419360"/>
                  <a:ext cx="190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5715000" y="44197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48520" y="44197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62600" y="44197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H="1">
              <a:off x="4952520" y="47242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7009920" y="47242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324480" y="4616280"/>
            <a:ext cx="3812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4622760"/>
            <a:ext cx="380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48720" y="44956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מצב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CE4B-C38A-4D79-8DF7-3C55B89F6A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00200" y="152280"/>
            <a:ext cx="7010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cs typeface="David"/>
              </a:rPr>
              <a:t>הכנס-לתור(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Q, x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)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09480" y="2438280"/>
            <a:ext cx="3644640" cy="2806560"/>
            <a:chOff x="609480" y="2438280"/>
            <a:chExt cx="3644640" cy="2806560"/>
          </a:xfrm>
        </p:grpSpPr>
        <p:sp>
          <p:nvSpPr>
            <p:cNvPr id="96" name=""/>
            <p:cNvSpPr/>
            <p:nvPr/>
          </p:nvSpPr>
          <p:spPr>
            <a:xfrm>
              <a:off x="609480" y="243828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270504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נחה: </a:t>
              </a:r>
              <a:br>
                <a:rPr sz="3200"/>
              </a:b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תור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Q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מאותח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2400" y="274320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72400" y="441972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42800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27432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=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714640" y="4267080"/>
            <a:ext cx="1257120" cy="648000"/>
            <a:chOff x="5714640" y="4267080"/>
            <a:chExt cx="1257120" cy="648000"/>
          </a:xfrm>
        </p:grpSpPr>
        <p:sp>
          <p:nvSpPr>
            <p:cNvPr id="104" name=""/>
            <p:cNvSpPr/>
            <p:nvPr/>
          </p:nvSpPr>
          <p:spPr>
            <a:xfrm>
              <a:off x="5715000" y="4915080"/>
              <a:ext cx="125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714640" y="4267080"/>
              <a:ext cx="125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829480" y="2781000"/>
            <a:ext cx="1028160" cy="609480"/>
            <a:chOff x="5829480" y="2781000"/>
            <a:chExt cx="1028160" cy="609480"/>
          </a:xfrm>
        </p:grpSpPr>
        <p:sp>
          <p:nvSpPr>
            <p:cNvPr id="107" name=""/>
            <p:cNvSpPr/>
            <p:nvPr/>
          </p:nvSpPr>
          <p:spPr>
            <a:xfrm>
              <a:off x="5829480" y="3390480"/>
              <a:ext cx="102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829480" y="2781000"/>
              <a:ext cx="102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 flipH="1">
            <a:off x="5334120" y="459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990840" y="46101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532-559A-4EC8-9A9D-255B8E8BBE3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cs typeface="David"/>
              </a:rPr>
              <a:t>הכנס-לתור(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Q, y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) </a:t>
            </a:r>
            <a:r>
              <a:rPr b="1" lang="he-IL" sz="6000" spc="-1" strike="noStrike">
                <a:solidFill>
                  <a:srgbClr val="ff3300"/>
                </a:solidFill>
                <a:latin typeface="Arial"/>
                <a:ea typeface="David"/>
              </a:rPr>
              <a:t> - </a:t>
            </a:r>
            <a:r>
              <a:rPr b="1" lang="he-IL" sz="6000" spc="-1" strike="noStrike">
                <a:solidFill>
                  <a:srgbClr val="ff3300"/>
                </a:solidFill>
                <a:latin typeface="Times New Roman"/>
                <a:cs typeface="David"/>
              </a:rPr>
              <a:t>המש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09480" y="2438280"/>
            <a:ext cx="3644640" cy="2806560"/>
            <a:chOff x="609480" y="2438280"/>
            <a:chExt cx="3644640" cy="2806560"/>
          </a:xfrm>
        </p:grpSpPr>
        <p:sp>
          <p:nvSpPr>
            <p:cNvPr id="114" name=""/>
            <p:cNvSpPr/>
            <p:nvPr/>
          </p:nvSpPr>
          <p:spPr>
            <a:xfrm>
              <a:off x="609480" y="243828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8080" y="270504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נחה: </a:t>
              </a:r>
              <a:br>
                <a:rPr sz="3200"/>
              </a:b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תור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Q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מאותח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74320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441972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4616280"/>
            <a:ext cx="3812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4622760"/>
            <a:ext cx="380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2743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714640" y="2819520"/>
            <a:ext cx="1257120" cy="482400"/>
            <a:chOff x="5714640" y="2819520"/>
            <a:chExt cx="1257120" cy="482400"/>
          </a:xfrm>
        </p:grpSpPr>
        <p:sp>
          <p:nvSpPr>
            <p:cNvPr id="124" name=""/>
            <p:cNvSpPr/>
            <p:nvPr/>
          </p:nvSpPr>
          <p:spPr>
            <a:xfrm>
              <a:off x="5715000" y="3301920"/>
              <a:ext cx="125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714640" y="2819520"/>
              <a:ext cx="125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952520" y="4419360"/>
            <a:ext cx="2438640" cy="647640"/>
            <a:chOff x="4952520" y="4419360"/>
            <a:chExt cx="2438640" cy="647640"/>
          </a:xfrm>
        </p:grpSpPr>
        <p:grpSp>
          <p:nvGrpSpPr>
            <p:cNvPr id="127" name=""/>
            <p:cNvGrpSpPr/>
            <p:nvPr/>
          </p:nvGrpSpPr>
          <p:grpSpPr>
            <a:xfrm>
              <a:off x="5257440" y="4419360"/>
              <a:ext cx="1904400" cy="647640"/>
              <a:chOff x="5257440" y="4419360"/>
              <a:chExt cx="1904400" cy="6476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257440" y="4419360"/>
                <a:ext cx="1904400" cy="647640"/>
                <a:chOff x="5257440" y="4419360"/>
                <a:chExt cx="1904400" cy="6476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257800" y="5067000"/>
                  <a:ext cx="190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5257440" y="4419360"/>
                  <a:ext cx="190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>
                <a:off x="5715000" y="44197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248520" y="44197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762600" y="44197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>
              <a:off x="4952520" y="47242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009920" y="47242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AA0-93BD-49B5-99F4-3FF9FAA60AA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380880"/>
            <a:ext cx="6476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cs typeface="David"/>
              </a:rPr>
              <a:t>הוצא-מתור (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Q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)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x </a:t>
            </a:r>
            <a:r>
              <a:rPr b="1" lang="en-US" sz="6000" spc="-1" strike="noStrike">
                <a:solidFill>
                  <a:srgbClr val="ff3300"/>
                </a:solidFill>
                <a:latin typeface="Symbol"/>
                <a:ea typeface="Symbol"/>
              </a:rPr>
              <a:t>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09480" y="2438280"/>
            <a:ext cx="3644640" cy="2806560"/>
            <a:chOff x="609480" y="2438280"/>
            <a:chExt cx="3644640" cy="2806560"/>
          </a:xfrm>
        </p:grpSpPr>
        <p:sp>
          <p:nvSpPr>
            <p:cNvPr id="139" name=""/>
            <p:cNvSpPr/>
            <p:nvPr/>
          </p:nvSpPr>
          <p:spPr>
            <a:xfrm>
              <a:off x="609480" y="243828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270504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נחות:</a:t>
              </a:r>
              <a:br>
                <a:rPr sz="3200"/>
              </a:b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תור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Q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מאותחל </a:t>
              </a:r>
              <a:br>
                <a:rPr sz="3200"/>
              </a:b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ולא רי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72400" y="274320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441972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4476600"/>
            <a:ext cx="685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823000" y="4267080"/>
            <a:ext cx="914400" cy="609840"/>
            <a:chOff x="5823000" y="4267080"/>
            <a:chExt cx="914400" cy="609840"/>
          </a:xfrm>
        </p:grpSpPr>
        <p:sp>
          <p:nvSpPr>
            <p:cNvPr id="146" name=""/>
            <p:cNvSpPr/>
            <p:nvPr/>
          </p:nvSpPr>
          <p:spPr>
            <a:xfrm>
              <a:off x="5823000" y="487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23000" y="42670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267080" y="4343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=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2940120"/>
            <a:ext cx="3812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2946240"/>
            <a:ext cx="380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952520" y="2742840"/>
            <a:ext cx="2438640" cy="647640"/>
            <a:chOff x="4952520" y="2742840"/>
            <a:chExt cx="2438640" cy="647640"/>
          </a:xfrm>
        </p:grpSpPr>
        <p:grpSp>
          <p:nvGrpSpPr>
            <p:cNvPr id="152" name=""/>
            <p:cNvGrpSpPr/>
            <p:nvPr/>
          </p:nvGrpSpPr>
          <p:grpSpPr>
            <a:xfrm>
              <a:off x="5257440" y="2742840"/>
              <a:ext cx="1904400" cy="647640"/>
              <a:chOff x="5257440" y="2742840"/>
              <a:chExt cx="1904400" cy="64764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5257440" y="2742840"/>
                <a:ext cx="1904400" cy="647640"/>
                <a:chOff x="5257440" y="2742840"/>
                <a:chExt cx="1904400" cy="6476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257800" y="3390480"/>
                  <a:ext cx="190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5257440" y="2742840"/>
                  <a:ext cx="190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5715000" y="274320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248520" y="274320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762600" y="274320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flipH="1">
              <a:off x="4952520" y="3047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009920" y="3047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703-4D62-45C7-9B5A-9B6D9B0CEA3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7632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cs typeface="David"/>
              </a:rPr>
              <a:t>הצץ-לתור (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Q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)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x </a:t>
            </a:r>
            <a:r>
              <a:rPr b="1" lang="en-US" sz="6000" spc="-1" strike="noStrike">
                <a:solidFill>
                  <a:srgbClr val="ff3300"/>
                </a:solidFill>
                <a:latin typeface="Symbol"/>
                <a:ea typeface="Symbol"/>
              </a:rPr>
              <a:t>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2438280"/>
            <a:ext cx="3644640" cy="2806560"/>
            <a:chOff x="609480" y="2438280"/>
            <a:chExt cx="3644640" cy="2806560"/>
          </a:xfrm>
        </p:grpSpPr>
        <p:sp>
          <p:nvSpPr>
            <p:cNvPr id="164" name=""/>
            <p:cNvSpPr/>
            <p:nvPr/>
          </p:nvSpPr>
          <p:spPr>
            <a:xfrm>
              <a:off x="609480" y="243828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270504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נחות: </a:t>
              </a:r>
              <a:br>
                <a:rPr sz="3200"/>
              </a:b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תור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Q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מאותחל </a:t>
              </a:r>
              <a:br>
                <a:rPr sz="3200"/>
              </a:b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ו</a:t>
              </a: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Arial"/>
                  <a:cs typeface="Arial"/>
                </a:rPr>
                <a:t>לא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רי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0120" y="2743200"/>
            <a:ext cx="99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419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105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=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2940120"/>
            <a:ext cx="3812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2946240"/>
            <a:ext cx="380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952520" y="2742840"/>
            <a:ext cx="2438640" cy="647640"/>
            <a:chOff x="4952520" y="2742840"/>
            <a:chExt cx="2438640" cy="647640"/>
          </a:xfrm>
        </p:grpSpPr>
        <p:grpSp>
          <p:nvGrpSpPr>
            <p:cNvPr id="173" name=""/>
            <p:cNvGrpSpPr/>
            <p:nvPr/>
          </p:nvGrpSpPr>
          <p:grpSpPr>
            <a:xfrm>
              <a:off x="5257440" y="2742840"/>
              <a:ext cx="1904400" cy="647640"/>
              <a:chOff x="5257440" y="2742840"/>
              <a:chExt cx="1904400" cy="64764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5257440" y="2742840"/>
                <a:ext cx="1904400" cy="647640"/>
                <a:chOff x="5257440" y="2742840"/>
                <a:chExt cx="1904400" cy="647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257800" y="3390480"/>
                  <a:ext cx="190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5257440" y="2742840"/>
                  <a:ext cx="190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5715000" y="274320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48520" y="274320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762600" y="274320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 flipH="1">
              <a:off x="4952520" y="3047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009920" y="3047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324480" y="4540320"/>
            <a:ext cx="3812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4546440"/>
            <a:ext cx="380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952520" y="4343040"/>
            <a:ext cx="2438640" cy="647640"/>
            <a:chOff x="4952520" y="4343040"/>
            <a:chExt cx="2438640" cy="647640"/>
          </a:xfrm>
        </p:grpSpPr>
        <p:grpSp>
          <p:nvGrpSpPr>
            <p:cNvPr id="185" name=""/>
            <p:cNvGrpSpPr/>
            <p:nvPr/>
          </p:nvGrpSpPr>
          <p:grpSpPr>
            <a:xfrm>
              <a:off x="5257440" y="4343040"/>
              <a:ext cx="1904400" cy="647640"/>
              <a:chOff x="5257440" y="4343040"/>
              <a:chExt cx="1904400" cy="64764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5257440" y="4343040"/>
                <a:ext cx="1904400" cy="647640"/>
                <a:chOff x="5257440" y="4343040"/>
                <a:chExt cx="1904400" cy="6476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5257800" y="4990680"/>
                  <a:ext cx="190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5257440" y="4343040"/>
                  <a:ext cx="190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5715000" y="434340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248520" y="434340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62600" y="434340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>
              <a:off x="495252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00992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C84E-ABD1-45B1-97F7-52FB2EFB10B4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08:10:50Z</dcterms:created>
  <dc:creator>חיים אברבוך</dc:creator>
  <dc:description/>
  <dc:language>en-US</dc:language>
  <cp:lastModifiedBy>Adi</cp:lastModifiedBy>
  <dcterms:modified xsi:type="dcterms:W3CDTF">2004-07-22T08:11:21Z</dcterms:modified>
  <cp:revision>80</cp:revision>
  <dc:subject/>
  <dc:title>עולמנו המופלא</dc:title>
</cp:coreProperties>
</file>