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3BE5-C600-47CF-8C72-FC01C4D2F1A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CF86-F019-42B2-875A-D511A8C6992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8D9-6FD4-47C6-9EC8-9FAA48A0AA1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7AD-42FE-43C3-9BD7-FD7CEC3D44DC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D86-A1C5-48CC-8B40-3E305D46EC9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CE8-BD8C-4D80-B80C-5B57FF23D8A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1E3-3065-482A-9E13-90C362ADD9C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E13-2C8A-463B-B8EB-4831EF345D3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E9C-956C-49BB-850E-A99288BBCAF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156-1011-4175-8203-8EEE5A191DD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6EB-6014-4D32-BD6C-A2FA0DFC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641-1E43-4E65-AD09-202D65F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05F-0B7D-4167-B092-831E2B1E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6F2-6778-4AB7-85CE-4543B86B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3EF-FD2A-4F35-8725-F89E77C1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E41-D08A-408C-9B3E-1708CDF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989-9973-4EFD-A3CE-2E09166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C1E-F458-4072-AB15-CD4E1379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2EB-E752-459A-9D76-6B093AA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C5B-1688-40E6-B50A-CCE2B57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91A-F57F-4CC6-8AD9-CB25465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91C-6BEF-4166-A103-64A0F94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7C9D2516-E259-4097-8FA3-A1A52B237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600" spc="-1" strike="noStrike">
                <a:solidFill>
                  <a:srgbClr val="ff3300"/>
                </a:solidFill>
                <a:latin typeface="Arial"/>
                <a:cs typeface="David"/>
              </a:rPr>
              <a:t>תור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David"/>
              </a:rPr>
              <a:t>מה מותר ומה אס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צגת מכילה מספר תרחיש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ובסופה תרגיל מסכ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DFB-2748-4DDF-845F-3D3078BC67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57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avid"/>
              </a:rPr>
              <a:t>תרחיש 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avid"/>
              </a:rPr>
              <a:t>הכנסת איבר לתור לא מאותח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54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לא מאותחל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28600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cs typeface="Arial"/>
              </a:rPr>
              <a:t>הכנס-לתור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Q, 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3434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אתחל-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תו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כנ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ל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תו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, 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97C-5687-4587-8EB1-9C9C253A4DA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09480" y="2133720"/>
            <a:ext cx="3644640" cy="2806560"/>
            <a:chOff x="609480" y="2133720"/>
            <a:chExt cx="3644640" cy="2806560"/>
          </a:xfrm>
        </p:grpSpPr>
        <p:sp>
          <p:nvSpPr>
            <p:cNvPr id="60" name=""/>
            <p:cNvSpPr/>
            <p:nvPr/>
          </p:nvSpPr>
          <p:spPr>
            <a:xfrm>
              <a:off x="609480" y="21337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080" y="24004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David"/>
                </a:rPr>
                <a:t> אותחל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אך הוא ריק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676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cs typeface="Arial"/>
              </a:rPr>
              <a:t>הוצא-מתור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Q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avid"/>
              </a:rPr>
              <a:t>תרחיש 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avid"/>
              </a:rPr>
              <a:t>חמיקה -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ניסיון שליפה מתור רי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267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Arial"/>
              </a:rPr>
              <a:t>אם לא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תו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ריק?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 אז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וצ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מת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ו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917-0002-4A4A-913C-5BF358F43316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avid"/>
              </a:rPr>
              <a:t>תרחיש 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avid"/>
              </a:rPr>
              <a:t>הרס עצמ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76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אתחל-תור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1320" y="2666880"/>
            <a:ext cx="965160" cy="1143000"/>
            <a:chOff x="5791320" y="2666880"/>
            <a:chExt cx="965160" cy="1143000"/>
          </a:xfrm>
        </p:grpSpPr>
        <p:sp>
          <p:nvSpPr>
            <p:cNvPr id="72" name=""/>
            <p:cNvSpPr/>
            <p:nvPr/>
          </p:nvSpPr>
          <p:spPr>
            <a:xfrm>
              <a:off x="5791320" y="27432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266688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56480" y="27432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480" y="2438280"/>
            <a:ext cx="4038480" cy="3047760"/>
            <a:chOff x="609480" y="2438280"/>
            <a:chExt cx="4038480" cy="3047760"/>
          </a:xfrm>
        </p:grpSpPr>
        <p:sp>
          <p:nvSpPr>
            <p:cNvPr id="76" name=""/>
            <p:cNvSpPr/>
            <p:nvPr/>
          </p:nvSpPr>
          <p:spPr>
            <a:xfrm>
              <a:off x="609480" y="2438280"/>
              <a:ext cx="4038480" cy="3047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2560" y="2727720"/>
              <a:ext cx="3531960" cy="24688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אין גישה לאיברים </a:t>
              </a:r>
              <a:br>
                <a:rPr sz="3200"/>
              </a:br>
              <a:r>
                <a:rPr b="0" lang="he-IL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בתו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אם זה מה שבאמת רצית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791320" y="4267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56480" y="4267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D1A-C7E3-4E5B-B2F2-3EAB4A0298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avid"/>
              </a:rPr>
              <a:t>תרחיש 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avid"/>
              </a:rPr>
              <a:t>אין גיש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2476440"/>
            <a:ext cx="4038120" cy="2895480"/>
            <a:chOff x="304920" y="2476440"/>
            <a:chExt cx="4038120" cy="2895480"/>
          </a:xfrm>
        </p:grpSpPr>
        <p:sp>
          <p:nvSpPr>
            <p:cNvPr id="82" name=""/>
            <p:cNvSpPr/>
            <p:nvPr/>
          </p:nvSpPr>
          <p:spPr>
            <a:xfrm>
              <a:off x="304920" y="2476440"/>
              <a:ext cx="4038120" cy="289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000" y="2751480"/>
              <a:ext cx="3531600" cy="2345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הוצאת איבר </a:t>
              </a:r>
              <a:br>
                <a:rPr sz="3200"/>
              </a:b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David"/>
                </a:rPr>
                <a:t>מבלי לשמור את ערכו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3333cc"/>
                  </a:solidFill>
                  <a:latin typeface="Times New Roman"/>
                  <a:cs typeface="David"/>
                </a:rPr>
                <a:t>האם זה מה שבאמת רצית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6765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cs typeface="Arial"/>
              </a:rPr>
              <a:t>אם הוצא-מתור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Q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) &gt;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 אזי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791320" y="2590920"/>
            <a:ext cx="965160" cy="1143000"/>
            <a:chOff x="5791320" y="2590920"/>
            <a:chExt cx="965160" cy="1143000"/>
          </a:xfrm>
        </p:grpSpPr>
        <p:sp>
          <p:nvSpPr>
            <p:cNvPr id="89" name=""/>
            <p:cNvSpPr/>
            <p:nvPr/>
          </p:nvSpPr>
          <p:spPr>
            <a:xfrm>
              <a:off x="5791320" y="26668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259092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56480" y="26668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91320" y="4191120"/>
            <a:ext cx="965160" cy="1143000"/>
            <a:chOff x="5791320" y="4191120"/>
            <a:chExt cx="965160" cy="1143000"/>
          </a:xfrm>
        </p:grpSpPr>
        <p:sp>
          <p:nvSpPr>
            <p:cNvPr id="93" name=""/>
            <p:cNvSpPr/>
            <p:nvPr/>
          </p:nvSpPr>
          <p:spPr>
            <a:xfrm>
              <a:off x="579132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3600" y="419112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648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C93-8F4F-44D8-BFCB-A09D63191C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David"/>
              </a:rPr>
              <a:t>תרגיל סיכו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להלן אלגוריתם </a:t>
            </a:r>
            <a:r>
              <a:rPr b="1" lang="he-IL" sz="4000" spc="-1" strike="noStrike">
                <a:solidFill>
                  <a:srgbClr val="ff3300"/>
                </a:solidFill>
                <a:latin typeface="Arial"/>
                <a:cs typeface="Arial"/>
              </a:rPr>
              <a:t>שגוי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המקבל תור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מאותחל שאיבריו מספרים שלמים.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אלגוריתם </a:t>
            </a:r>
            <a:r>
              <a:rPr b="1" lang="he-IL" sz="4000" spc="-1" strike="noStrike">
                <a:solidFill>
                  <a:srgbClr val="ff3300"/>
                </a:solidFill>
                <a:latin typeface="Arial"/>
                <a:cs typeface="Arial"/>
              </a:rPr>
              <a:t>אמור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להחזיר תור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מכיל רק את המספרים הזוגיים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שבתור המקורי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(התרגיל מכיל חלק משגיאות שהוזכרו וכן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שגיאות אופייניות נוספות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F05-4BBB-4C3C-A238-EC702F023B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cs typeface="David"/>
              </a:rPr>
              <a:t>תרגיל סיכום – אלגוריתם שגו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2120" y="1600200"/>
            <a:ext cx="7695360" cy="4343040"/>
            <a:chOff x="762120" y="1600200"/>
            <a:chExt cx="7695360" cy="4343040"/>
          </a:xfrm>
        </p:grpSpPr>
        <p:sp>
          <p:nvSpPr>
            <p:cNvPr id="101" name=""/>
            <p:cNvSpPr/>
            <p:nvPr/>
          </p:nvSpPr>
          <p:spPr>
            <a:xfrm>
              <a:off x="762120" y="1600200"/>
              <a:ext cx="7695360" cy="434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4520" y="2012760"/>
              <a:ext cx="6730200" cy="35179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זוגיי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בצ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וצא-מתור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ם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זוגי אז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כנס-לתור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,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ד אשר תור-ריק?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928-5E2C-49B7-A8C4-40361787CA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cs typeface="David"/>
              </a:rPr>
              <a:t>תרגיל סיכום – אלגוריתם שגו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1685880"/>
            <a:ext cx="8076600" cy="4343040"/>
            <a:chOff x="609480" y="1685880"/>
            <a:chExt cx="8076600" cy="4343040"/>
          </a:xfrm>
        </p:grpSpPr>
        <p:sp>
          <p:nvSpPr>
            <p:cNvPr id="105" name=""/>
            <p:cNvSpPr/>
            <p:nvPr/>
          </p:nvSpPr>
          <p:spPr>
            <a:xfrm>
              <a:off x="609480" y="1685880"/>
              <a:ext cx="8076600" cy="434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6000" y="2098440"/>
              <a:ext cx="7063560" cy="35179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שגיאות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חסר פרמטר בכותרת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אין אתחול תור 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אין בדיקה האם התור-ריק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לפני הוצאת איבר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100000"/>
                </a:lnSpc>
                <a:buClr>
                  <a:srgbClr val="33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אין הוראת ההחזרה ל-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כמו כן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ין 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תיעוד לפעולה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EFF-E793-4466-BA6A-939D5A17AB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95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cs typeface="David"/>
              </a:rPr>
              <a:t>תרגיל סיכום – אלגוריתם תקי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1800" y="838080"/>
            <a:ext cx="8325000" cy="5410440"/>
            <a:chOff x="361800" y="838080"/>
            <a:chExt cx="8325000" cy="5410440"/>
          </a:xfrm>
        </p:grpSpPr>
        <p:sp>
          <p:nvSpPr>
            <p:cNvPr id="109" name=""/>
            <p:cNvSpPr/>
            <p:nvPr/>
          </p:nvSpPr>
          <p:spPr>
            <a:xfrm>
              <a:off x="361800" y="838080"/>
              <a:ext cx="8325000" cy="5410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600" y="1089720"/>
              <a:ext cx="7835040" cy="497772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זוגיים(</a:t>
              </a: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Q</a:t>
              </a:r>
              <a:r>
                <a:rPr b="1" lang="en-US" sz="40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)</a:t>
              </a: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{ האלגוריתם מקבל 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המכיל מספרים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שלמים ומחזיר תור חדש המכיל את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המספרים הזוגיים שב-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. הנחה: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.}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תחל-תור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כל עוד לא תור-ריק?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בצ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וצא-מתור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 </a:t>
              </a:r>
              <a:r>
                <a:rPr b="0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ם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זוגי אז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כנס-לתור (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,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חזר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Q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DE8-2132-4BDB-8F8C-EA036CCA27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ila</cp:lastModifiedBy>
  <dcterms:modified xsi:type="dcterms:W3CDTF">2004-07-29T11:15:38Z</dcterms:modified>
  <cp:revision>74</cp:revision>
  <dc:subject/>
  <dc:title>עולמנו המופלא</dc:title>
</cp:coreProperties>
</file>