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C7E7-7253-4FD8-9668-4802A6D12430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8F5D-41F1-4B90-85CE-3B67C8B15E40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AC4F-477C-4C44-91A8-34531299DC32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4A99-0D52-4457-9B65-B93E34CC334F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1A80-3A2E-4389-A74D-F76848482BF1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F237-5290-4F85-8E06-D18EAC98895C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6113-3E74-4A7A-B047-6DA6999BF842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1E2C-E0E7-4457-A35A-68CDA8A734AF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8DB-5AA8-4403-B1E7-D84FB92C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EF7-D63D-404B-A619-4DDDDC3A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FAA-18E2-492C-9183-BADBD978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56C-E7CE-47CE-B2A6-E26AF442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2FC-8159-4452-A101-52F4E51A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435-9DFA-4519-988E-DFD925A7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CD4-8F89-4956-99CB-8C8DBAE6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EC55-BB5F-49C8-B1D8-E2C8BD32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B99-8BCC-430B-B27E-D9EDA817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611-952F-4AFE-8448-71B9572C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457-AED4-441E-812E-768A712A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D59-DD51-4F2F-9F8D-1EABFC1F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 בעיצוב תכנ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4680" y="6459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קבוצת מדעי המחשב – אוניברסיטת תל-אבי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2960" y="6451560"/>
            <a:ext cx="18320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קופית מספר: </a:t>
            </a:r>
            <a:fld id="{FEE8458B-7A64-44C3-8A41-9F2DF83ED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 u="sng">
                <a:solidFill>
                  <a:srgbClr val="ff3300"/>
                </a:solidFill>
                <a:uFillTx/>
                <a:latin typeface="Arial"/>
                <a:cs typeface="David"/>
              </a:rPr>
              <a:t>פעולות הממש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243828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2819520" y="4343400"/>
            <a:ext cx="5715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cs typeface="David"/>
              </a:rPr>
              <a:t>שלוף-ממחסנית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</a:rPr>
              <a:t>(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</a:rPr>
              <a:t>S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3200400" y="5257800"/>
            <a:ext cx="5257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cs typeface="David"/>
              </a:rPr>
              <a:t>הצץ-למחסנית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</a:rPr>
              <a:t>(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</a:rPr>
              <a:t>S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352680"/>
            <a:ext cx="6172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cs typeface="David"/>
              </a:rPr>
              <a:t>דחוף-למחסנית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</a:rPr>
              <a:t>(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</a:rPr>
              <a:t>S, x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3200400" y="2666880"/>
            <a:ext cx="5334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cs typeface="David"/>
              </a:rPr>
              <a:t>מחסנית-ריקה?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</a:rPr>
              <a:t>(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</a:rPr>
              <a:t>S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4" action="ppaction://hlinksldjump"/>
          </p:cNvPr>
          <p:cNvSpPr/>
          <p:nvPr/>
        </p:nvSpPr>
        <p:spPr>
          <a:xfrm>
            <a:off x="4038480" y="1828800"/>
            <a:ext cx="4496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cs typeface="David"/>
              </a:rPr>
              <a:t>אתחל-מחסני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F6E1-F965-40F3-ABF4-7A2F3C5BCBB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22860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cs typeface="David"/>
              </a:rPr>
              <a:t>אתחל-מחסנית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(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S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51040" y="1981080"/>
            <a:ext cx="3644640" cy="2806560"/>
            <a:chOff x="851040" y="1981080"/>
            <a:chExt cx="3644640" cy="2806560"/>
          </a:xfrm>
        </p:grpSpPr>
        <p:sp>
          <p:nvSpPr>
            <p:cNvPr id="61" name=""/>
            <p:cNvSpPr/>
            <p:nvPr/>
          </p:nvSpPr>
          <p:spPr>
            <a:xfrm>
              <a:off x="851040" y="198108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79640" y="224784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מוחזרת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מחסנית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ריק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2743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4419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791320" y="4343040"/>
            <a:ext cx="990360" cy="609840"/>
            <a:chOff x="5791320" y="4343040"/>
            <a:chExt cx="990360" cy="609840"/>
          </a:xfrm>
        </p:grpSpPr>
        <p:sp>
          <p:nvSpPr>
            <p:cNvPr id="67" name=""/>
            <p:cNvSpPr/>
            <p:nvPr/>
          </p:nvSpPr>
          <p:spPr>
            <a:xfrm>
              <a:off x="5791320" y="43434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91320" y="495288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781680" y="43430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1DFE-9356-4EE2-B84E-9E89CF8A94C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76320"/>
            <a:ext cx="5791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cs typeface="David"/>
              </a:rPr>
              <a:t>מחסנית-ריקה?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(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S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)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69800" y="2057400"/>
            <a:ext cx="3644640" cy="2806560"/>
            <a:chOff x="469800" y="2057400"/>
            <a:chExt cx="3644640" cy="2806560"/>
          </a:xfrm>
        </p:grpSpPr>
        <p:sp>
          <p:nvSpPr>
            <p:cNvPr id="73" name=""/>
            <p:cNvSpPr/>
            <p:nvPr/>
          </p:nvSpPr>
          <p:spPr>
            <a:xfrm>
              <a:off x="469800" y="205740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8400" y="232416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נחה: המחסנית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מאותחלת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144792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מצב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6668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ערך מוחזר:      "אמת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486400" y="1676160"/>
            <a:ext cx="533520" cy="609840"/>
            <a:chOff x="5486400" y="1676160"/>
            <a:chExt cx="533520" cy="609840"/>
          </a:xfrm>
        </p:grpSpPr>
        <p:sp>
          <p:nvSpPr>
            <p:cNvPr id="79" name=""/>
            <p:cNvSpPr/>
            <p:nvPr/>
          </p:nvSpPr>
          <p:spPr>
            <a:xfrm>
              <a:off x="5486400" y="16765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86400" y="2286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019920" y="16761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6934320" y="4297320"/>
            <a:ext cx="99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מצב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6689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ערך מוחזר:      "שקר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5334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257800" y="4267080"/>
            <a:ext cx="685800" cy="1069560"/>
            <a:chOff x="5257800" y="4267080"/>
            <a:chExt cx="685800" cy="1069560"/>
          </a:xfrm>
        </p:grpSpPr>
        <p:sp>
          <p:nvSpPr>
            <p:cNvPr id="86" name=""/>
            <p:cNvSpPr/>
            <p:nvPr/>
          </p:nvSpPr>
          <p:spPr>
            <a:xfrm>
              <a:off x="5333760" y="42670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57800" y="5105520"/>
              <a:ext cx="685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42670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33760" y="4876920"/>
              <a:ext cx="609840" cy="12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57800" y="4572000"/>
              <a:ext cx="685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88E-E508-4628-960F-86DE3BE93B8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7632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cs typeface="David"/>
              </a:rPr>
              <a:t>דחוף-למחסנית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(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S, x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09480" y="2438280"/>
            <a:ext cx="3644640" cy="2806560"/>
            <a:chOff x="609480" y="2438280"/>
            <a:chExt cx="3644640" cy="2806560"/>
          </a:xfrm>
        </p:grpSpPr>
        <p:sp>
          <p:nvSpPr>
            <p:cNvPr id="94" name=""/>
            <p:cNvSpPr/>
            <p:nvPr/>
          </p:nvSpPr>
          <p:spPr>
            <a:xfrm>
              <a:off x="609480" y="243828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270504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נחה: </a:t>
              </a:r>
              <a:r>
                <a:rPr b="0" lang="he-IL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מחסנית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מאותחלת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2743200"/>
            <a:ext cx="99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4419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791320" y="4343040"/>
            <a:ext cx="990360" cy="609840"/>
            <a:chOff x="5791320" y="4343040"/>
            <a:chExt cx="990360" cy="609840"/>
          </a:xfrm>
        </p:grpSpPr>
        <p:sp>
          <p:nvSpPr>
            <p:cNvPr id="100" name=""/>
            <p:cNvSpPr/>
            <p:nvPr/>
          </p:nvSpPr>
          <p:spPr>
            <a:xfrm>
              <a:off x="5791320" y="43434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1320" y="495288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781680" y="43430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791320" y="2742840"/>
            <a:ext cx="990360" cy="609840"/>
            <a:chOff x="5791320" y="2742840"/>
            <a:chExt cx="990360" cy="609840"/>
          </a:xfrm>
        </p:grpSpPr>
        <p:sp>
          <p:nvSpPr>
            <p:cNvPr id="104" name=""/>
            <p:cNvSpPr/>
            <p:nvPr/>
          </p:nvSpPr>
          <p:spPr>
            <a:xfrm>
              <a:off x="5791320" y="27432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91320" y="335268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6781680" y="27428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943600" y="42800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27432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=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5B1-C544-4015-8D56-BCEE3E295ED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1522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cs typeface="David"/>
              </a:rPr>
              <a:t>דחוף-למחסנית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(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S, y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) - המש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09480" y="2438280"/>
            <a:ext cx="3644640" cy="2806560"/>
            <a:chOff x="609480" y="2438280"/>
            <a:chExt cx="3644640" cy="2806560"/>
          </a:xfrm>
        </p:grpSpPr>
        <p:sp>
          <p:nvSpPr>
            <p:cNvPr id="112" name=""/>
            <p:cNvSpPr/>
            <p:nvPr/>
          </p:nvSpPr>
          <p:spPr>
            <a:xfrm>
              <a:off x="609480" y="243828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8080" y="270504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נחה: מחסנית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מאותחלת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2743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4419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791320" y="4038480"/>
            <a:ext cx="990360" cy="914400"/>
            <a:chOff x="5791320" y="4038480"/>
            <a:chExt cx="990360" cy="914400"/>
          </a:xfrm>
        </p:grpSpPr>
        <p:sp>
          <p:nvSpPr>
            <p:cNvPr id="118" name=""/>
            <p:cNvSpPr/>
            <p:nvPr/>
          </p:nvSpPr>
          <p:spPr>
            <a:xfrm>
              <a:off x="5791320" y="4038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1320" y="495288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43600" y="4572000"/>
              <a:ext cx="685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69080" y="4038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91320" y="441972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3600" y="4057560"/>
              <a:ext cx="685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79132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3505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3086280"/>
            <a:ext cx="685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6908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27432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08E-2545-4EAD-8EE9-D7F48F8B2D1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457200"/>
            <a:ext cx="8610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cs typeface="David"/>
              </a:rPr>
              <a:t>שלוף-ממחסנית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(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S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)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num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Symbol"/>
                <a:ea typeface="Symbol"/>
              </a:rPr>
              <a:t>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80880" y="2209680"/>
            <a:ext cx="3644640" cy="2806560"/>
            <a:chOff x="380880" y="2209680"/>
            <a:chExt cx="3644640" cy="2806560"/>
          </a:xfrm>
        </p:grpSpPr>
        <p:sp>
          <p:nvSpPr>
            <p:cNvPr id="132" name=""/>
            <p:cNvSpPr/>
            <p:nvPr/>
          </p:nvSpPr>
          <p:spPr>
            <a:xfrm>
              <a:off x="380880" y="220968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80" y="247644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נחה: מחסנית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מאותחלת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ואינה ריק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743200"/>
            <a:ext cx="99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4419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4114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50292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610160"/>
            <a:ext cx="685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69080" y="4114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791320" y="2419200"/>
            <a:ext cx="990360" cy="933480"/>
            <a:chOff x="5791320" y="2419200"/>
            <a:chExt cx="990360" cy="933480"/>
          </a:xfrm>
        </p:grpSpPr>
        <p:sp>
          <p:nvSpPr>
            <p:cNvPr id="142" name=""/>
            <p:cNvSpPr/>
            <p:nvPr/>
          </p:nvSpPr>
          <p:spPr>
            <a:xfrm>
              <a:off x="5791320" y="2438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1320" y="335268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3600" y="2990880"/>
              <a:ext cx="685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69080" y="2438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1320" y="281952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600" y="2419200"/>
              <a:ext cx="685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267080" y="4343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m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950-2DCB-4172-919B-72B3C703295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>
                  <a:alpha val="0"/>
                </a:srgbClr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5228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cs typeface="David"/>
              </a:rPr>
              <a:t>הצץ-למחסנית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(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S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)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David"/>
              </a:rPr>
              <a:t>num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David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Symbol"/>
                <a:ea typeface="Symbol"/>
              </a:rPr>
              <a:t>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09480" y="2438280"/>
            <a:ext cx="3644640" cy="2806560"/>
            <a:chOff x="609480" y="2438280"/>
            <a:chExt cx="3644640" cy="2806560"/>
          </a:xfrm>
        </p:grpSpPr>
        <p:sp>
          <p:nvSpPr>
            <p:cNvPr id="152" name=""/>
            <p:cNvSpPr/>
            <p:nvPr/>
          </p:nvSpPr>
          <p:spPr>
            <a:xfrm>
              <a:off x="609480" y="2438280"/>
              <a:ext cx="3644640" cy="2806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2705040"/>
              <a:ext cx="3187440" cy="227340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הנחה: מחסנית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cs typeface="Arial"/>
                </a:rPr>
                <a:t>מאותחלת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ו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Arial"/>
                  <a:cs typeface="Arial"/>
                </a:rPr>
                <a:t>אינה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 ריק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334120" y="53341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2400" y="274320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לפנ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41972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אחר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4114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50292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4610160"/>
            <a:ext cx="685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69080" y="4114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2438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33526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2933640"/>
            <a:ext cx="685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9080" y="2438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4343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m=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C4E-7D2D-4DC4-B628-A5CBFD46CD9A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10:50Z</dcterms:created>
  <dc:creator>חיים אברבוך</dc:creator>
  <dc:description/>
  <dc:language>en-US</dc:language>
  <cp:lastModifiedBy>Adi</cp:lastModifiedBy>
  <dcterms:modified xsi:type="dcterms:W3CDTF">2004-07-22T08:11:41Z</dcterms:modified>
  <cp:revision>66</cp:revision>
  <dc:subject/>
  <dc:title>עולמנו המופלא</dc:title>
</cp:coreProperties>
</file>