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53FD-2371-4BD5-A080-22A5C14B9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57D9-FE98-4EC6-9213-945D5FD7C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4DB8-D92C-4BA3-9666-6ADF9611A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551D-8ED6-4A22-80AD-5F4FA13B9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EBED-0435-449D-8638-994506E76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4884-1A52-4315-8E26-B1E352217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6A79-4F66-46DA-AFFD-C4731D189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33D5-7145-48D3-BAF1-26C5744F7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7679-970D-4AB2-9C39-809A45211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A05B-D7DC-4464-B87B-51CA4330C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5799-6286-416A-BE51-3527E363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5E9A-9FE1-4207-97AB-0872615F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78713-3CBF-46B8-8000-6DC9D15235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qu_unit.PPT" TargetMode="External"/><Relationship Id="rId2" Type="http://schemas.openxmlformats.org/officeDocument/2006/relationships/hyperlink" Target="file:///qu_patt.ppt" TargetMode="External"/><Relationship Id="rId3" Type="http://schemas.openxmlformats.org/officeDocument/2006/relationships/hyperlink" Target="file:///qu_forbid.PPT" TargetMode="External"/><Relationship Id="rId4" Type="http://schemas.openxmlformats.org/officeDocument/2006/relationships/image" Target="../media/image1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2514600"/>
            <a:ext cx="586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תור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1"/>
          </p:cNvPr>
          <p:cNvSpPr/>
          <p:nvPr/>
        </p:nvSpPr>
        <p:spPr>
          <a:xfrm>
            <a:off x="6400800" y="2514600"/>
            <a:ext cx="2286000" cy="1143000"/>
          </a:xfrm>
          <a:prstGeom prst="cloudCallout">
            <a:avLst>
              <a:gd name="adj1" fmla="val -102291"/>
              <a:gd name="adj2" fmla="val -777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פעולו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הממש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2"/>
          </p:cNvPr>
          <p:cNvSpPr/>
          <p:nvPr/>
        </p:nvSpPr>
        <p:spPr>
          <a:xfrm>
            <a:off x="3657600" y="457200"/>
            <a:ext cx="2057400" cy="914400"/>
          </a:xfrm>
          <a:prstGeom prst="cloudCallout">
            <a:avLst>
              <a:gd name="adj1" fmla="val -4861"/>
              <a:gd name="adj2" fmla="val 1758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תבניו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3"/>
          </p:cNvPr>
          <p:cNvSpPr/>
          <p:nvPr/>
        </p:nvSpPr>
        <p:spPr>
          <a:xfrm>
            <a:off x="533520" y="2476440"/>
            <a:ext cx="2286000" cy="1067040"/>
          </a:xfrm>
          <a:prstGeom prst="cloudCallout">
            <a:avLst>
              <a:gd name="adj1" fmla="val 91319"/>
              <a:gd name="adj2" fmla="val -148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שגיאות נפוצו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4952880" y="5410080"/>
            <a:ext cx="4190760" cy="1120320"/>
            <a:chOff x="4952880" y="5410080"/>
            <a:chExt cx="4190760" cy="1120320"/>
          </a:xfrm>
        </p:grpSpPr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4952880" y="5963760"/>
              <a:ext cx="589320" cy="52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" name=""/>
            <p:cNvGrpSpPr/>
            <p:nvPr/>
          </p:nvGrpSpPr>
          <p:grpSpPr>
            <a:xfrm>
              <a:off x="5591160" y="5410080"/>
              <a:ext cx="3552480" cy="1120320"/>
              <a:chOff x="5591160" y="5410080"/>
              <a:chExt cx="3552480" cy="1120320"/>
            </a:xfrm>
          </p:grpSpPr>
          <p:pic>
            <p:nvPicPr>
              <p:cNvPr id="4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680960" y="5410080"/>
                <a:ext cx="1462680" cy="902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648480" y="5555520"/>
                <a:ext cx="1462680" cy="902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91160" y="5627880"/>
                <a:ext cx="1462680" cy="902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3T08:10:50Z</dcterms:created>
  <dc:creator>חיים אברבוך</dc:creator>
  <dc:description/>
  <dc:language>en-US</dc:language>
  <cp:lastModifiedBy>Tal</cp:lastModifiedBy>
  <dcterms:modified xsi:type="dcterms:W3CDTF">2004-07-24T15:35:50Z</dcterms:modified>
  <cp:revision>67</cp:revision>
  <dc:subject/>
  <dc:title>עולמנו המופלא</dc:title>
</cp:coreProperties>
</file>