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4A38-DFB3-4D01-8F59-11E944328E5B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\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;o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CFBE-D540-44FA-9BF9-D95C8C08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3BCE-BA0A-4F84-973E-552BC485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E557-6A26-48ED-A630-11E7841C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840C-D830-429E-B69A-000B84C7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5B3-77DB-4558-86CA-D88E6F64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B5A6-E1C2-4828-B299-464603D5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3176-1A4A-4F18-AE32-4B734AA3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9EB5-C584-43C4-86A9-66577D65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C772-87BF-4D12-9748-5420A439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342-12A1-4C23-AD6E-9CFCA642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2C4D-DC34-474D-9DD6-0580013D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D961-C590-451D-B15A-99D56243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ff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r>
              <a: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תבניות בעיצוב תכנ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4680" y="6459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קבוצת מדעי המחשב – אוניברסיטת תל-אבי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2960" y="6451560"/>
            <a:ext cx="18320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שקופית מספר: </a:t>
            </a:r>
            <a:fld id="{0DB5DA5D-66B0-4848-9865-023A4AD50E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hyperlink" Target="file:///list.ppt" TargetMode="External"/><Relationship Id="rId3" Type="http://schemas.openxmlformats.org/officeDocument/2006/relationships/hyperlink" Target="file:///queue.ppt" TargetMode="External"/><Relationship Id="rId4" Type="http://schemas.openxmlformats.org/officeDocument/2006/relationships/hyperlink" Target="file:///tree.ppt" TargetMode="External"/><Relationship Id="rId5" Type="http://schemas.openxmlformats.org/officeDocument/2006/relationships/hyperlink" Target="file:///adt.ppt" TargetMode="External"/><Relationship Id="rId6" Type="http://schemas.openxmlformats.org/officeDocument/2006/relationships/hyperlink" Target="file:///recursia.ppt" TargetMode="External"/><Relationship Id="rId7" Type="http://schemas.openxmlformats.org/officeDocument/2006/relationships/hyperlink" Target="file:///stack.ppt" TargetMode="External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ff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181480" y="3494160"/>
          <a:ext cx="175284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494160"/>
                    <a:ext cx="175284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 txBox="1"/>
          <p:nvPr/>
        </p:nvSpPr>
        <p:spPr>
          <a:xfrm>
            <a:off x="1066680" y="2247840"/>
            <a:ext cx="685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5e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תבניות בעיצוב תוכנה</a:t>
            </a:r>
            <a:endParaRPr b="0" lang="en-US" sz="2400" spc="1" strike="noStrike">
              <a:ln w="1260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494160"/>
            <a:ext cx="259092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חיים אברבו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דורית כה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עדי לו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הילה קדמ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יתן רא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ד"ר דוד גינ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7200" y="0"/>
            <a:ext cx="8381880" cy="1713240"/>
            <a:chOff x="457200" y="0"/>
            <a:chExt cx="8381880" cy="1713240"/>
          </a:xfrm>
        </p:grpSpPr>
        <p:grpSp>
          <p:nvGrpSpPr>
            <p:cNvPr id="54" name=""/>
            <p:cNvGrpSpPr/>
            <p:nvPr/>
          </p:nvGrpSpPr>
          <p:grpSpPr>
            <a:xfrm>
              <a:off x="6629400" y="190440"/>
              <a:ext cx="2209680" cy="1522800"/>
              <a:chOff x="6629400" y="190440"/>
              <a:chExt cx="2209680" cy="1522800"/>
            </a:xfrm>
          </p:grpSpPr>
          <p:sp>
            <p:nvSpPr>
              <p:cNvPr id="55" name=""/>
              <p:cNvSpPr/>
              <p:nvPr/>
            </p:nvSpPr>
            <p:spPr>
              <a:xfrm>
                <a:off x="6629400" y="380880"/>
                <a:ext cx="2209680" cy="133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Times New Roman"/>
                  </a:rPr>
                  <a:t>קבוצת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1" lang="hi-IN" sz="1600" spc="-1" strike="noStrike">
                    <a:solidFill>
                      <a:srgbClr val="000000"/>
                    </a:solidFill>
                    <a:latin typeface="Times New Roman"/>
                  </a:rPr>
                  <a:t>מדעי-המחשב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Times New Roman"/>
                  </a:rPr>
                  <a:t>החוג להוראת המדעי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Times New Roman"/>
                  </a:rPr>
                  <a:t>אוניברסיטת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hi-IN" sz="1600" spc="-1" strike="noStrike">
                    <a:solidFill>
                      <a:srgbClr val="000000"/>
                    </a:solidFill>
                    <a:latin typeface="Times New Roman"/>
                  </a:rPr>
                  <a:t>תל-אביב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91520" y="190440"/>
                <a:ext cx="493560" cy="6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"/>
            <p:cNvGrpSpPr/>
            <p:nvPr/>
          </p:nvGrpSpPr>
          <p:grpSpPr>
            <a:xfrm>
              <a:off x="3581280" y="304920"/>
              <a:ext cx="2210040" cy="1408320"/>
              <a:chOff x="3581280" y="304920"/>
              <a:chExt cx="2210040" cy="1408320"/>
            </a:xfrm>
          </p:grpSpPr>
          <p:sp>
            <p:nvSpPr>
              <p:cNvPr id="58" name=""/>
              <p:cNvSpPr/>
              <p:nvPr/>
            </p:nvSpPr>
            <p:spPr>
              <a:xfrm>
                <a:off x="3581280" y="380880"/>
                <a:ext cx="2210040" cy="133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האגף לתכנון ולפתוח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תכניות לימודים,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משרד החינוך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191120" y="304920"/>
                <a:ext cx="761760" cy="465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" name=""/>
            <p:cNvGrpSpPr/>
            <p:nvPr/>
          </p:nvGrpSpPr>
          <p:grpSpPr>
            <a:xfrm>
              <a:off x="457200" y="0"/>
              <a:ext cx="2209680" cy="1713240"/>
              <a:chOff x="457200" y="0"/>
              <a:chExt cx="2209680" cy="1713240"/>
            </a:xfrm>
          </p:grpSpPr>
          <p:sp>
            <p:nvSpPr>
              <p:cNvPr id="61" name=""/>
              <p:cNvSpPr/>
              <p:nvPr/>
            </p:nvSpPr>
            <p:spPr>
              <a:xfrm>
                <a:off x="457200" y="380880"/>
                <a:ext cx="2209680" cy="133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המרכז הישראל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לחינוך מדעי טכנולוג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ע"ש עמוס דה-שליט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0"/>
                <a:ext cx="1143000" cy="114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5C44-0653-4873-B3F8-5D64B15FD7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ff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93800" y="1995480"/>
            <a:ext cx="3883320" cy="377676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rId2"/>
          </p:cNvPr>
          <p:cNvSpPr/>
          <p:nvPr/>
        </p:nvSpPr>
        <p:spPr>
          <a:xfrm>
            <a:off x="2647800" y="5715000"/>
            <a:ext cx="1630440" cy="54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רשימ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9880" y="2437920"/>
            <a:ext cx="15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917A-C0AF-4BC0-B272-54E703B6FDD3}" type="datetime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6B93781-76F0-4EE8-A4B1-5421F2578C07}" type="datetime12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4:42 PM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4724280" y="5715000"/>
            <a:ext cx="1554120" cy="54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תו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4"/>
          </p:cNvPr>
          <p:cNvSpPr/>
          <p:nvPr/>
        </p:nvSpPr>
        <p:spPr>
          <a:xfrm>
            <a:off x="914400" y="4724280"/>
            <a:ext cx="1554120" cy="54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ע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505320"/>
            <a:ext cx="1554120" cy="54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יעילו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5"/>
          </p:cNvPr>
          <p:cNvSpPr/>
          <p:nvPr/>
        </p:nvSpPr>
        <p:spPr>
          <a:xfrm>
            <a:off x="6591240" y="2362320"/>
            <a:ext cx="1554120" cy="54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6"/>
          </p:cNvPr>
          <p:cNvSpPr/>
          <p:nvPr/>
        </p:nvSpPr>
        <p:spPr>
          <a:xfrm>
            <a:off x="914400" y="3505320"/>
            <a:ext cx="1554120" cy="54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רקורסי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7"/>
          </p:cNvPr>
          <p:cNvSpPr/>
          <p:nvPr/>
        </p:nvSpPr>
        <p:spPr>
          <a:xfrm>
            <a:off x="6629400" y="4724280"/>
            <a:ext cx="1554120" cy="54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מחסני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2362320"/>
            <a:ext cx="1554120" cy="54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תבניו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1219320"/>
            <a:ext cx="1581120" cy="54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מבו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7800" y="1219320"/>
            <a:ext cx="1676520" cy="54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מהי תבני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8993160" y="0"/>
            <a:ext cx="150840" cy="152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50840" cy="15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407-ABE2-41BE-842F-2888B2690C48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500"/>
                            </p:stCondLst>
                            <p:childTnLst>
                              <p:par>
                                <p:cTn id="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ff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0" y="6934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9480" y="4419720"/>
            <a:ext cx="76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tau.ac.il/~csed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_tavniot@hotmail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362320" y="160020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תודה!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2767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הארות  והערות יתקבלו בברכ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C391-E4EF-4B68-9807-B9CF120D42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ff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183-B354-4B69-8DBC-44B5D3A70F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3T08:10:50Z</dcterms:created>
  <dc:creator>חיים אברבוך</dc:creator>
  <dc:description/>
  <dc:language>en-US</dc:language>
  <cp:lastModifiedBy>hila</cp:lastModifiedBy>
  <dcterms:modified xsi:type="dcterms:W3CDTF">2004-07-29T10:49:30Z</dcterms:modified>
  <cp:revision>98</cp:revision>
  <dc:subject/>
  <dc:title>עולמנו המופלא</dc:title>
</cp:coreProperties>
</file>