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CB13-03D6-4116-96E9-21AEFB8A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73FC-8027-4F20-8FB0-827291B9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C37-2BE3-4D67-A619-72D7E10F5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F7E7-AD80-46BD-AE2C-BFA4FC15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4C97-5EB5-424A-BC63-DD1EEC25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020-41BD-4DA6-81FD-D24C238E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F48A-DFE1-4879-AC15-A2841623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4CA0-F857-4669-A0F9-C666E122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BE3B-8984-4F03-9040-73FC8AFA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0F4D-931D-4F69-9EDC-CF627A80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C0C4-C363-4BE9-A55E-64922A5C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CBF2-41B5-4D19-BDD4-F5C95265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תבניות בעיצוב תכנ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4680" y="64591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cs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קבוצת מדעי המחשב – אוניברסיטת תל-אבי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2960" y="6451560"/>
            <a:ext cx="18320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שקופית מספר: </a:t>
            </a:r>
            <a:fld id="{F2F7C72F-6605-4371-9198-4337B7680D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li_unit.ppt" TargetMode="External"/><Relationship Id="rId2" Type="http://schemas.openxmlformats.org/officeDocument/2006/relationships/hyperlink" Target="file:///li_patt.ppt" TargetMode="External"/><Relationship Id="rId3" Type="http://schemas.openxmlformats.org/officeDocument/2006/relationships/hyperlink" Target="file:///li_forbid.PPT" TargetMode="External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>
            <a:hlinkClick r:id="rId1"/>
          </p:cNvPr>
          <p:cNvSpPr/>
          <p:nvPr/>
        </p:nvSpPr>
        <p:spPr>
          <a:xfrm>
            <a:off x="6400800" y="2895480"/>
            <a:ext cx="1981080" cy="1067040"/>
          </a:xfrm>
          <a:prstGeom prst="cloudCallout">
            <a:avLst>
              <a:gd name="adj1" fmla="val -102324"/>
              <a:gd name="adj2" fmla="val -50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פעולו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ממש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289548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רשימ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2"/>
          </p:cNvPr>
          <p:cNvSpPr/>
          <p:nvPr/>
        </p:nvSpPr>
        <p:spPr>
          <a:xfrm>
            <a:off x="3352680" y="685800"/>
            <a:ext cx="2210040" cy="990720"/>
          </a:xfrm>
          <a:prstGeom prst="cloudCallout">
            <a:avLst>
              <a:gd name="adj1" fmla="val -648"/>
              <a:gd name="adj2" fmla="val 1815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תבניו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3"/>
          </p:cNvPr>
          <p:cNvSpPr/>
          <p:nvPr/>
        </p:nvSpPr>
        <p:spPr>
          <a:xfrm>
            <a:off x="685800" y="2971800"/>
            <a:ext cx="1752480" cy="990720"/>
          </a:xfrm>
          <a:prstGeom prst="cloudCallout">
            <a:avLst>
              <a:gd name="adj1" fmla="val 114041"/>
              <a:gd name="adj2" fmla="val -91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שגיאות נפוצו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861960" y="4402080"/>
            <a:ext cx="1897200" cy="2046600"/>
            <a:chOff x="6861960" y="4402080"/>
            <a:chExt cx="1897200" cy="2046600"/>
          </a:xfrm>
        </p:grpSpPr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 rot="19817400">
              <a:off x="7864920" y="4572000"/>
              <a:ext cx="821520" cy="51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5"/>
            <a:stretch/>
          </p:blipFill>
          <p:spPr>
            <a:xfrm rot="19817400">
              <a:off x="6934320" y="5767920"/>
              <a:ext cx="821520" cy="51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6"/>
            <a:stretch/>
          </p:blipFill>
          <p:spPr>
            <a:xfrm rot="19817400">
              <a:off x="7381800" y="5171760"/>
              <a:ext cx="821520" cy="510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3T08:10:50Z</dcterms:created>
  <dc:creator>חיים אברבוך</dc:creator>
  <dc:description/>
  <dc:language>en-US</dc:language>
  <cp:lastModifiedBy>Tal</cp:lastModifiedBy>
  <dcterms:modified xsi:type="dcterms:W3CDTF">2004-07-24T15:26:45Z</dcterms:modified>
  <cp:revision>65</cp:revision>
  <dc:subject/>
  <dc:title>עולמנו המופלא</dc:title>
</cp:coreProperties>
</file>