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dfca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dfca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dfca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dfc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dfca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dfca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dfc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160" y="228240"/>
            <a:ext cx="7848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dfc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dfc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dfc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006e64"/>
                </a:gs>
                <a:gs pos="50000">
                  <a:srgbClr val="00dfca"/>
                </a:gs>
                <a:gs pos="100000">
                  <a:srgbClr val="006e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965f7f"/>
                </a:gs>
                <a:gs pos="50000">
                  <a:srgbClr val="d989b8"/>
                </a:gs>
                <a:gs pos="100000">
                  <a:srgbClr val="965f7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dfca"/>
                </a:solidFill>
                <a:latin typeface="Arial"/>
              </a:rPr>
              <a:t>Click to edit the title text format</a:t>
            </a:r>
            <a:endParaRPr b="0" lang="en-US" sz="6000" spc="-1" strike="noStrike">
              <a:solidFill>
                <a:srgbClr val="00dfca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rtl="1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 rtl="1">
              <a:spcBef>
                <a:spcPts val="7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 rtl="1">
              <a:spcBef>
                <a:spcPts val="799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 rtl="1">
              <a:spcBef>
                <a:spcPts val="799"/>
              </a:spcBef>
              <a:buClr>
                <a:srgbClr val="00ff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 rtl="1">
              <a:spcBef>
                <a:spcPts val="7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 rtl="1">
              <a:spcBef>
                <a:spcPts val="799"/>
              </a:spcBef>
              <a:buClr>
                <a:srgbClr val="faf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 rtl="1">
              <a:spcBef>
                <a:spcPts val="799"/>
              </a:spcBef>
              <a:buClr>
                <a:srgbClr val="faf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324480"/>
            <a:ext cx="8077320" cy="0"/>
          </a:xfrm>
          <a:prstGeom prst="line">
            <a:avLst/>
          </a:prstGeom>
          <a:ln w="25560">
            <a:solidFill>
              <a:srgbClr val="d98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8640" y="6407280"/>
            <a:ext cx="83026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cf4ea"/>
                </a:solidFill>
                <a:latin typeface="Arial"/>
                <a:ea typeface="David"/>
              </a:rPr>
              <a:t> ‘מצגות בעיצוב תכנה - המרכז להוראת המדעים, האונ’ העברית בי-ם - תשנ”ז         שקף מס' </a:t>
            </a:r>
            <a:fld id="{6650F425-B47A-443F-911B-9AC9D73A97C0}" type="slidenum">
              <a:rPr b="0" lang="en-US" sz="1400" spc="-1" strike="noStrike">
                <a:solidFill>
                  <a:srgbClr val="8cf4ea"/>
                </a:solidFill>
                <a:latin typeface="Arial"/>
                <a:ea typeface="David"/>
              </a:rPr>
              <a:t>&lt;number&gt;</a:t>
            </a:fld>
            <a:endParaRPr b="0" lang="en-US" sz="1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52280" y="152280"/>
            <a:ext cx="1838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afd00"/>
                </a:solidFill>
                <a:latin typeface="Arial"/>
                <a:cs typeface="David"/>
              </a:rPr>
              <a:t>עץ בינרי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33400" y="533520"/>
            <a:ext cx="747720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dfca"/>
                </a:solidFill>
                <a:latin typeface="Arial"/>
                <a:cs typeface="David"/>
              </a:rPr>
              <a:t>סריקה בסדר תוכי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743200" y="297180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81080" y="220968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27200" y="2755800"/>
            <a:ext cx="35568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2840" y="373392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27200" y="4280040"/>
            <a:ext cx="355680" cy="35532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1218960" y="220968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89320" y="3517920"/>
            <a:ext cx="35568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65440" y="1994040"/>
            <a:ext cx="355320" cy="35532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297180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456840" y="297180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1200" y="3517920"/>
            <a:ext cx="35568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218960" y="373392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03320" y="4280040"/>
            <a:ext cx="355680" cy="35532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03320" y="2755800"/>
            <a:ext cx="35568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65440" y="3517920"/>
            <a:ext cx="35532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105440" y="2057400"/>
            <a:ext cx="4657680" cy="2222640"/>
            <a:chOff x="4105440" y="2057400"/>
            <a:chExt cx="4657680" cy="2222640"/>
          </a:xfrm>
        </p:grpSpPr>
        <p:sp>
          <p:nvSpPr>
            <p:cNvPr id="61" name=""/>
            <p:cNvSpPr/>
            <p:nvPr/>
          </p:nvSpPr>
          <p:spPr>
            <a:xfrm>
              <a:off x="4197240" y="2063880"/>
              <a:ext cx="455940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467400" y="2057400"/>
              <a:ext cx="2295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467400" y="20574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467400" y="3200400"/>
              <a:ext cx="1533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763040" y="32004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839000" y="3581280"/>
              <a:ext cx="69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05440" y="2819520"/>
              <a:ext cx="2066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763040" y="28195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238800" y="32004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705640" y="281952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410000" y="3581280"/>
              <a:ext cx="17622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05640" y="358128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991640" y="24382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620040" y="2438280"/>
              <a:ext cx="10760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עץ-ריק?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162840" y="243828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620120" y="2438280"/>
              <a:ext cx="923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4191120" y="20574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1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274320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98108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52108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274284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521080" y="4273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121896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28284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758960" y="1987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21932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45684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1200" y="3517920"/>
            <a:ext cx="35568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H="1">
            <a:off x="121896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996840" y="4273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99684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75896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04920" y="5029200"/>
            <a:ext cx="37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4105440" y="2057400"/>
            <a:ext cx="4657680" cy="2222640"/>
            <a:chOff x="4105440" y="2057400"/>
            <a:chExt cx="4657680" cy="2222640"/>
          </a:xfrm>
        </p:grpSpPr>
        <p:sp>
          <p:nvSpPr>
            <p:cNvPr id="599" name=""/>
            <p:cNvSpPr/>
            <p:nvPr/>
          </p:nvSpPr>
          <p:spPr>
            <a:xfrm>
              <a:off x="4197240" y="2063880"/>
              <a:ext cx="455940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467400" y="2057400"/>
              <a:ext cx="2295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467400" y="20574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467400" y="3200400"/>
              <a:ext cx="1533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763040" y="32004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839000" y="3581280"/>
              <a:ext cx="69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105440" y="2819520"/>
              <a:ext cx="2066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763040" y="28195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238800" y="32004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05640" y="281952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410000" y="3581280"/>
              <a:ext cx="17622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705640" y="358128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991640" y="24382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620040" y="2438280"/>
              <a:ext cx="10760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עץ-ריק?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162840" y="243828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620120" y="2438280"/>
              <a:ext cx="923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4029120" y="2362320"/>
            <a:ext cx="4657680" cy="2222640"/>
            <a:chOff x="4029120" y="2362320"/>
            <a:chExt cx="4657680" cy="2222640"/>
          </a:xfrm>
        </p:grpSpPr>
        <p:sp>
          <p:nvSpPr>
            <p:cNvPr id="616" name=""/>
            <p:cNvSpPr/>
            <p:nvPr/>
          </p:nvSpPr>
          <p:spPr>
            <a:xfrm>
              <a:off x="4121280" y="2368440"/>
              <a:ext cx="455904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391440" y="236232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391440" y="236232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391440" y="3505320"/>
              <a:ext cx="15332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686720" y="35053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763040" y="3886200"/>
              <a:ext cx="6951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029120" y="3124080"/>
              <a:ext cx="2066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686720" y="31240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162840" y="350532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629320" y="312408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334040" y="3886200"/>
              <a:ext cx="17618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629320" y="388620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915320" y="27432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543720" y="2743200"/>
              <a:ext cx="10764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עץ-ריק?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086520" y="27432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543800" y="2743200"/>
              <a:ext cx="923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632" name=""/>
          <p:cNvSpPr/>
          <p:nvPr/>
        </p:nvSpPr>
        <p:spPr>
          <a:xfrm>
            <a:off x="7839000" y="30481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044960" y="2673360"/>
            <a:ext cx="4559400" cy="1968480"/>
          </a:xfrm>
          <a:prstGeom prst="roundRect">
            <a:avLst>
              <a:gd name="adj" fmla="val 12495"/>
            </a:avLst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315120" y="266688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315120" y="266688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6315120" y="3809880"/>
            <a:ext cx="1533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7610400" y="38098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7686720" y="4191120"/>
            <a:ext cx="695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952800" y="3429000"/>
            <a:ext cx="20671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7610400" y="34290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086520" y="380988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553000" y="3429000"/>
            <a:ext cx="229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57720" y="4191120"/>
            <a:ext cx="1762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53000" y="4191120"/>
            <a:ext cx="229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00ff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839000" y="30481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67400" y="3048120"/>
            <a:ext cx="107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6010200" y="304812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7467480" y="3048120"/>
            <a:ext cx="924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191120" y="20574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1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4114800" y="236232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2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038480" y="266688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3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274320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98108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52108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274284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521080" y="4273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 flipH="1">
            <a:off x="121896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28284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1758960" y="1987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21932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flipH="1">
            <a:off x="45684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23508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121896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996840" y="4273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99684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75896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04920" y="5029200"/>
            <a:ext cx="37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4105440" y="2057400"/>
            <a:ext cx="4657680" cy="2222640"/>
            <a:chOff x="4105440" y="2057400"/>
            <a:chExt cx="4657680" cy="2222640"/>
          </a:xfrm>
        </p:grpSpPr>
        <p:sp>
          <p:nvSpPr>
            <p:cNvPr id="669" name=""/>
            <p:cNvSpPr/>
            <p:nvPr/>
          </p:nvSpPr>
          <p:spPr>
            <a:xfrm>
              <a:off x="4197240" y="2063880"/>
              <a:ext cx="455940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467400" y="2057400"/>
              <a:ext cx="2295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467400" y="20574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467400" y="3200400"/>
              <a:ext cx="1533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763040" y="32004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839000" y="3581280"/>
              <a:ext cx="69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105440" y="2819520"/>
              <a:ext cx="2066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763040" y="28195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238800" y="32004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705640" y="281952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10000" y="3581280"/>
              <a:ext cx="17622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705640" y="358128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991640" y="24382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620040" y="2438280"/>
              <a:ext cx="10760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עץ-ריק?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162840" y="243828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2438280"/>
              <a:ext cx="923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4029120" y="2362320"/>
            <a:ext cx="4657680" cy="2222640"/>
            <a:chOff x="4029120" y="2362320"/>
            <a:chExt cx="4657680" cy="2222640"/>
          </a:xfrm>
        </p:grpSpPr>
        <p:sp>
          <p:nvSpPr>
            <p:cNvPr id="686" name=""/>
            <p:cNvSpPr/>
            <p:nvPr/>
          </p:nvSpPr>
          <p:spPr>
            <a:xfrm>
              <a:off x="4121280" y="2368440"/>
              <a:ext cx="455904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391440" y="236232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391440" y="236232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391440" y="3505320"/>
              <a:ext cx="15332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686720" y="35053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763040" y="3886200"/>
              <a:ext cx="6951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029120" y="3124080"/>
              <a:ext cx="2066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686720" y="31240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162840" y="350532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629320" y="312408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334040" y="3886200"/>
              <a:ext cx="17618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629320" y="388620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915320" y="27432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543720" y="2743200"/>
              <a:ext cx="10764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עץ-ריק?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086520" y="27432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543800" y="2743200"/>
              <a:ext cx="923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7839000" y="30481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4044960" y="2673360"/>
            <a:ext cx="4559400" cy="1968480"/>
          </a:xfrm>
          <a:prstGeom prst="roundRect">
            <a:avLst>
              <a:gd name="adj" fmla="val 12495"/>
            </a:avLst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315120" y="266688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6315120" y="266688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6315120" y="3809880"/>
            <a:ext cx="1533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7610400" y="38098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7686720" y="4191120"/>
            <a:ext cx="695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952800" y="3429000"/>
            <a:ext cx="20671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7610400" y="34290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086520" y="380988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553000" y="3429000"/>
            <a:ext cx="229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257720" y="4191120"/>
            <a:ext cx="1762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553000" y="4191120"/>
            <a:ext cx="229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7839000" y="30481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6467400" y="3048120"/>
            <a:ext cx="107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6010200" y="304812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7467480" y="3048120"/>
            <a:ext cx="924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3876840" y="2971800"/>
            <a:ext cx="4657680" cy="2222640"/>
            <a:chOff x="3876840" y="2971800"/>
            <a:chExt cx="4657680" cy="2222640"/>
          </a:xfrm>
        </p:grpSpPr>
        <p:sp>
          <p:nvSpPr>
            <p:cNvPr id="720" name=""/>
            <p:cNvSpPr/>
            <p:nvPr/>
          </p:nvSpPr>
          <p:spPr>
            <a:xfrm>
              <a:off x="3968640" y="2978280"/>
              <a:ext cx="455940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238800" y="2971800"/>
              <a:ext cx="2295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238800" y="29718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238800" y="4114800"/>
              <a:ext cx="1533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534440" y="41148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610400" y="4495680"/>
              <a:ext cx="69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876840" y="3733920"/>
              <a:ext cx="2066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534440" y="37339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010200" y="41148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477040" y="373392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181400" y="4495680"/>
              <a:ext cx="17622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477040" y="449568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763040" y="33526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391440" y="3352680"/>
              <a:ext cx="10760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עץ-ריק?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934240" y="335268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391520" y="3352680"/>
              <a:ext cx="923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736" name=""/>
          <p:cNvSpPr/>
          <p:nvPr/>
        </p:nvSpPr>
        <p:spPr>
          <a:xfrm>
            <a:off x="4191120" y="20574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1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114800" y="236232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2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4038480" y="266688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3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962520" y="29718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4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/>
          <p:nvPr/>
        </p:nvSpPr>
        <p:spPr>
          <a:xfrm>
            <a:off x="274320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198108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252108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flipH="1">
            <a:off x="274284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2521080" y="4273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flipH="1">
            <a:off x="121896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8284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758960" y="1987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21932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 flipH="1">
            <a:off x="45684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23508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 flipH="1">
            <a:off x="121896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996840" y="4273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99684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175896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304920" y="5029200"/>
            <a:ext cx="37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4105440" y="2057400"/>
            <a:ext cx="4657680" cy="2222640"/>
            <a:chOff x="4105440" y="2057400"/>
            <a:chExt cx="4657680" cy="2222640"/>
          </a:xfrm>
        </p:grpSpPr>
        <p:sp>
          <p:nvSpPr>
            <p:cNvPr id="757" name=""/>
            <p:cNvSpPr/>
            <p:nvPr/>
          </p:nvSpPr>
          <p:spPr>
            <a:xfrm>
              <a:off x="4197240" y="2063880"/>
              <a:ext cx="455940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67400" y="2057400"/>
              <a:ext cx="2295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467400" y="20574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467400" y="3200400"/>
              <a:ext cx="1533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763040" y="32004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839000" y="3581280"/>
              <a:ext cx="69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105440" y="2819520"/>
              <a:ext cx="2066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763040" y="28195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238800" y="32004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705640" y="281952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410000" y="3581280"/>
              <a:ext cx="17622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705640" y="358128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991640" y="24382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620040" y="2438280"/>
              <a:ext cx="10760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עץ-ריק?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162840" y="243828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620120" y="2438280"/>
              <a:ext cx="923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773" name=""/>
          <p:cNvGrpSpPr/>
          <p:nvPr/>
        </p:nvGrpSpPr>
        <p:grpSpPr>
          <a:xfrm>
            <a:off x="4029120" y="2362320"/>
            <a:ext cx="4657680" cy="2222640"/>
            <a:chOff x="4029120" y="2362320"/>
            <a:chExt cx="4657680" cy="2222640"/>
          </a:xfrm>
        </p:grpSpPr>
        <p:sp>
          <p:nvSpPr>
            <p:cNvPr id="774" name=""/>
            <p:cNvSpPr/>
            <p:nvPr/>
          </p:nvSpPr>
          <p:spPr>
            <a:xfrm>
              <a:off x="4121280" y="2368440"/>
              <a:ext cx="455904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391440" y="236232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391440" y="236232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391440" y="3505320"/>
              <a:ext cx="15332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686720" y="35053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763040" y="3886200"/>
              <a:ext cx="6951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029120" y="3124080"/>
              <a:ext cx="2066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686720" y="31240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162840" y="350532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629320" y="312408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334040" y="3886200"/>
              <a:ext cx="17618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629320" y="388620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915320" y="27432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543720" y="2743200"/>
              <a:ext cx="10764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עץ-ריק?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86520" y="27432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543800" y="2743200"/>
              <a:ext cx="923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790" name=""/>
          <p:cNvSpPr/>
          <p:nvPr/>
        </p:nvSpPr>
        <p:spPr>
          <a:xfrm>
            <a:off x="7839000" y="30481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4044960" y="2673360"/>
            <a:ext cx="4559400" cy="1968480"/>
          </a:xfrm>
          <a:prstGeom prst="roundRect">
            <a:avLst>
              <a:gd name="adj" fmla="val 12495"/>
            </a:avLst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6315120" y="266688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6315120" y="266688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315120" y="3809880"/>
            <a:ext cx="1533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610400" y="38098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7686720" y="4191120"/>
            <a:ext cx="695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3952800" y="3429000"/>
            <a:ext cx="20671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7610400" y="34290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6086520" y="380988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5553000" y="3429000"/>
            <a:ext cx="229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4257720" y="4191120"/>
            <a:ext cx="1762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553000" y="4191120"/>
            <a:ext cx="229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839000" y="30481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6467400" y="3048120"/>
            <a:ext cx="107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6010200" y="304812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467480" y="3048120"/>
            <a:ext cx="924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3968640" y="2978280"/>
            <a:ext cx="4559400" cy="1968480"/>
          </a:xfrm>
          <a:prstGeom prst="roundRect">
            <a:avLst>
              <a:gd name="adj" fmla="val 12495"/>
            </a:avLst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6238800" y="2971800"/>
            <a:ext cx="229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238800" y="29718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6238800" y="4114800"/>
            <a:ext cx="1533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534440" y="41148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7610400" y="4495680"/>
            <a:ext cx="695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3876840" y="3733920"/>
            <a:ext cx="2066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7534440" y="37339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6010200" y="41148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477040" y="373392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181400" y="4495680"/>
            <a:ext cx="1762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477040" y="449568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7763040" y="33526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6391440" y="3352680"/>
            <a:ext cx="10760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00ff00"/>
                </a:solidFill>
                <a:latin typeface="Arial"/>
                <a:cs typeface="David"/>
              </a:rPr>
              <a:t>עץ-ריק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5934240" y="335268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7391520" y="3352680"/>
            <a:ext cx="92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ff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4191120" y="20574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1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4114800" y="236232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2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4038480" y="266688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3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3962520" y="29718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4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/>
          <p:nvPr/>
        </p:nvSpPr>
        <p:spPr>
          <a:xfrm>
            <a:off x="274320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198108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252108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 flipH="1">
            <a:off x="274284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2521080" y="4273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 flipH="1">
            <a:off x="121896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328284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758960" y="1987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219320" y="297180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 flipH="1">
            <a:off x="456840" y="297180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41200" y="3517920"/>
            <a:ext cx="35568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1218960" y="373392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003320" y="4280040"/>
            <a:ext cx="355680" cy="35532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1003320" y="2755800"/>
            <a:ext cx="355680" cy="3556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765440" y="3517920"/>
            <a:ext cx="35532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304920" y="5029200"/>
            <a:ext cx="37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D,B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843" name=""/>
          <p:cNvGrpSpPr/>
          <p:nvPr/>
        </p:nvGrpSpPr>
        <p:grpSpPr>
          <a:xfrm>
            <a:off x="4105440" y="2057400"/>
            <a:ext cx="4657680" cy="2222640"/>
            <a:chOff x="4105440" y="2057400"/>
            <a:chExt cx="4657680" cy="2222640"/>
          </a:xfrm>
        </p:grpSpPr>
        <p:sp>
          <p:nvSpPr>
            <p:cNvPr id="844" name=""/>
            <p:cNvSpPr/>
            <p:nvPr/>
          </p:nvSpPr>
          <p:spPr>
            <a:xfrm>
              <a:off x="4197240" y="2063880"/>
              <a:ext cx="455940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467400" y="2057400"/>
              <a:ext cx="2295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467400" y="20574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467400" y="3200400"/>
              <a:ext cx="1533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763040" y="32004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839000" y="3581280"/>
              <a:ext cx="69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105440" y="2819520"/>
              <a:ext cx="2066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763040" y="28195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238800" y="32004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705640" y="281952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410000" y="3581280"/>
              <a:ext cx="17622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705640" y="358128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991640" y="24382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620040" y="2438280"/>
              <a:ext cx="10760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עץ-ריק?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162840" y="243828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620120" y="2438280"/>
              <a:ext cx="923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860" name=""/>
          <p:cNvSpPr/>
          <p:nvPr/>
        </p:nvSpPr>
        <p:spPr>
          <a:xfrm>
            <a:off x="4121280" y="2368440"/>
            <a:ext cx="4559040" cy="196848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6391440" y="236232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6391440" y="236232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6391440" y="3505320"/>
            <a:ext cx="153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00ff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686720" y="35053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7763040" y="3886200"/>
            <a:ext cx="695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4029120" y="3124080"/>
            <a:ext cx="2066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686720" y="31240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6162840" y="350532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5629320" y="312408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4334040" y="3886200"/>
            <a:ext cx="1761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5629320" y="388620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7915320" y="27432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6543720" y="2743200"/>
            <a:ext cx="107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6086520" y="27432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7543800" y="2743200"/>
            <a:ext cx="92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4191120" y="20574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1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4114800" y="236232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2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"/>
          <p:cNvSpPr/>
          <p:nvPr/>
        </p:nvSpPr>
        <p:spPr>
          <a:xfrm>
            <a:off x="274320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198108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252108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 flipH="1">
            <a:off x="274284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2521080" y="4273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 flipH="1">
            <a:off x="121896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328284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1758960" y="1987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1219320" y="297180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 flipH="1">
            <a:off x="456840" y="297180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241200" y="3517920"/>
            <a:ext cx="35568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 flipH="1">
            <a:off x="1218960" y="373392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1003320" y="4280040"/>
            <a:ext cx="355680" cy="35532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003320" y="2755800"/>
            <a:ext cx="35568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1765440" y="3517920"/>
            <a:ext cx="35532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304920" y="5029200"/>
            <a:ext cx="37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D,B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894" name=""/>
          <p:cNvGrpSpPr/>
          <p:nvPr/>
        </p:nvGrpSpPr>
        <p:grpSpPr>
          <a:xfrm>
            <a:off x="4105440" y="2057400"/>
            <a:ext cx="4657680" cy="2222640"/>
            <a:chOff x="4105440" y="2057400"/>
            <a:chExt cx="4657680" cy="2222640"/>
          </a:xfrm>
        </p:grpSpPr>
        <p:sp>
          <p:nvSpPr>
            <p:cNvPr id="895" name=""/>
            <p:cNvSpPr/>
            <p:nvPr/>
          </p:nvSpPr>
          <p:spPr>
            <a:xfrm>
              <a:off x="4197240" y="2063880"/>
              <a:ext cx="455940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467400" y="2057400"/>
              <a:ext cx="2295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467400" y="20574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467400" y="3200400"/>
              <a:ext cx="1533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763040" y="32004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839000" y="3581280"/>
              <a:ext cx="69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105440" y="2819520"/>
              <a:ext cx="2066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763040" y="28195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238800" y="32004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705640" y="281952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410000" y="3581280"/>
              <a:ext cx="17622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705640" y="358128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991640" y="24382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620040" y="2438280"/>
              <a:ext cx="10760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עץ-ריק?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162840" y="243828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620120" y="2438280"/>
              <a:ext cx="923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4121280" y="2368440"/>
            <a:ext cx="4559040" cy="196848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6391440" y="236232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6391440" y="236232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6391440" y="3505320"/>
            <a:ext cx="153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7686720" y="35053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7763040" y="3886200"/>
            <a:ext cx="695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4029120" y="3124080"/>
            <a:ext cx="2066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7686720" y="31240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162840" y="350532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5629320" y="312408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4334040" y="3886200"/>
            <a:ext cx="1761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5629320" y="388620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00ff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7915320" y="27432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6543720" y="2743200"/>
            <a:ext cx="107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6086520" y="27432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7543800" y="2743200"/>
            <a:ext cx="92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4191120" y="20574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1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4114800" y="236232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2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/>
          <p:nvPr/>
        </p:nvSpPr>
        <p:spPr>
          <a:xfrm>
            <a:off x="274320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198108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52108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 flipH="1">
            <a:off x="274284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2521080" y="4273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 flipH="1">
            <a:off x="121896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328284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1758960" y="1987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121932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 flipH="1">
            <a:off x="45684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23508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 flipH="1">
            <a:off x="1218960" y="373392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1003320" y="4280040"/>
            <a:ext cx="355680" cy="35532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99684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1765440" y="3517920"/>
            <a:ext cx="35532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304920" y="5029200"/>
            <a:ext cx="37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D,B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945" name=""/>
          <p:cNvGrpSpPr/>
          <p:nvPr/>
        </p:nvGrpSpPr>
        <p:grpSpPr>
          <a:xfrm>
            <a:off x="4105440" y="2057400"/>
            <a:ext cx="4657680" cy="2222640"/>
            <a:chOff x="4105440" y="2057400"/>
            <a:chExt cx="4657680" cy="2222640"/>
          </a:xfrm>
        </p:grpSpPr>
        <p:sp>
          <p:nvSpPr>
            <p:cNvPr id="946" name=""/>
            <p:cNvSpPr/>
            <p:nvPr/>
          </p:nvSpPr>
          <p:spPr>
            <a:xfrm>
              <a:off x="4197240" y="2063880"/>
              <a:ext cx="455940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467400" y="2057400"/>
              <a:ext cx="2295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467400" y="20574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467400" y="3200400"/>
              <a:ext cx="1533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763040" y="32004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839000" y="3581280"/>
              <a:ext cx="69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105440" y="2819520"/>
              <a:ext cx="2066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763040" y="28195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238800" y="32004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705640" y="281952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410000" y="3581280"/>
              <a:ext cx="17622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705640" y="358128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991640" y="24382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620040" y="2438280"/>
              <a:ext cx="10760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עץ-ריק?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162840" y="243828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620120" y="2438280"/>
              <a:ext cx="923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962" name=""/>
          <p:cNvGrpSpPr/>
          <p:nvPr/>
        </p:nvGrpSpPr>
        <p:grpSpPr>
          <a:xfrm>
            <a:off x="4029120" y="2362320"/>
            <a:ext cx="4657680" cy="2222640"/>
            <a:chOff x="4029120" y="2362320"/>
            <a:chExt cx="4657680" cy="2222640"/>
          </a:xfrm>
        </p:grpSpPr>
        <p:sp>
          <p:nvSpPr>
            <p:cNvPr id="963" name=""/>
            <p:cNvSpPr/>
            <p:nvPr/>
          </p:nvSpPr>
          <p:spPr>
            <a:xfrm>
              <a:off x="4121280" y="2368440"/>
              <a:ext cx="455904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391440" y="236232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391440" y="236232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391440" y="3505320"/>
              <a:ext cx="15332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686720" y="35053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763040" y="3886200"/>
              <a:ext cx="6951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029120" y="3124080"/>
              <a:ext cx="2066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7686720" y="31240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162840" y="350532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629320" y="312408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334040" y="3886200"/>
              <a:ext cx="17618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629320" y="388620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915320" y="27432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6543720" y="2743200"/>
              <a:ext cx="10764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עץ-ריק?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6086520" y="27432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543800" y="2743200"/>
              <a:ext cx="923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979" name=""/>
          <p:cNvGrpSpPr/>
          <p:nvPr/>
        </p:nvGrpSpPr>
        <p:grpSpPr>
          <a:xfrm>
            <a:off x="3952800" y="2666880"/>
            <a:ext cx="4657680" cy="2223000"/>
            <a:chOff x="3952800" y="2666880"/>
            <a:chExt cx="4657680" cy="2223000"/>
          </a:xfrm>
        </p:grpSpPr>
        <p:sp>
          <p:nvSpPr>
            <p:cNvPr id="980" name=""/>
            <p:cNvSpPr/>
            <p:nvPr/>
          </p:nvSpPr>
          <p:spPr>
            <a:xfrm>
              <a:off x="4044960" y="2673360"/>
              <a:ext cx="455940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315120" y="266688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6315120" y="266688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6315120" y="3809880"/>
              <a:ext cx="1533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610400" y="38098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7686720" y="4191120"/>
              <a:ext cx="6951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952800" y="3429000"/>
              <a:ext cx="20671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610400" y="34290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6086520" y="380988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553000" y="3429000"/>
              <a:ext cx="2295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257720" y="4191120"/>
              <a:ext cx="17622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553000" y="4191120"/>
              <a:ext cx="2295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839000" y="30481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467400" y="3048120"/>
              <a:ext cx="10764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עץ-ריק?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010200" y="304812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467480" y="3048120"/>
              <a:ext cx="9241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996" name=""/>
          <p:cNvSpPr/>
          <p:nvPr/>
        </p:nvSpPr>
        <p:spPr>
          <a:xfrm>
            <a:off x="4191120" y="20574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1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4114800" y="236232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2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4038480" y="266688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3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274320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198108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252108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 flipH="1">
            <a:off x="274284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2521080" y="4273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 flipH="1">
            <a:off x="121896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328284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1758960" y="1987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121932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 flipH="1">
            <a:off x="45684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23508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 flipH="1">
            <a:off x="1218960" y="373392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1003320" y="4280040"/>
            <a:ext cx="355680" cy="35532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99684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1765440" y="3517920"/>
            <a:ext cx="35532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304920" y="5029200"/>
            <a:ext cx="37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D,B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015" name=""/>
          <p:cNvGrpSpPr/>
          <p:nvPr/>
        </p:nvGrpSpPr>
        <p:grpSpPr>
          <a:xfrm>
            <a:off x="4105440" y="2057400"/>
            <a:ext cx="4657680" cy="2222640"/>
            <a:chOff x="4105440" y="2057400"/>
            <a:chExt cx="4657680" cy="2222640"/>
          </a:xfrm>
        </p:grpSpPr>
        <p:sp>
          <p:nvSpPr>
            <p:cNvPr id="1016" name=""/>
            <p:cNvSpPr/>
            <p:nvPr/>
          </p:nvSpPr>
          <p:spPr>
            <a:xfrm>
              <a:off x="4197240" y="2063880"/>
              <a:ext cx="455940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6467400" y="2057400"/>
              <a:ext cx="2295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467400" y="20574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467400" y="3200400"/>
              <a:ext cx="1533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763040" y="32004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7839000" y="3581280"/>
              <a:ext cx="69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105440" y="2819520"/>
              <a:ext cx="2066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763040" y="28195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238800" y="32004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705640" y="281952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410000" y="3581280"/>
              <a:ext cx="17622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705640" y="358128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991640" y="24382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6620040" y="2438280"/>
              <a:ext cx="10760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עץ-ריק?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6162840" y="243828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7620120" y="2438280"/>
              <a:ext cx="923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4029120" y="2362320"/>
            <a:ext cx="4657680" cy="2222640"/>
            <a:chOff x="4029120" y="2362320"/>
            <a:chExt cx="4657680" cy="2222640"/>
          </a:xfrm>
        </p:grpSpPr>
        <p:sp>
          <p:nvSpPr>
            <p:cNvPr id="1033" name=""/>
            <p:cNvSpPr/>
            <p:nvPr/>
          </p:nvSpPr>
          <p:spPr>
            <a:xfrm>
              <a:off x="4121280" y="2368440"/>
              <a:ext cx="455904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391440" y="236232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391440" y="236232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391440" y="3505320"/>
              <a:ext cx="15332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7686720" y="35053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7763040" y="3886200"/>
              <a:ext cx="6951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029120" y="3124080"/>
              <a:ext cx="2066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686720" y="31240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162840" y="350532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629320" y="312408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334040" y="3886200"/>
              <a:ext cx="17618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629320" y="388620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915320" y="27432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543720" y="2743200"/>
              <a:ext cx="10764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עץ-ריק?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6086520" y="27432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7543800" y="2743200"/>
              <a:ext cx="923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1049" name=""/>
          <p:cNvSpPr/>
          <p:nvPr/>
        </p:nvSpPr>
        <p:spPr>
          <a:xfrm>
            <a:off x="4044960" y="2673360"/>
            <a:ext cx="4559400" cy="1968480"/>
          </a:xfrm>
          <a:prstGeom prst="roundRect">
            <a:avLst>
              <a:gd name="adj" fmla="val 12495"/>
            </a:avLst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6315120" y="266688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6315120" y="266688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6315120" y="3809880"/>
            <a:ext cx="1533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7610400" y="38098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7686720" y="4191120"/>
            <a:ext cx="695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3952800" y="3429000"/>
            <a:ext cx="20671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7610400" y="34290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6086520" y="380988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5553000" y="3429000"/>
            <a:ext cx="229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00ff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4257720" y="4191120"/>
            <a:ext cx="1762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5553000" y="4191120"/>
            <a:ext cx="229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7839000" y="30481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6467400" y="3048120"/>
            <a:ext cx="107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6010200" y="304812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7467480" y="3048120"/>
            <a:ext cx="924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4191120" y="20574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1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4114800" y="236232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2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4038480" y="266688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3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"/>
          <p:cNvSpPr/>
          <p:nvPr/>
        </p:nvSpPr>
        <p:spPr>
          <a:xfrm>
            <a:off x="274320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198108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252108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 flipH="1">
            <a:off x="274284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2521080" y="4273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 flipH="1">
            <a:off x="121896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328284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1758960" y="1987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121932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 flipH="1">
            <a:off x="45684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35080" y="3511440"/>
            <a:ext cx="368280" cy="368280"/>
          </a:xfrm>
          <a:prstGeom prst="ellipse">
            <a:avLst/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 flipH="1">
            <a:off x="121896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1003320" y="4280040"/>
            <a:ext cx="355680" cy="35532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996840" y="2749680"/>
            <a:ext cx="368280" cy="368280"/>
          </a:xfrm>
          <a:prstGeom prst="ellipse">
            <a:avLst/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175896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304920" y="5029200"/>
            <a:ext cx="37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D,B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084" name=""/>
          <p:cNvGrpSpPr/>
          <p:nvPr/>
        </p:nvGrpSpPr>
        <p:grpSpPr>
          <a:xfrm>
            <a:off x="4105440" y="2057400"/>
            <a:ext cx="4657680" cy="2222640"/>
            <a:chOff x="4105440" y="2057400"/>
            <a:chExt cx="4657680" cy="2222640"/>
          </a:xfrm>
        </p:grpSpPr>
        <p:sp>
          <p:nvSpPr>
            <p:cNvPr id="1085" name=""/>
            <p:cNvSpPr/>
            <p:nvPr/>
          </p:nvSpPr>
          <p:spPr>
            <a:xfrm>
              <a:off x="4197240" y="2063880"/>
              <a:ext cx="455940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467400" y="2057400"/>
              <a:ext cx="2295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467400" y="20574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6467400" y="3200400"/>
              <a:ext cx="1533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7763040" y="32004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839000" y="3581280"/>
              <a:ext cx="69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105440" y="2819520"/>
              <a:ext cx="2066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7763040" y="28195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238800" y="32004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5705640" y="281952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410000" y="3581280"/>
              <a:ext cx="17622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5705640" y="358128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7991640" y="24382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620040" y="2438280"/>
              <a:ext cx="10760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עץ-ריק?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162840" y="243828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7620120" y="2438280"/>
              <a:ext cx="923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1101" name=""/>
          <p:cNvGrpSpPr/>
          <p:nvPr/>
        </p:nvGrpSpPr>
        <p:grpSpPr>
          <a:xfrm>
            <a:off x="4029120" y="2362320"/>
            <a:ext cx="4657680" cy="2222640"/>
            <a:chOff x="4029120" y="2362320"/>
            <a:chExt cx="4657680" cy="2222640"/>
          </a:xfrm>
        </p:grpSpPr>
        <p:sp>
          <p:nvSpPr>
            <p:cNvPr id="1102" name=""/>
            <p:cNvSpPr/>
            <p:nvPr/>
          </p:nvSpPr>
          <p:spPr>
            <a:xfrm>
              <a:off x="4121280" y="2368440"/>
              <a:ext cx="455904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6391440" y="236232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391440" y="236232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391440" y="3505320"/>
              <a:ext cx="15332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686720" y="35053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763040" y="3886200"/>
              <a:ext cx="6951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029120" y="3124080"/>
              <a:ext cx="2066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686720" y="31240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6162840" y="350532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629320" y="312408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4334040" y="3886200"/>
              <a:ext cx="17618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629320" y="388620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7915320" y="27432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6543720" y="2743200"/>
              <a:ext cx="10764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עץ-ריק?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086520" y="27432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543800" y="2743200"/>
              <a:ext cx="923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1118" name=""/>
          <p:cNvSpPr/>
          <p:nvPr/>
        </p:nvSpPr>
        <p:spPr>
          <a:xfrm>
            <a:off x="4044960" y="2673360"/>
            <a:ext cx="4559400" cy="1968480"/>
          </a:xfrm>
          <a:prstGeom prst="roundRect">
            <a:avLst>
              <a:gd name="adj" fmla="val 12495"/>
            </a:avLst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6315120" y="266688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6315120" y="266688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6315120" y="3809880"/>
            <a:ext cx="1533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7610400" y="38098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7686720" y="4191120"/>
            <a:ext cx="695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3952800" y="3429000"/>
            <a:ext cx="20671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7610400" y="34290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6086520" y="380988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5553000" y="3429000"/>
            <a:ext cx="229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4257720" y="4191120"/>
            <a:ext cx="1762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5553000" y="4191120"/>
            <a:ext cx="229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7839000" y="30481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6467400" y="3048120"/>
            <a:ext cx="107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6010200" y="304812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7467480" y="3048120"/>
            <a:ext cx="924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134" name=""/>
          <p:cNvGrpSpPr/>
          <p:nvPr/>
        </p:nvGrpSpPr>
        <p:grpSpPr>
          <a:xfrm>
            <a:off x="3876840" y="2971800"/>
            <a:ext cx="4657680" cy="2222640"/>
            <a:chOff x="3876840" y="2971800"/>
            <a:chExt cx="4657680" cy="2222640"/>
          </a:xfrm>
        </p:grpSpPr>
        <p:sp>
          <p:nvSpPr>
            <p:cNvPr id="1135" name=""/>
            <p:cNvSpPr/>
            <p:nvPr/>
          </p:nvSpPr>
          <p:spPr>
            <a:xfrm>
              <a:off x="3968640" y="2978280"/>
              <a:ext cx="455940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238800" y="2971800"/>
              <a:ext cx="2295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6238800" y="29718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6238800" y="4114800"/>
              <a:ext cx="1533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534440" y="41148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610400" y="4495680"/>
              <a:ext cx="69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876840" y="3733920"/>
              <a:ext cx="2066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7534440" y="37339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010200" y="41148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477040" y="373392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181400" y="4495680"/>
              <a:ext cx="17622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477040" y="449568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7763040" y="33526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6391440" y="3352680"/>
              <a:ext cx="10760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עץ-ריק?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934240" y="335268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7391520" y="3352680"/>
              <a:ext cx="923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1151" name=""/>
          <p:cNvSpPr/>
          <p:nvPr/>
        </p:nvSpPr>
        <p:spPr>
          <a:xfrm>
            <a:off x="4191120" y="20574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1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4114800" y="236232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2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4038480" y="266688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3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3962520" y="29718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4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"/>
          <p:cNvSpPr/>
          <p:nvPr/>
        </p:nvSpPr>
        <p:spPr>
          <a:xfrm>
            <a:off x="274320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198108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252108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 flipH="1">
            <a:off x="274284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2521080" y="4273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 flipH="1">
            <a:off x="121896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328284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1758960" y="1987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121932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 flipH="1">
            <a:off x="45684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235080" y="3511440"/>
            <a:ext cx="368280" cy="368280"/>
          </a:xfrm>
          <a:prstGeom prst="ellipse">
            <a:avLst/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 flipH="1">
            <a:off x="121896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1003320" y="4280040"/>
            <a:ext cx="355680" cy="35532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996840" y="2749680"/>
            <a:ext cx="368280" cy="368280"/>
          </a:xfrm>
          <a:prstGeom prst="ellipse">
            <a:avLst/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175896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304920" y="5029200"/>
            <a:ext cx="37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D,B,G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171" name=""/>
          <p:cNvGrpSpPr/>
          <p:nvPr/>
        </p:nvGrpSpPr>
        <p:grpSpPr>
          <a:xfrm>
            <a:off x="4105440" y="2057400"/>
            <a:ext cx="4657680" cy="2222640"/>
            <a:chOff x="4105440" y="2057400"/>
            <a:chExt cx="4657680" cy="2222640"/>
          </a:xfrm>
        </p:grpSpPr>
        <p:sp>
          <p:nvSpPr>
            <p:cNvPr id="1172" name=""/>
            <p:cNvSpPr/>
            <p:nvPr/>
          </p:nvSpPr>
          <p:spPr>
            <a:xfrm>
              <a:off x="4197240" y="2063880"/>
              <a:ext cx="455940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6467400" y="2057400"/>
              <a:ext cx="2295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6467400" y="20574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6467400" y="3200400"/>
              <a:ext cx="1533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763040" y="32004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839000" y="3581280"/>
              <a:ext cx="69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105440" y="2819520"/>
              <a:ext cx="2066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7763040" y="28195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6238800" y="32004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705640" y="281952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410000" y="3581280"/>
              <a:ext cx="17622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705640" y="358128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7991640" y="24382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620040" y="2438280"/>
              <a:ext cx="10760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עץ-ריק?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162840" y="243828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7620120" y="2438280"/>
              <a:ext cx="923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1188" name=""/>
          <p:cNvGrpSpPr/>
          <p:nvPr/>
        </p:nvGrpSpPr>
        <p:grpSpPr>
          <a:xfrm>
            <a:off x="4029120" y="2362320"/>
            <a:ext cx="4657680" cy="2222640"/>
            <a:chOff x="4029120" y="2362320"/>
            <a:chExt cx="4657680" cy="2222640"/>
          </a:xfrm>
        </p:grpSpPr>
        <p:sp>
          <p:nvSpPr>
            <p:cNvPr id="1189" name=""/>
            <p:cNvSpPr/>
            <p:nvPr/>
          </p:nvSpPr>
          <p:spPr>
            <a:xfrm>
              <a:off x="4121280" y="2368440"/>
              <a:ext cx="455904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6391440" y="236232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6391440" y="236232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6391440" y="3505320"/>
              <a:ext cx="15332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7686720" y="35053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7763040" y="3886200"/>
              <a:ext cx="6951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029120" y="3124080"/>
              <a:ext cx="2066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7686720" y="31240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6162840" y="350532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629320" y="312408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334040" y="3886200"/>
              <a:ext cx="17618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629320" y="388620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915320" y="27432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6543720" y="2743200"/>
              <a:ext cx="10764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עץ-ריק?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6086520" y="27432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543800" y="2743200"/>
              <a:ext cx="923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1205" name=""/>
          <p:cNvSpPr/>
          <p:nvPr/>
        </p:nvSpPr>
        <p:spPr>
          <a:xfrm>
            <a:off x="4044960" y="2673360"/>
            <a:ext cx="4559400" cy="1968480"/>
          </a:xfrm>
          <a:prstGeom prst="roundRect">
            <a:avLst>
              <a:gd name="adj" fmla="val 12495"/>
            </a:avLst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6315120" y="266688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6315120" y="266688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6315120" y="3809880"/>
            <a:ext cx="1533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7610400" y="38098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7686720" y="4191120"/>
            <a:ext cx="695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3952800" y="3429000"/>
            <a:ext cx="20671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7610400" y="34290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6086520" y="380988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5553000" y="3429000"/>
            <a:ext cx="229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4257720" y="4191120"/>
            <a:ext cx="1762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5553000" y="4191120"/>
            <a:ext cx="229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7839000" y="30481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6467400" y="3048120"/>
            <a:ext cx="107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6010200" y="304812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7467480" y="3048120"/>
            <a:ext cx="924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3968640" y="2978280"/>
            <a:ext cx="4559400" cy="1968480"/>
          </a:xfrm>
          <a:prstGeom prst="roundRect">
            <a:avLst>
              <a:gd name="adj" fmla="val 12495"/>
            </a:avLst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6238800" y="2971800"/>
            <a:ext cx="229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6238800" y="29718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6238800" y="4114800"/>
            <a:ext cx="1533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00ff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7534440" y="41148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7610400" y="4495680"/>
            <a:ext cx="695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3876840" y="3733920"/>
            <a:ext cx="2066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7534440" y="37339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6010200" y="41148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5477040" y="373392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4181400" y="4495680"/>
            <a:ext cx="1762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5477040" y="449568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7763040" y="33526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6391440" y="3352680"/>
            <a:ext cx="10760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5934240" y="335268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7391520" y="3352680"/>
            <a:ext cx="92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4191120" y="20574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1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4114800" y="236232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2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4038480" y="266688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3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3962520" y="29718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4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"/>
          <p:cNvSpPr/>
          <p:nvPr/>
        </p:nvSpPr>
        <p:spPr>
          <a:xfrm>
            <a:off x="274320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198108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252108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 flipH="1">
            <a:off x="274284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2521080" y="4273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 flipH="1">
            <a:off x="121896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328284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1758960" y="1987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121932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 flipH="1">
            <a:off x="45684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235080" y="3511440"/>
            <a:ext cx="368280" cy="368280"/>
          </a:xfrm>
          <a:prstGeom prst="ellipse">
            <a:avLst/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 flipH="1">
            <a:off x="1218960" y="373392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1003320" y="4280040"/>
            <a:ext cx="355680" cy="35532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996840" y="2749680"/>
            <a:ext cx="368280" cy="368280"/>
          </a:xfrm>
          <a:prstGeom prst="ellipse">
            <a:avLst/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1765440" y="3517920"/>
            <a:ext cx="355320" cy="3556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304920" y="5029200"/>
            <a:ext cx="37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D,B,G,E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257" name=""/>
          <p:cNvGrpSpPr/>
          <p:nvPr/>
        </p:nvGrpSpPr>
        <p:grpSpPr>
          <a:xfrm>
            <a:off x="4105440" y="2057400"/>
            <a:ext cx="4657680" cy="2222640"/>
            <a:chOff x="4105440" y="2057400"/>
            <a:chExt cx="4657680" cy="2222640"/>
          </a:xfrm>
        </p:grpSpPr>
        <p:sp>
          <p:nvSpPr>
            <p:cNvPr id="1258" name=""/>
            <p:cNvSpPr/>
            <p:nvPr/>
          </p:nvSpPr>
          <p:spPr>
            <a:xfrm>
              <a:off x="4197240" y="2063880"/>
              <a:ext cx="455940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467400" y="2057400"/>
              <a:ext cx="2295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6467400" y="20574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467400" y="3200400"/>
              <a:ext cx="1533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7763040" y="32004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7839000" y="3581280"/>
              <a:ext cx="69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105440" y="2819520"/>
              <a:ext cx="2066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7763040" y="28195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238800" y="32004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705640" y="281952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410000" y="3581280"/>
              <a:ext cx="17622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705640" y="358128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7991640" y="24382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620040" y="2438280"/>
              <a:ext cx="10760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עץ-ריק?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6162840" y="243828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7620120" y="2438280"/>
              <a:ext cx="923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1274" name=""/>
          <p:cNvSpPr/>
          <p:nvPr/>
        </p:nvSpPr>
        <p:spPr>
          <a:xfrm>
            <a:off x="4121280" y="2368440"/>
            <a:ext cx="4559040" cy="196848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6391440" y="236232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6391440" y="236232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6391440" y="3505320"/>
            <a:ext cx="153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7686720" y="35053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7763040" y="3886200"/>
            <a:ext cx="695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4029120" y="3124080"/>
            <a:ext cx="2066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7686720" y="31240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6162840" y="350532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5629320" y="312408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4334040" y="3886200"/>
            <a:ext cx="1761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5629320" y="388620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7915320" y="27432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6543720" y="2743200"/>
            <a:ext cx="107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6086520" y="27432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7543800" y="2743200"/>
            <a:ext cx="92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4044960" y="2673360"/>
            <a:ext cx="4559400" cy="1968480"/>
          </a:xfrm>
          <a:prstGeom prst="roundRect">
            <a:avLst>
              <a:gd name="adj" fmla="val 12495"/>
            </a:avLst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6315120" y="266688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6315120" y="266688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6315120" y="3809880"/>
            <a:ext cx="1533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00ff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7610400" y="38098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7686720" y="4191120"/>
            <a:ext cx="695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3952800" y="3429000"/>
            <a:ext cx="20671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7610400" y="34290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6086520" y="380988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5553000" y="3429000"/>
            <a:ext cx="229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4257720" y="4191120"/>
            <a:ext cx="1762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5553000" y="4191120"/>
            <a:ext cx="229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7839000" y="30481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6467400" y="3048120"/>
            <a:ext cx="107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6010200" y="304812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7467480" y="3048120"/>
            <a:ext cx="924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4191120" y="20574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1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4114800" y="236232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2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4038480" y="266688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3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743200" y="297180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81080" y="220968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27200" y="2755800"/>
            <a:ext cx="35568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2742840" y="373392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27200" y="4280040"/>
            <a:ext cx="355680" cy="35532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1218960" y="220968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89320" y="3517920"/>
            <a:ext cx="35568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65440" y="1994040"/>
            <a:ext cx="355320" cy="35532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19320" y="297180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6840" y="297180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1200" y="3517920"/>
            <a:ext cx="35568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218960" y="373392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03320" y="4280040"/>
            <a:ext cx="355680" cy="35532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03320" y="2755800"/>
            <a:ext cx="35568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5440" y="3517920"/>
            <a:ext cx="35532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97240" y="2063880"/>
            <a:ext cx="4559400" cy="1968480"/>
          </a:xfrm>
          <a:prstGeom prst="roundRect">
            <a:avLst>
              <a:gd name="adj" fmla="val 12495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67400" y="2057400"/>
            <a:ext cx="229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67400" y="20574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467400" y="3200400"/>
            <a:ext cx="1533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763040" y="32004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839000" y="3581280"/>
            <a:ext cx="695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05440" y="2819520"/>
            <a:ext cx="2066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763040" y="28195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38800" y="32004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05640" y="281952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00ff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10000" y="3581280"/>
            <a:ext cx="1762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705640" y="358128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991640" y="24382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620040" y="2438280"/>
            <a:ext cx="10760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62840" y="243828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20120" y="2438280"/>
            <a:ext cx="92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91120" y="20574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1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"/>
          <p:cNvSpPr/>
          <p:nvPr/>
        </p:nvSpPr>
        <p:spPr>
          <a:xfrm>
            <a:off x="2743200" y="297180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1981080" y="220968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2527200" y="2755800"/>
            <a:ext cx="35568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 flipH="1">
            <a:off x="2742840" y="373392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2527200" y="4280040"/>
            <a:ext cx="355680" cy="35532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 flipH="1">
            <a:off x="1218960" y="220968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3289320" y="3517920"/>
            <a:ext cx="35568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1765440" y="1994040"/>
            <a:ext cx="355320" cy="35532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1219320" y="297180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 flipH="1">
            <a:off x="456840" y="297180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241200" y="3517920"/>
            <a:ext cx="35568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 flipH="1">
            <a:off x="1218960" y="373392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1003320" y="4280040"/>
            <a:ext cx="355680" cy="35532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1003320" y="2755800"/>
            <a:ext cx="35568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1765440" y="3517920"/>
            <a:ext cx="35532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304920" y="5029200"/>
            <a:ext cx="37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D,B,G,E,A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4197240" y="2063880"/>
            <a:ext cx="4559400" cy="1968480"/>
          </a:xfrm>
          <a:prstGeom prst="roundRect">
            <a:avLst>
              <a:gd name="adj" fmla="val 12495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6467400" y="2057400"/>
            <a:ext cx="229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6467400" y="20574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6467400" y="3200400"/>
            <a:ext cx="1533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00ff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7763040" y="32004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7839000" y="3581280"/>
            <a:ext cx="695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4105440" y="2819520"/>
            <a:ext cx="2066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7763040" y="28195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6238800" y="32004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5705640" y="281952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4410000" y="3581280"/>
            <a:ext cx="1762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5705640" y="358128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7991640" y="24382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6620040" y="2438280"/>
            <a:ext cx="10760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6162840" y="243828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7620120" y="2438280"/>
            <a:ext cx="92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4191120" y="20574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1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"/>
          <p:cNvSpPr/>
          <p:nvPr/>
        </p:nvSpPr>
        <p:spPr>
          <a:xfrm>
            <a:off x="2743200" y="297180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1981080" y="220968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2527200" y="2755800"/>
            <a:ext cx="35568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 flipH="1">
            <a:off x="2742840" y="373392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2527200" y="4280040"/>
            <a:ext cx="355680" cy="35532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 flipH="1">
            <a:off x="1218960" y="220968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3289320" y="3517920"/>
            <a:ext cx="35568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1765440" y="1994040"/>
            <a:ext cx="355320" cy="35532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1219320" y="297180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 flipH="1">
            <a:off x="456840" y="297180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241200" y="3517920"/>
            <a:ext cx="35568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 flipH="1">
            <a:off x="1218960" y="373392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1003320" y="4280040"/>
            <a:ext cx="355680" cy="35532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1003320" y="2755800"/>
            <a:ext cx="35568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1765440" y="3517920"/>
            <a:ext cx="35532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304920" y="5029200"/>
            <a:ext cx="37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D,B,G,E,A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4197240" y="2063880"/>
            <a:ext cx="4559400" cy="1968480"/>
          </a:xfrm>
          <a:prstGeom prst="roundRect">
            <a:avLst>
              <a:gd name="adj" fmla="val 12495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6467400" y="2057400"/>
            <a:ext cx="229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6467400" y="20574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6467400" y="3200400"/>
            <a:ext cx="1533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7763040" y="32004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7839000" y="3581280"/>
            <a:ext cx="695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4105440" y="2819520"/>
            <a:ext cx="2066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7763040" y="28195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6238800" y="32004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5705640" y="281952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4410000" y="3581280"/>
            <a:ext cx="1762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5705640" y="358128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00ff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7991640" y="24382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6620040" y="2438280"/>
            <a:ext cx="10760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6162840" y="243828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7620120" y="2438280"/>
            <a:ext cx="92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4191120" y="20574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1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"/>
          <p:cNvSpPr/>
          <p:nvPr/>
        </p:nvSpPr>
        <p:spPr>
          <a:xfrm>
            <a:off x="2743200" y="297180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198108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2527200" y="2755800"/>
            <a:ext cx="35568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 flipH="1">
            <a:off x="2742840" y="373392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2527200" y="4280040"/>
            <a:ext cx="355680" cy="35532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 flipH="1">
            <a:off x="121896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3289320" y="3517920"/>
            <a:ext cx="35568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1758960" y="1987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121932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 flipH="1">
            <a:off x="45684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23508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 flipH="1">
            <a:off x="121896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996840" y="4273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99684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175896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304920" y="5029200"/>
            <a:ext cx="37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D,B,G,E,A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4197240" y="2063880"/>
            <a:ext cx="4559400" cy="1968480"/>
          </a:xfrm>
          <a:prstGeom prst="roundRect">
            <a:avLst>
              <a:gd name="adj" fmla="val 12495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6467400" y="2057400"/>
            <a:ext cx="229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6467400" y="20574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6467400" y="3200400"/>
            <a:ext cx="1533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7763040" y="32004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7839000" y="3581280"/>
            <a:ext cx="695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4105440" y="2819520"/>
            <a:ext cx="2066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7763040" y="28195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6238800" y="32004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5705640" y="281952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4410000" y="3581280"/>
            <a:ext cx="1762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5705640" y="358128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7991640" y="24382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6620040" y="2438280"/>
            <a:ext cx="10760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6162840" y="243828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7620120" y="2438280"/>
            <a:ext cx="92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4121280" y="2368440"/>
            <a:ext cx="4559040" cy="196848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6391440" y="236232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6391440" y="236232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6391440" y="3505320"/>
            <a:ext cx="153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7686720" y="35053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7763040" y="3886200"/>
            <a:ext cx="695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4029120" y="3124080"/>
            <a:ext cx="2066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7686720" y="31240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6162840" y="350532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5629320" y="312408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4334040" y="3886200"/>
            <a:ext cx="1761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5629320" y="388620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7915320" y="27432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6543720" y="2743200"/>
            <a:ext cx="107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6086520" y="27432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7543800" y="2743200"/>
            <a:ext cx="92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4191120" y="20574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1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4114800" y="236232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2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"/>
          <p:cNvSpPr/>
          <p:nvPr/>
        </p:nvSpPr>
        <p:spPr>
          <a:xfrm>
            <a:off x="2743200" y="297180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198108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2527200" y="2755800"/>
            <a:ext cx="355680" cy="3556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 flipH="1">
            <a:off x="2742840" y="373392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2527200" y="4280040"/>
            <a:ext cx="355680" cy="35532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 flipH="1">
            <a:off x="121896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3289320" y="3517920"/>
            <a:ext cx="35568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1758960" y="1987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121932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 flipH="1">
            <a:off x="45684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23508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 flipH="1">
            <a:off x="121896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996840" y="4273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99684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175896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304920" y="5029200"/>
            <a:ext cx="37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D,B,G,E,A,C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4197240" y="2063880"/>
            <a:ext cx="4559400" cy="1968480"/>
          </a:xfrm>
          <a:prstGeom prst="roundRect">
            <a:avLst>
              <a:gd name="adj" fmla="val 12495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6467400" y="2057400"/>
            <a:ext cx="229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6467400" y="20574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6467400" y="3200400"/>
            <a:ext cx="1533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7763040" y="32004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7839000" y="3581280"/>
            <a:ext cx="695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4105440" y="2819520"/>
            <a:ext cx="2066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7763040" y="28195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6238800" y="32004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5705640" y="281952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4410000" y="3581280"/>
            <a:ext cx="1762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5705640" y="358128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7991640" y="24382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6620040" y="2438280"/>
            <a:ext cx="10760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6162840" y="243828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7620120" y="2438280"/>
            <a:ext cx="92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4121280" y="2368440"/>
            <a:ext cx="4559040" cy="196848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6391440" y="236232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6391440" y="236232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6391440" y="3505320"/>
            <a:ext cx="153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00ff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7686720" y="35053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7763040" y="3886200"/>
            <a:ext cx="695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4029120" y="3124080"/>
            <a:ext cx="2066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7686720" y="31240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6162840" y="350532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5629320" y="312408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4334040" y="3886200"/>
            <a:ext cx="1761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5629320" y="388620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7915320" y="27432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6543720" y="2743200"/>
            <a:ext cx="107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6086520" y="27432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7543800" y="2743200"/>
            <a:ext cx="92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4191120" y="20574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1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4114800" y="236232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2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"/>
          <p:cNvSpPr/>
          <p:nvPr/>
        </p:nvSpPr>
        <p:spPr>
          <a:xfrm>
            <a:off x="2743200" y="297180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198108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2527200" y="2755800"/>
            <a:ext cx="35568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 flipH="1">
            <a:off x="2742840" y="373392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2527200" y="4280040"/>
            <a:ext cx="355680" cy="35532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 flipH="1">
            <a:off x="121896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3289320" y="3517920"/>
            <a:ext cx="35568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1758960" y="1987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121932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 flipH="1">
            <a:off x="45684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23508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 flipH="1">
            <a:off x="121896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996840" y="4273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99684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175896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304920" y="5029200"/>
            <a:ext cx="37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D,B,G,E,A,C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4197240" y="2063880"/>
            <a:ext cx="4559400" cy="1968480"/>
          </a:xfrm>
          <a:prstGeom prst="roundRect">
            <a:avLst>
              <a:gd name="adj" fmla="val 12495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6467400" y="2057400"/>
            <a:ext cx="229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6467400" y="20574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6467400" y="3200400"/>
            <a:ext cx="1533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7763040" y="32004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7839000" y="3581280"/>
            <a:ext cx="695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4105440" y="2819520"/>
            <a:ext cx="2066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7763040" y="28195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6238800" y="32004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5705640" y="281952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4410000" y="3581280"/>
            <a:ext cx="1762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5705640" y="358128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7991640" y="24382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6620040" y="2438280"/>
            <a:ext cx="10760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6162840" y="243828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7620120" y="2438280"/>
            <a:ext cx="92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4121280" y="2368440"/>
            <a:ext cx="4559040" cy="196848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6391440" y="236232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6391440" y="236232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6391440" y="3505320"/>
            <a:ext cx="153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7686720" y="35053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7763040" y="3886200"/>
            <a:ext cx="695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4029120" y="3124080"/>
            <a:ext cx="2066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7686720" y="31240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6162840" y="350532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5629320" y="312408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4334040" y="3886200"/>
            <a:ext cx="1761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5629320" y="388620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00ff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7915320" y="27432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6543720" y="2743200"/>
            <a:ext cx="107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6086520" y="27432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7543800" y="2743200"/>
            <a:ext cx="92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4191120" y="20574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1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4114800" y="236232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2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"/>
          <p:cNvSpPr/>
          <p:nvPr/>
        </p:nvSpPr>
        <p:spPr>
          <a:xfrm>
            <a:off x="274320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198108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252108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 flipH="1">
            <a:off x="2742840" y="373392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2527200" y="4280040"/>
            <a:ext cx="355680" cy="35532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 flipH="1">
            <a:off x="121896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3289320" y="3517920"/>
            <a:ext cx="35568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1758960" y="1987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121932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 flipH="1">
            <a:off x="45684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23508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 flipH="1">
            <a:off x="121896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996840" y="4273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99684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175896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304920" y="5029200"/>
            <a:ext cx="37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D,B,G,E,A,C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4197240" y="2063880"/>
            <a:ext cx="4559400" cy="1968480"/>
          </a:xfrm>
          <a:prstGeom prst="roundRect">
            <a:avLst>
              <a:gd name="adj" fmla="val 12495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6467400" y="2057400"/>
            <a:ext cx="229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6467400" y="20574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6467400" y="3200400"/>
            <a:ext cx="1533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7763040" y="32004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7839000" y="3581280"/>
            <a:ext cx="695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4105440" y="2819520"/>
            <a:ext cx="2066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7763040" y="28195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6238800" y="32004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5705640" y="281952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4410000" y="3581280"/>
            <a:ext cx="1762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5705640" y="358128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7991640" y="24382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6620040" y="2438280"/>
            <a:ext cx="10760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6162840" y="243828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7620120" y="2438280"/>
            <a:ext cx="92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4121280" y="2368440"/>
            <a:ext cx="4559040" cy="196848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6391440" y="236232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6391440" y="236232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6391440" y="3505320"/>
            <a:ext cx="153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7686720" y="35053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>
            <a:off x="7763040" y="3886200"/>
            <a:ext cx="695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>
            <a:off x="4029120" y="3124080"/>
            <a:ext cx="2066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7686720" y="31240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>
            <a:off x="6162840" y="350532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>
            <a:off x="5629320" y="312408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4334040" y="3886200"/>
            <a:ext cx="1761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5629320" y="388620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7915320" y="27432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>
            <a:off x="6543720" y="2743200"/>
            <a:ext cx="107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6086520" y="27432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7543800" y="2743200"/>
            <a:ext cx="92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573" name=""/>
          <p:cNvGrpSpPr/>
          <p:nvPr/>
        </p:nvGrpSpPr>
        <p:grpSpPr>
          <a:xfrm>
            <a:off x="3952800" y="2666880"/>
            <a:ext cx="4657680" cy="2223000"/>
            <a:chOff x="3952800" y="2666880"/>
            <a:chExt cx="4657680" cy="2223000"/>
          </a:xfrm>
        </p:grpSpPr>
        <p:sp>
          <p:nvSpPr>
            <p:cNvPr id="1574" name=""/>
            <p:cNvSpPr/>
            <p:nvPr/>
          </p:nvSpPr>
          <p:spPr>
            <a:xfrm>
              <a:off x="4044960" y="2673360"/>
              <a:ext cx="455940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6315120" y="266688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6315120" y="266688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6315120" y="3809880"/>
              <a:ext cx="1533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610400" y="38098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686720" y="4191120"/>
              <a:ext cx="6951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3952800" y="3429000"/>
              <a:ext cx="20671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610400" y="34290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6086520" y="380988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5553000" y="3429000"/>
              <a:ext cx="2295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4257720" y="4191120"/>
              <a:ext cx="17622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5553000" y="4191120"/>
              <a:ext cx="2295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7839000" y="30481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467400" y="3048120"/>
              <a:ext cx="10764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עץ-ריק?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6010200" y="304812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467480" y="3048120"/>
              <a:ext cx="9241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1590" name=""/>
          <p:cNvSpPr/>
          <p:nvPr/>
        </p:nvSpPr>
        <p:spPr>
          <a:xfrm>
            <a:off x="4191120" y="20574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1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>
            <a:off x="4114800" y="236232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2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>
            <a:off x="4038480" y="266688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3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"/>
          <p:cNvSpPr/>
          <p:nvPr/>
        </p:nvSpPr>
        <p:spPr>
          <a:xfrm>
            <a:off x="274320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198108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>
            <a:off x="252108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 flipH="1">
            <a:off x="2742840" y="373392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2527200" y="4280040"/>
            <a:ext cx="355680" cy="35532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 flipH="1">
            <a:off x="121896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3289320" y="3517920"/>
            <a:ext cx="35568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>
            <a:off x="1758960" y="1987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>
            <a:off x="121932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 flipH="1">
            <a:off x="45684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>
            <a:off x="23508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 flipH="1">
            <a:off x="121896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>
            <a:off x="996840" y="4273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>
            <a:off x="99684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>
            <a:off x="175896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>
            <a:off x="304920" y="5029200"/>
            <a:ext cx="37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D,B,G,E,A,C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>
            <a:off x="4197240" y="2063880"/>
            <a:ext cx="4559400" cy="1968480"/>
          </a:xfrm>
          <a:prstGeom prst="roundRect">
            <a:avLst>
              <a:gd name="adj" fmla="val 12495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6467400" y="2057400"/>
            <a:ext cx="229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>
            <a:off x="6467400" y="20574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6467400" y="3200400"/>
            <a:ext cx="1533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7763040" y="32004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7839000" y="3581280"/>
            <a:ext cx="695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4105440" y="2819520"/>
            <a:ext cx="2066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7763040" y="28195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6238800" y="32004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5705640" y="281952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4410000" y="3581280"/>
            <a:ext cx="1762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>
            <a:off x="5705640" y="358128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00ff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>
            <a:off x="7991640" y="24382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6620040" y="2438280"/>
            <a:ext cx="10760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>
            <a:off x="6162840" y="243828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>
            <a:off x="7620120" y="2438280"/>
            <a:ext cx="92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4121280" y="2368440"/>
            <a:ext cx="4559040" cy="196848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6391440" y="236232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6391440" y="236232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>
            <a:off x="6391440" y="3505320"/>
            <a:ext cx="153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00ff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7686720" y="35053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7763040" y="3886200"/>
            <a:ext cx="695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4029120" y="3124080"/>
            <a:ext cx="2066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7686720" y="31240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6162840" y="350532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5629320" y="312408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>
            <a:off x="4334040" y="3886200"/>
            <a:ext cx="1761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>
            <a:off x="5629320" y="388620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>
            <a:off x="7915320" y="27432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>
            <a:off x="6543720" y="2743200"/>
            <a:ext cx="107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>
            <a:off x="6086520" y="27432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7543800" y="2743200"/>
            <a:ext cx="92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>
            <a:off x="4044960" y="2673360"/>
            <a:ext cx="4559400" cy="1968480"/>
          </a:xfrm>
          <a:prstGeom prst="roundRect">
            <a:avLst>
              <a:gd name="adj" fmla="val 12495"/>
            </a:avLst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6315120" y="266688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6315120" y="266688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6315120" y="3809880"/>
            <a:ext cx="1533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>
            <a:off x="7610400" y="38098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>
            <a:off x="7686720" y="4191120"/>
            <a:ext cx="695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>
            <a:off x="3952800" y="3429000"/>
            <a:ext cx="20671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7610400" y="34290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6086520" y="380988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5553000" y="3429000"/>
            <a:ext cx="229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00ff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4257720" y="4191120"/>
            <a:ext cx="1762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5553000" y="4191120"/>
            <a:ext cx="229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7839000" y="30481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>
            <a:off x="6467400" y="3048120"/>
            <a:ext cx="107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6010200" y="304812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>
            <a:off x="7467480" y="3048120"/>
            <a:ext cx="924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>
            <a:off x="4191120" y="20574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1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4114800" y="236232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2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4038480" y="266688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3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"/>
          <p:cNvSpPr/>
          <p:nvPr/>
        </p:nvSpPr>
        <p:spPr>
          <a:xfrm>
            <a:off x="274320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198108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252108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 flipH="1">
            <a:off x="274284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2527200" y="4280040"/>
            <a:ext cx="355680" cy="35532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 flipH="1">
            <a:off x="121896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328284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1758960" y="1987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>
            <a:off x="121932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 flipH="1">
            <a:off x="45684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23508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 flipH="1">
            <a:off x="121896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996840" y="4273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99684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175896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304920" y="5029200"/>
            <a:ext cx="37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D,B,G,E,A,C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4197240" y="2063880"/>
            <a:ext cx="4559400" cy="1968480"/>
          </a:xfrm>
          <a:prstGeom prst="roundRect">
            <a:avLst>
              <a:gd name="adj" fmla="val 12495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6467400" y="2057400"/>
            <a:ext cx="229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6467400" y="20574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6467400" y="3200400"/>
            <a:ext cx="1533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7763040" y="32004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7839000" y="3581280"/>
            <a:ext cx="695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4105440" y="2819520"/>
            <a:ext cx="2066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7763040" y="28195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6238800" y="32004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5705640" y="281952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4410000" y="3581280"/>
            <a:ext cx="1762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5705640" y="358128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7991640" y="24382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6620040" y="2438280"/>
            <a:ext cx="10760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6162840" y="243828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7620120" y="2438280"/>
            <a:ext cx="92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4121280" y="2368440"/>
            <a:ext cx="4559040" cy="196848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6391440" y="236232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6391440" y="236232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6391440" y="3505320"/>
            <a:ext cx="153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7686720" y="35053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7763040" y="3886200"/>
            <a:ext cx="695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4029120" y="3124080"/>
            <a:ext cx="2066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7686720" y="31240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6162840" y="350532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5629320" y="312408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4334040" y="3886200"/>
            <a:ext cx="1761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5629320" y="388620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7915320" y="27432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6543720" y="2743200"/>
            <a:ext cx="107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6086520" y="27432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7543800" y="2743200"/>
            <a:ext cx="92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708" name=""/>
          <p:cNvGrpSpPr/>
          <p:nvPr/>
        </p:nvGrpSpPr>
        <p:grpSpPr>
          <a:xfrm>
            <a:off x="3952800" y="2666880"/>
            <a:ext cx="4657680" cy="2223000"/>
            <a:chOff x="3952800" y="2666880"/>
            <a:chExt cx="4657680" cy="2223000"/>
          </a:xfrm>
        </p:grpSpPr>
        <p:sp>
          <p:nvSpPr>
            <p:cNvPr id="1709" name=""/>
            <p:cNvSpPr/>
            <p:nvPr/>
          </p:nvSpPr>
          <p:spPr>
            <a:xfrm>
              <a:off x="4044960" y="2673360"/>
              <a:ext cx="455940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6315120" y="266688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6315120" y="266688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6315120" y="3809880"/>
              <a:ext cx="1533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7610400" y="38098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7686720" y="4191120"/>
              <a:ext cx="6951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3952800" y="3429000"/>
              <a:ext cx="20671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7610400" y="34290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6086520" y="380988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5553000" y="3429000"/>
              <a:ext cx="2295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4257720" y="4191120"/>
              <a:ext cx="17622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5553000" y="4191120"/>
              <a:ext cx="2295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7839000" y="30481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6467400" y="3048120"/>
              <a:ext cx="10764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עץ-ריק?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6010200" y="304812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7467480" y="3048120"/>
              <a:ext cx="9241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1725" name=""/>
          <p:cNvGrpSpPr/>
          <p:nvPr/>
        </p:nvGrpSpPr>
        <p:grpSpPr>
          <a:xfrm>
            <a:off x="3876840" y="2971800"/>
            <a:ext cx="4657680" cy="2222640"/>
            <a:chOff x="3876840" y="2971800"/>
            <a:chExt cx="4657680" cy="2222640"/>
          </a:xfrm>
        </p:grpSpPr>
        <p:sp>
          <p:nvSpPr>
            <p:cNvPr id="1726" name=""/>
            <p:cNvSpPr/>
            <p:nvPr/>
          </p:nvSpPr>
          <p:spPr>
            <a:xfrm>
              <a:off x="3968640" y="2978280"/>
              <a:ext cx="455940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6238800" y="2971800"/>
              <a:ext cx="2295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238800" y="29718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6238800" y="4114800"/>
              <a:ext cx="1533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7534440" y="41148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7610400" y="4495680"/>
              <a:ext cx="69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3876840" y="3733920"/>
              <a:ext cx="2066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7534440" y="37339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6010200" y="41148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5477040" y="373392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4181400" y="4495680"/>
              <a:ext cx="17622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5477040" y="449568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7763040" y="33526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6391440" y="3352680"/>
              <a:ext cx="10760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עץ-ריק?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5934240" y="335268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7391520" y="3352680"/>
              <a:ext cx="923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1742" name=""/>
          <p:cNvSpPr/>
          <p:nvPr/>
        </p:nvSpPr>
        <p:spPr>
          <a:xfrm>
            <a:off x="4191120" y="20574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1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4114800" y="236232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2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4038480" y="266688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3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3962520" y="29718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4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"/>
          <p:cNvSpPr/>
          <p:nvPr/>
        </p:nvSpPr>
        <p:spPr>
          <a:xfrm>
            <a:off x="274320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198108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252108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 flipH="1">
            <a:off x="274284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2527200" y="4280040"/>
            <a:ext cx="355680" cy="35532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 flipH="1">
            <a:off x="121896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>
            <a:off x="328284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>
            <a:off x="1758960" y="1987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121932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 flipH="1">
            <a:off x="45684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>
            <a:off x="23508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 flipH="1">
            <a:off x="121896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996840" y="4273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99684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175896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>
            <a:off x="304920" y="5029200"/>
            <a:ext cx="37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D,B,G,E,A,C,H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4197240" y="2063880"/>
            <a:ext cx="4559400" cy="1968480"/>
          </a:xfrm>
          <a:prstGeom prst="roundRect">
            <a:avLst>
              <a:gd name="adj" fmla="val 12495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6467400" y="2057400"/>
            <a:ext cx="229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6467400" y="20574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6467400" y="3200400"/>
            <a:ext cx="1533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7763040" y="32004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7839000" y="3581280"/>
            <a:ext cx="695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4105440" y="2819520"/>
            <a:ext cx="2066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7763040" y="28195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6238800" y="32004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5705640" y="281952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4410000" y="3581280"/>
            <a:ext cx="1762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5705640" y="358128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7991640" y="24382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6620040" y="2438280"/>
            <a:ext cx="10760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6162840" y="243828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7620120" y="2438280"/>
            <a:ext cx="92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4121280" y="2368440"/>
            <a:ext cx="4559040" cy="196848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6391440" y="236232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6391440" y="236232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6391440" y="3505320"/>
            <a:ext cx="153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7686720" y="35053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7763040" y="3886200"/>
            <a:ext cx="695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4029120" y="3124080"/>
            <a:ext cx="2066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7686720" y="31240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6162840" y="350532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5629320" y="312408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4334040" y="3886200"/>
            <a:ext cx="1761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5629320" y="388620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7915320" y="27432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>
            <a:off x="6543720" y="2743200"/>
            <a:ext cx="107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6086520" y="27432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7543800" y="2743200"/>
            <a:ext cx="92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794" name=""/>
          <p:cNvGrpSpPr/>
          <p:nvPr/>
        </p:nvGrpSpPr>
        <p:grpSpPr>
          <a:xfrm>
            <a:off x="3952800" y="2666880"/>
            <a:ext cx="4657680" cy="2223000"/>
            <a:chOff x="3952800" y="2666880"/>
            <a:chExt cx="4657680" cy="2223000"/>
          </a:xfrm>
        </p:grpSpPr>
        <p:sp>
          <p:nvSpPr>
            <p:cNvPr id="1795" name=""/>
            <p:cNvSpPr/>
            <p:nvPr/>
          </p:nvSpPr>
          <p:spPr>
            <a:xfrm>
              <a:off x="4044960" y="2673360"/>
              <a:ext cx="455940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6315120" y="266688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6315120" y="266688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6315120" y="3809880"/>
              <a:ext cx="1533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7610400" y="38098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7686720" y="4191120"/>
              <a:ext cx="6951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3952800" y="3429000"/>
              <a:ext cx="20671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7610400" y="34290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6086520" y="380988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5553000" y="3429000"/>
              <a:ext cx="2295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4257720" y="4191120"/>
              <a:ext cx="17622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5553000" y="4191120"/>
              <a:ext cx="2295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7839000" y="30481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6467400" y="3048120"/>
              <a:ext cx="10764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עץ-ריק?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6010200" y="304812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7467480" y="3048120"/>
              <a:ext cx="9241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1811" name=""/>
          <p:cNvSpPr/>
          <p:nvPr/>
        </p:nvSpPr>
        <p:spPr>
          <a:xfrm>
            <a:off x="3968640" y="2978280"/>
            <a:ext cx="4559400" cy="1968480"/>
          </a:xfrm>
          <a:prstGeom prst="roundRect">
            <a:avLst>
              <a:gd name="adj" fmla="val 12495"/>
            </a:avLst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6238800" y="2971800"/>
            <a:ext cx="229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6238800" y="29718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6238800" y="4114800"/>
            <a:ext cx="1533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00ff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7534440" y="41148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7610400" y="4495680"/>
            <a:ext cx="695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3876840" y="3733920"/>
            <a:ext cx="2066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7534440" y="37339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6010200" y="41148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5477040" y="373392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4181400" y="4495680"/>
            <a:ext cx="1762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5477040" y="449568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7763040" y="33526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6391440" y="3352680"/>
            <a:ext cx="10760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5934240" y="335268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7391520" y="3352680"/>
            <a:ext cx="92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4191120" y="20574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1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4114800" y="236232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2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4038480" y="266688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3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3962520" y="29718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4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"/>
          <p:cNvSpPr/>
          <p:nvPr/>
        </p:nvSpPr>
        <p:spPr>
          <a:xfrm>
            <a:off x="274320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198108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252108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 flipH="1">
            <a:off x="2742840" y="373392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2527200" y="4280040"/>
            <a:ext cx="355680" cy="35532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 flipH="1">
            <a:off x="121896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3289320" y="3517920"/>
            <a:ext cx="355680" cy="3556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1758960" y="1987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121932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 flipH="1">
            <a:off x="45684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23508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 flipH="1">
            <a:off x="121896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996840" y="4273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99684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175896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304920" y="5029200"/>
            <a:ext cx="37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D,B,G,E,A,C,H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4197240" y="2063880"/>
            <a:ext cx="4559400" cy="1968480"/>
          </a:xfrm>
          <a:prstGeom prst="roundRect">
            <a:avLst>
              <a:gd name="adj" fmla="val 12495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6467400" y="2057400"/>
            <a:ext cx="229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6467400" y="20574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4105440" y="2819520"/>
            <a:ext cx="2066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7763040" y="28195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5705640" y="281952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7991640" y="24382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6620040" y="2438280"/>
            <a:ext cx="10760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6162840" y="243828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7620120" y="2438280"/>
            <a:ext cx="92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4121280" y="2368440"/>
            <a:ext cx="4559040" cy="196848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6391440" y="236232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6391440" y="236232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7915320" y="27432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6543720" y="2743200"/>
            <a:ext cx="107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6086520" y="27432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7543800" y="2743200"/>
            <a:ext cx="92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4044960" y="2673360"/>
            <a:ext cx="4559400" cy="1968480"/>
          </a:xfrm>
          <a:prstGeom prst="roundRect">
            <a:avLst>
              <a:gd name="adj" fmla="val 12495"/>
            </a:avLst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6315120" y="266688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6315120" y="266688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>
            <a:off x="6315120" y="3809880"/>
            <a:ext cx="1533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00ff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7610400" y="38098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7686720" y="4191120"/>
            <a:ext cx="695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3952800" y="3429000"/>
            <a:ext cx="20671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7610400" y="34290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>
            <a:off x="6086520" y="380988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5553000" y="3429000"/>
            <a:ext cx="229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4257720" y="4191120"/>
            <a:ext cx="1762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5553000" y="4191120"/>
            <a:ext cx="229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7839000" y="30481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6467400" y="3048120"/>
            <a:ext cx="107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6010200" y="304812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>
            <a:off x="7467480" y="3048120"/>
            <a:ext cx="924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>
            <a:off x="4191120" y="20574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1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>
            <a:off x="4114800" y="236232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2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>
            <a:off x="4038480" y="266688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3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74320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8108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2108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274284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21080" y="4273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21896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8284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58960" y="1987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297180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456840" y="297180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41200" y="3517920"/>
            <a:ext cx="35568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218960" y="373392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03320" y="4280040"/>
            <a:ext cx="355680" cy="35532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03320" y="2755800"/>
            <a:ext cx="35568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3517920"/>
            <a:ext cx="35532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105440" y="2057400"/>
            <a:ext cx="4657680" cy="2222640"/>
            <a:chOff x="4105440" y="2057400"/>
            <a:chExt cx="4657680" cy="2222640"/>
          </a:xfrm>
        </p:grpSpPr>
        <p:sp>
          <p:nvSpPr>
            <p:cNvPr id="126" name=""/>
            <p:cNvSpPr/>
            <p:nvPr/>
          </p:nvSpPr>
          <p:spPr>
            <a:xfrm>
              <a:off x="4197240" y="2063880"/>
              <a:ext cx="455940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467400" y="2057400"/>
              <a:ext cx="2295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467400" y="20574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467400" y="3200400"/>
              <a:ext cx="1533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63040" y="32004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839000" y="3581280"/>
              <a:ext cx="69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105440" y="2819520"/>
              <a:ext cx="2066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763040" y="28195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238800" y="32004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705640" y="281952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410000" y="3581280"/>
              <a:ext cx="17622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705640" y="358128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991640" y="24382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620040" y="2438280"/>
              <a:ext cx="10760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עץ-ריק?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162840" y="243828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620120" y="2438280"/>
              <a:ext cx="923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4121280" y="2368440"/>
            <a:ext cx="4559040" cy="196848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391440" y="236232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391440" y="236232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391440" y="3505320"/>
            <a:ext cx="153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686720" y="35053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763040" y="3886200"/>
            <a:ext cx="695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029120" y="3124080"/>
            <a:ext cx="2066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86720" y="31240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62840" y="350532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629320" y="312408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334040" y="3886200"/>
            <a:ext cx="1761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629320" y="388620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915320" y="27432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543720" y="2743200"/>
            <a:ext cx="107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86520" y="27432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2743200"/>
            <a:ext cx="92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91120" y="20574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1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114800" y="236232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2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"/>
          <p:cNvSpPr/>
          <p:nvPr/>
        </p:nvSpPr>
        <p:spPr>
          <a:xfrm>
            <a:off x="274320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>
            <a:off x="198108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>
            <a:off x="252108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86" name=""/>
          <p:cNvSpPr/>
          <p:nvPr/>
        </p:nvSpPr>
        <p:spPr>
          <a:xfrm flipH="1">
            <a:off x="274284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87" name=""/>
          <p:cNvSpPr/>
          <p:nvPr/>
        </p:nvSpPr>
        <p:spPr>
          <a:xfrm>
            <a:off x="2521080" y="4273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88" name=""/>
          <p:cNvSpPr/>
          <p:nvPr/>
        </p:nvSpPr>
        <p:spPr>
          <a:xfrm flipH="1">
            <a:off x="121896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89" name=""/>
          <p:cNvSpPr/>
          <p:nvPr/>
        </p:nvSpPr>
        <p:spPr>
          <a:xfrm>
            <a:off x="328284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90" name=""/>
          <p:cNvSpPr/>
          <p:nvPr/>
        </p:nvSpPr>
        <p:spPr>
          <a:xfrm>
            <a:off x="1758960" y="1987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91" name=""/>
          <p:cNvSpPr/>
          <p:nvPr/>
        </p:nvSpPr>
        <p:spPr>
          <a:xfrm>
            <a:off x="121932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92" name=""/>
          <p:cNvSpPr/>
          <p:nvPr/>
        </p:nvSpPr>
        <p:spPr>
          <a:xfrm flipH="1">
            <a:off x="45684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93" name=""/>
          <p:cNvSpPr/>
          <p:nvPr/>
        </p:nvSpPr>
        <p:spPr>
          <a:xfrm>
            <a:off x="23508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94" name=""/>
          <p:cNvSpPr/>
          <p:nvPr/>
        </p:nvSpPr>
        <p:spPr>
          <a:xfrm flipH="1">
            <a:off x="121896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95" name=""/>
          <p:cNvSpPr/>
          <p:nvPr/>
        </p:nvSpPr>
        <p:spPr>
          <a:xfrm>
            <a:off x="996840" y="4273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96" name=""/>
          <p:cNvSpPr/>
          <p:nvPr/>
        </p:nvSpPr>
        <p:spPr>
          <a:xfrm>
            <a:off x="99684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97" name=""/>
          <p:cNvSpPr/>
          <p:nvPr/>
        </p:nvSpPr>
        <p:spPr>
          <a:xfrm>
            <a:off x="175896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>
            <a:off x="304920" y="5029200"/>
            <a:ext cx="37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D,B,G,E,A,C,H,F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 rot="20040000">
            <a:off x="101520" y="2997000"/>
            <a:ext cx="3683160" cy="711000"/>
          </a:xfrm>
          <a:prstGeom prst="rect">
            <a:avLst/>
          </a:prstGeom>
          <a:noFill/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fe9b03"/>
                </a:solidFill>
                <a:latin typeface="Arial"/>
                <a:cs typeface="David"/>
              </a:rPr>
              <a:t>העץ נסרק</a:t>
            </a:r>
            <a:endParaRPr b="0" lang="en-US" sz="5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74320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8108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2108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74284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21080" y="4273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121896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8284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58960" y="1987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297180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456840" y="297180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41200" y="3517920"/>
            <a:ext cx="35568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218960" y="373392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4280040"/>
            <a:ext cx="355680" cy="35532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03320" y="2755800"/>
            <a:ext cx="35568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65440" y="3517920"/>
            <a:ext cx="35532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4105440" y="2057400"/>
            <a:ext cx="4657680" cy="2222640"/>
            <a:chOff x="4105440" y="2057400"/>
            <a:chExt cx="4657680" cy="2222640"/>
          </a:xfrm>
        </p:grpSpPr>
        <p:sp>
          <p:nvSpPr>
            <p:cNvPr id="176" name=""/>
            <p:cNvSpPr/>
            <p:nvPr/>
          </p:nvSpPr>
          <p:spPr>
            <a:xfrm>
              <a:off x="4197240" y="2063880"/>
              <a:ext cx="455940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467400" y="2057400"/>
              <a:ext cx="2295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467400" y="20574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467400" y="3200400"/>
              <a:ext cx="1533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763040" y="32004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839000" y="3581280"/>
              <a:ext cx="69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105440" y="2819520"/>
              <a:ext cx="2066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763040" y="28195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238800" y="32004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705640" y="281952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10000" y="3581280"/>
              <a:ext cx="17622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705640" y="358128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91640" y="24382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620040" y="2438280"/>
              <a:ext cx="10760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עץ-ריק?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162840" y="243828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120" y="2438280"/>
              <a:ext cx="923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4121280" y="2368440"/>
            <a:ext cx="4559040" cy="196848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91440" y="236232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91440" y="236232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391440" y="3505320"/>
            <a:ext cx="153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686720" y="35053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763040" y="3886200"/>
            <a:ext cx="695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029120" y="3124080"/>
            <a:ext cx="2066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686720" y="31240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162840" y="350532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629320" y="312408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00ff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334040" y="3886200"/>
            <a:ext cx="1761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629320" y="388620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915320" y="27432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543720" y="2743200"/>
            <a:ext cx="107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86520" y="27432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543800" y="2743200"/>
            <a:ext cx="92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191120" y="20574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1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114800" y="236232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2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74320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98108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2108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274284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21080" y="4273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121896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8284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758960" y="1987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1932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5684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41200" y="3517920"/>
            <a:ext cx="35568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121896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96840" y="4273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9684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5896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4105440" y="2057400"/>
            <a:ext cx="4657680" cy="2222640"/>
            <a:chOff x="4105440" y="2057400"/>
            <a:chExt cx="4657680" cy="2222640"/>
          </a:xfrm>
        </p:grpSpPr>
        <p:sp>
          <p:nvSpPr>
            <p:cNvPr id="226" name=""/>
            <p:cNvSpPr/>
            <p:nvPr/>
          </p:nvSpPr>
          <p:spPr>
            <a:xfrm>
              <a:off x="4197240" y="2063880"/>
              <a:ext cx="455940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467400" y="2057400"/>
              <a:ext cx="2295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467400" y="20574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467400" y="3200400"/>
              <a:ext cx="1533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763040" y="32004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839000" y="3581280"/>
              <a:ext cx="69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105440" y="2819520"/>
              <a:ext cx="2066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763040" y="28195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238800" y="32004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705640" y="281952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410000" y="3581280"/>
              <a:ext cx="17622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705640" y="358128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91640" y="24382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620040" y="2438280"/>
              <a:ext cx="10760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עץ-ריק?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62840" y="243828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620120" y="2438280"/>
              <a:ext cx="923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4121280" y="2368440"/>
            <a:ext cx="4559040" cy="196848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91440" y="236232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391440" y="236232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467400" y="3505320"/>
            <a:ext cx="1533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763040" y="35053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839000" y="3886200"/>
            <a:ext cx="695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105440" y="3124080"/>
            <a:ext cx="2066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763040" y="31240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238800" y="350532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705640" y="312408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10000" y="3886200"/>
            <a:ext cx="1762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05640" y="388620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915320" y="27432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620040" y="2743200"/>
            <a:ext cx="10760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162840" y="274320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620120" y="2743200"/>
            <a:ext cx="92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44960" y="2673360"/>
            <a:ext cx="4559400" cy="1968480"/>
          </a:xfrm>
          <a:prstGeom prst="roundRect">
            <a:avLst>
              <a:gd name="adj" fmla="val 12495"/>
            </a:avLst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15120" y="266688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315120" y="266688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15120" y="3809880"/>
            <a:ext cx="1533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610400" y="38098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686720" y="4191120"/>
            <a:ext cx="695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952800" y="3429000"/>
            <a:ext cx="20671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610400" y="34290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086520" y="380988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553000" y="3429000"/>
            <a:ext cx="229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257720" y="4191120"/>
            <a:ext cx="1762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553000" y="4191120"/>
            <a:ext cx="229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839000" y="30481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67400" y="3048120"/>
            <a:ext cx="107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010200" y="304812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467480" y="3048120"/>
            <a:ext cx="924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191120" y="20574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1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114800" y="236232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2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038480" y="266688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3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274320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98108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52108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274284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521080" y="4273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121896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28284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758960" y="1987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21932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5684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41200" y="3517920"/>
            <a:ext cx="35568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121896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96840" y="4273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9684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75896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4105440" y="2057400"/>
            <a:ext cx="4657680" cy="2222640"/>
            <a:chOff x="4105440" y="2057400"/>
            <a:chExt cx="4657680" cy="2222640"/>
          </a:xfrm>
        </p:grpSpPr>
        <p:sp>
          <p:nvSpPr>
            <p:cNvPr id="293" name=""/>
            <p:cNvSpPr/>
            <p:nvPr/>
          </p:nvSpPr>
          <p:spPr>
            <a:xfrm>
              <a:off x="4197240" y="2063880"/>
              <a:ext cx="455940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467400" y="2057400"/>
              <a:ext cx="2295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67400" y="20574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467400" y="3200400"/>
              <a:ext cx="1533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763040" y="32004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839000" y="3581280"/>
              <a:ext cx="69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105440" y="2819520"/>
              <a:ext cx="2066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763040" y="28195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238800" y="32004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705640" y="281952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10000" y="3581280"/>
              <a:ext cx="17622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705640" y="358128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991640" y="24382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20040" y="2438280"/>
              <a:ext cx="10760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עץ-ריק?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162840" y="243828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620120" y="2438280"/>
              <a:ext cx="923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4121280" y="2368440"/>
            <a:ext cx="4559040" cy="196848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391440" y="236232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391440" y="236232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467400" y="3505320"/>
            <a:ext cx="1533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763040" y="35053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839000" y="3886200"/>
            <a:ext cx="695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105440" y="3124080"/>
            <a:ext cx="2066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763040" y="31240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238800" y="350532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705640" y="312408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00ff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10000" y="3886200"/>
            <a:ext cx="1762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705640" y="388620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620040" y="2743200"/>
            <a:ext cx="10760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162840" y="274320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620120" y="2743200"/>
            <a:ext cx="92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044960" y="2673360"/>
            <a:ext cx="4559400" cy="1968480"/>
          </a:xfrm>
          <a:prstGeom prst="roundRect">
            <a:avLst>
              <a:gd name="adj" fmla="val 12495"/>
            </a:avLst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315120" y="266688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315120" y="266688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315120" y="3809880"/>
            <a:ext cx="1533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610400" y="38098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686720" y="4191120"/>
            <a:ext cx="695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952800" y="3429000"/>
            <a:ext cx="20671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610400" y="34290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086520" y="380988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553000" y="3429000"/>
            <a:ext cx="229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00ff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257720" y="4191120"/>
            <a:ext cx="1762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553000" y="4191120"/>
            <a:ext cx="229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839000" y="30481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467400" y="3048120"/>
            <a:ext cx="107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010200" y="304812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467480" y="3048120"/>
            <a:ext cx="924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191120" y="20574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1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114800" y="236232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2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038480" y="266688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3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274320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98108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52108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274284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521080" y="4273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121896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28284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758960" y="1987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21932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45684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3508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121896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996840" y="4273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9684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75896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4105440" y="2057400"/>
            <a:ext cx="4657680" cy="2222640"/>
            <a:chOff x="4105440" y="2057400"/>
            <a:chExt cx="4657680" cy="2222640"/>
          </a:xfrm>
        </p:grpSpPr>
        <p:sp>
          <p:nvSpPr>
            <p:cNvPr id="359" name=""/>
            <p:cNvSpPr/>
            <p:nvPr/>
          </p:nvSpPr>
          <p:spPr>
            <a:xfrm>
              <a:off x="4197240" y="2063880"/>
              <a:ext cx="455940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467400" y="2057400"/>
              <a:ext cx="2295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467400" y="20574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467400" y="3200400"/>
              <a:ext cx="1533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763040" y="32004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39000" y="3581280"/>
              <a:ext cx="69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05440" y="2819520"/>
              <a:ext cx="2066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63040" y="28195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238800" y="32004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705640" y="281952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410000" y="3581280"/>
              <a:ext cx="17622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705640" y="358128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991640" y="24382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620040" y="2438280"/>
              <a:ext cx="10760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עץ-ריק?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162840" y="243828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620120" y="2438280"/>
              <a:ext cx="923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4029120" y="2362320"/>
            <a:ext cx="4657680" cy="2222640"/>
            <a:chOff x="4029120" y="2362320"/>
            <a:chExt cx="4657680" cy="2222640"/>
          </a:xfrm>
        </p:grpSpPr>
        <p:sp>
          <p:nvSpPr>
            <p:cNvPr id="376" name=""/>
            <p:cNvSpPr/>
            <p:nvPr/>
          </p:nvSpPr>
          <p:spPr>
            <a:xfrm>
              <a:off x="4121280" y="2368440"/>
              <a:ext cx="455904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391440" y="236232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391440" y="236232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391440" y="3505320"/>
              <a:ext cx="15332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686720" y="35053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763040" y="3886200"/>
              <a:ext cx="6951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29120" y="3124080"/>
              <a:ext cx="2066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686720" y="31240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62840" y="350532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629320" y="312408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334040" y="3886200"/>
              <a:ext cx="17618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629320" y="388620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915320" y="27432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543720" y="2743200"/>
              <a:ext cx="10764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עץ-ריק?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086520" y="27432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543800" y="2743200"/>
              <a:ext cx="923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4044960" y="2673360"/>
            <a:ext cx="4559400" cy="1968480"/>
          </a:xfrm>
          <a:prstGeom prst="roundRect">
            <a:avLst>
              <a:gd name="adj" fmla="val 12495"/>
            </a:avLst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315120" y="266688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315120" y="266688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391440" y="3809880"/>
            <a:ext cx="153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686720" y="38098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763040" y="4191120"/>
            <a:ext cx="695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029120" y="3429000"/>
            <a:ext cx="2066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686720" y="34290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162840" y="380988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629320" y="342900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334040" y="4191120"/>
            <a:ext cx="1761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629320" y="419112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543720" y="3048120"/>
            <a:ext cx="107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086520" y="304812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543800" y="3048120"/>
            <a:ext cx="92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968640" y="2978280"/>
            <a:ext cx="4559400" cy="1968480"/>
          </a:xfrm>
          <a:prstGeom prst="roundRect">
            <a:avLst>
              <a:gd name="adj" fmla="val 12495"/>
            </a:avLst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238800" y="2971800"/>
            <a:ext cx="229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238800" y="29718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238800" y="4114800"/>
            <a:ext cx="1533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534440" y="41148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610400" y="4495680"/>
            <a:ext cx="695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876840" y="3733920"/>
            <a:ext cx="2066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34440" y="37339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010200" y="41148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477040" y="373392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181400" y="4495680"/>
            <a:ext cx="1762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477040" y="449568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763040" y="33526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391440" y="3352680"/>
            <a:ext cx="10760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934240" y="335268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391520" y="3352680"/>
            <a:ext cx="92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191120" y="20574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1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114800" y="236232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2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038480" y="266688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3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962520" y="29718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4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274320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98108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2108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274284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21080" y="4273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121896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8284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758960" y="1987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21932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45684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3508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121896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996840" y="4273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99684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75896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4105440" y="2057400"/>
            <a:ext cx="4657680" cy="2222640"/>
            <a:chOff x="4105440" y="2057400"/>
            <a:chExt cx="4657680" cy="2222640"/>
          </a:xfrm>
        </p:grpSpPr>
        <p:sp>
          <p:nvSpPr>
            <p:cNvPr id="443" name=""/>
            <p:cNvSpPr/>
            <p:nvPr/>
          </p:nvSpPr>
          <p:spPr>
            <a:xfrm>
              <a:off x="4197240" y="2063880"/>
              <a:ext cx="455940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467400" y="2057400"/>
              <a:ext cx="2295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467400" y="20574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467400" y="3200400"/>
              <a:ext cx="1533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763040" y="32004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839000" y="3581280"/>
              <a:ext cx="69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105440" y="2819520"/>
              <a:ext cx="2066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763040" y="28195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238800" y="32004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05640" y="281952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410000" y="3581280"/>
              <a:ext cx="17622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705640" y="358128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991640" y="24382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620040" y="2438280"/>
              <a:ext cx="10760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עץ-ריק?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162840" y="243828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620120" y="2438280"/>
              <a:ext cx="923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4029120" y="2362320"/>
            <a:ext cx="4657680" cy="2222640"/>
            <a:chOff x="4029120" y="2362320"/>
            <a:chExt cx="4657680" cy="2222640"/>
          </a:xfrm>
        </p:grpSpPr>
        <p:sp>
          <p:nvSpPr>
            <p:cNvPr id="460" name=""/>
            <p:cNvSpPr/>
            <p:nvPr/>
          </p:nvSpPr>
          <p:spPr>
            <a:xfrm>
              <a:off x="4121280" y="2368440"/>
              <a:ext cx="455904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391440" y="236232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391440" y="236232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391440" y="3505320"/>
              <a:ext cx="15332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686720" y="35053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763040" y="3886200"/>
              <a:ext cx="6951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029120" y="3124080"/>
              <a:ext cx="2066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686720" y="31240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162840" y="350532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629320" y="312408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334040" y="3886200"/>
              <a:ext cx="17618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629320" y="388620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915320" y="27432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543720" y="2743200"/>
              <a:ext cx="10764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עץ-ריק?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086520" y="27432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543800" y="2743200"/>
              <a:ext cx="923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4044960" y="2673360"/>
            <a:ext cx="4559400" cy="1968480"/>
          </a:xfrm>
          <a:prstGeom prst="roundRect">
            <a:avLst>
              <a:gd name="adj" fmla="val 12495"/>
            </a:avLst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315120" y="266688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315120" y="266688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391440" y="3809880"/>
            <a:ext cx="153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686720" y="38098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763040" y="4191120"/>
            <a:ext cx="695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029120" y="3429000"/>
            <a:ext cx="2066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686720" y="34290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162840" y="380988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629320" y="342900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334040" y="4191120"/>
            <a:ext cx="1761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629320" y="419112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839000" y="30481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543720" y="3048120"/>
            <a:ext cx="107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086520" y="304812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543800" y="3048120"/>
            <a:ext cx="92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968640" y="2978280"/>
            <a:ext cx="4559400" cy="1968480"/>
          </a:xfrm>
          <a:prstGeom prst="roundRect">
            <a:avLst>
              <a:gd name="adj" fmla="val 12495"/>
            </a:avLst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238800" y="2971800"/>
            <a:ext cx="229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238800" y="29718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238800" y="4114800"/>
            <a:ext cx="1533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534440" y="41148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610400" y="4495680"/>
            <a:ext cx="695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876840" y="3733920"/>
            <a:ext cx="2066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534440" y="37339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010200" y="41148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477040" y="373392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181400" y="4495680"/>
            <a:ext cx="1762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477040" y="449568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763040" y="33526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391440" y="3352680"/>
            <a:ext cx="10760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00ff00"/>
                </a:solidFill>
                <a:latin typeface="Arial"/>
                <a:cs typeface="David"/>
              </a:rPr>
              <a:t>עץ-ריק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934240" y="335268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391520" y="3352680"/>
            <a:ext cx="92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ff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191120" y="20574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1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114800" y="236232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2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038480" y="266688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3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962520" y="29718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4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274320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98108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52108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274284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521080" y="4273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flipH="1">
            <a:off x="121896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28284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758960" y="1987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21932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45684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41200" y="3517920"/>
            <a:ext cx="355680" cy="3556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121896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996840" y="4273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99684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75896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04920" y="5029200"/>
            <a:ext cx="37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4105440" y="2057400"/>
            <a:ext cx="4657680" cy="2222640"/>
            <a:chOff x="4105440" y="2057400"/>
            <a:chExt cx="4657680" cy="2222640"/>
          </a:xfrm>
        </p:grpSpPr>
        <p:sp>
          <p:nvSpPr>
            <p:cNvPr id="529" name=""/>
            <p:cNvSpPr/>
            <p:nvPr/>
          </p:nvSpPr>
          <p:spPr>
            <a:xfrm>
              <a:off x="4197240" y="2063880"/>
              <a:ext cx="455940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467400" y="2057400"/>
              <a:ext cx="2295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467400" y="20574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467400" y="3200400"/>
              <a:ext cx="1533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763040" y="32004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839000" y="3581280"/>
              <a:ext cx="69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105440" y="2819520"/>
              <a:ext cx="2066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763040" y="28195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238800" y="32004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705640" y="281952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410000" y="3581280"/>
              <a:ext cx="17622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705640" y="358128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991640" y="24382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620040" y="2438280"/>
              <a:ext cx="10760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עץ-ריק?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62840" y="243828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620120" y="2438280"/>
              <a:ext cx="923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4029120" y="2362320"/>
            <a:ext cx="4657680" cy="2222640"/>
            <a:chOff x="4029120" y="2362320"/>
            <a:chExt cx="4657680" cy="2222640"/>
          </a:xfrm>
        </p:grpSpPr>
        <p:sp>
          <p:nvSpPr>
            <p:cNvPr id="546" name=""/>
            <p:cNvSpPr/>
            <p:nvPr/>
          </p:nvSpPr>
          <p:spPr>
            <a:xfrm>
              <a:off x="4121280" y="2368440"/>
              <a:ext cx="455904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391440" y="236232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391440" y="236232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391440" y="3505320"/>
              <a:ext cx="15332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686720" y="35053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763040" y="3886200"/>
              <a:ext cx="6951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029120" y="3124080"/>
              <a:ext cx="2066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686720" y="31240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162840" y="350532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629320" y="312408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334040" y="3886200"/>
              <a:ext cx="17618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629320" y="388620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915320" y="27432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543720" y="2743200"/>
              <a:ext cx="10764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עץ-ריק?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086520" y="27432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543800" y="2743200"/>
              <a:ext cx="923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7839000" y="30481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044960" y="2673360"/>
            <a:ext cx="4559400" cy="1968480"/>
          </a:xfrm>
          <a:prstGeom prst="roundRect">
            <a:avLst>
              <a:gd name="adj" fmla="val 12495"/>
            </a:avLst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315120" y="266688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315120" y="266688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315120" y="3809880"/>
            <a:ext cx="1533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00ff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7610400" y="38098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7686720" y="4191120"/>
            <a:ext cx="695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952800" y="3429000"/>
            <a:ext cx="20671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610400" y="34290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086520" y="380988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553000" y="3429000"/>
            <a:ext cx="229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257720" y="4191120"/>
            <a:ext cx="1762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553000" y="4191120"/>
            <a:ext cx="229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839000" y="30481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467400" y="3048120"/>
            <a:ext cx="107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010200" y="304812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467480" y="3048120"/>
            <a:ext cx="924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191120" y="20574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1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114800" y="236232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2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038480" y="266688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3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0-21T18:40:56Z</dcterms:created>
  <dc:creator>MicroSoft Office</dc:creator>
  <dc:description/>
  <dc:language>en-US</dc:language>
  <cp:lastModifiedBy>Tal</cp:lastModifiedBy>
  <dcterms:modified xsi:type="dcterms:W3CDTF">2004-07-24T16:11:34Z</dcterms:modified>
  <cp:revision>16</cp:revision>
  <dc:subject/>
  <dc:title>שקופית 1</dc:title>
</cp:coreProperties>
</file>