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778-0958-4BF2-A6C3-D148FCC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7E3-115C-4B7C-B1A5-02F3713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B26-6832-4DFB-A315-7367DD08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B60-4FD3-4D58-9550-DA4D5BF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E4A-D321-4381-9DE2-074E796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D92-F6C5-4516-BBDB-50B249CD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306-BEC5-4E4E-A9B3-1D8A381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AE5-23F7-4F01-8B0F-45C87D1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673-0341-4F03-B5BA-50969F9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734-7A8D-47FF-AE15-F19187E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4C8-E884-4F6A-A4EB-5123AA16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A19-8396-4149-8D09-E6026D4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D3DD-C821-4CAC-A164-EBEECAA17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ec_forbid.PPT" TargetMode="External"/><Relationship Id="rId2" Type="http://schemas.openxmlformats.org/officeDocument/2006/relationships/hyperlink" Target="file:///rec_patt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0880" y="2666880"/>
            <a:ext cx="1828800" cy="990720"/>
          </a:xfrm>
          <a:prstGeom prst="cloudCallout">
            <a:avLst>
              <a:gd name="adj1" fmla="val 107203"/>
              <a:gd name="adj2" fmla="val -9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גיאות נפוצ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200400" y="762120"/>
            <a:ext cx="2133720" cy="990360"/>
          </a:xfrm>
          <a:prstGeom prst="cloudCallout">
            <a:avLst>
              <a:gd name="adj1" fmla="val 819"/>
              <a:gd name="adj2" fmla="val 13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רקורסי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2T07:30:04Z</dcterms:modified>
  <cp:revision>66</cp:revision>
  <dc:subject/>
  <dc:title>עולמנו המופלא</dc:title>
</cp:coreProperties>
</file>