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B2D-2807-42AA-9B58-008CBAC2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10A-F00D-4C87-AB50-5490D812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4B7-73BF-43E1-8177-04666F2F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D669-2C6E-4BE4-A771-D76B044B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998-B1AD-4FED-938A-7904822F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32CD-AF67-44E8-8577-CB21494D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D7D-BE41-452A-8B03-9F400508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108-94AB-4837-9B18-FAD39843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758-312A-4439-9445-83C443BB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917-CE6C-40C4-A802-4E924F2A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A899-E2E1-4D52-A730-770D2126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865-8631-4EA6-95C3-5CD1D700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78CD-F423-4841-A8A4-B6E9F4ECF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r_in.PPT" TargetMode="External"/><Relationship Id="rId2" Type="http://schemas.openxmlformats.org/officeDocument/2006/relationships/hyperlink" Target="file:///tr_pre.PPT" TargetMode="External"/><Relationship Id="rId3" Type="http://schemas.openxmlformats.org/officeDocument/2006/relationships/hyperlink" Target="file:///tr_expcalc.PPT" TargetMode="External"/><Relationship Id="rId4" Type="http://schemas.openxmlformats.org/officeDocument/2006/relationships/image" Target="../media/image1.wmf"/><Relationship Id="rId5" Type="http://schemas.openxmlformats.org/officeDocument/2006/relationships/hyperlink" Target="file:///tr_levels.PPT" TargetMode="External"/><Relationship Id="rId6" Type="http://schemas.openxmlformats.org/officeDocument/2006/relationships/hyperlink" Target="file:///tr_srch.PPT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1371600" y="609480"/>
            <a:ext cx="1905120" cy="990720"/>
          </a:xfrm>
          <a:prstGeom prst="cloudCallout">
            <a:avLst>
              <a:gd name="adj1" fmla="val 75416"/>
              <a:gd name="adj2" fmla="val 1091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סריקה בסדר תוכ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6019920" y="457200"/>
            <a:ext cx="2133360" cy="990720"/>
          </a:xfrm>
          <a:prstGeom prst="cloudCallout">
            <a:avLst>
              <a:gd name="adj1" fmla="val -76638"/>
              <a:gd name="adj2" fmla="val 1301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סריקה בסדר תחיל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/>
          </p:cNvPr>
          <p:cNvSpPr/>
          <p:nvPr/>
        </p:nvSpPr>
        <p:spPr>
          <a:xfrm>
            <a:off x="457200" y="3276720"/>
            <a:ext cx="2133720" cy="990360"/>
          </a:xfrm>
          <a:prstGeom prst="cloudCallout">
            <a:avLst>
              <a:gd name="adj1" fmla="val 96356"/>
              <a:gd name="adj2" fmla="val -245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חישוב ביטוי חשבונ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505320" y="2209680"/>
            <a:ext cx="1963440" cy="22226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5"/>
          </p:cNvPr>
          <p:cNvSpPr/>
          <p:nvPr/>
        </p:nvSpPr>
        <p:spPr>
          <a:xfrm>
            <a:off x="3486240" y="5257800"/>
            <a:ext cx="2133360" cy="990720"/>
          </a:xfrm>
          <a:prstGeom prst="cloudCallout">
            <a:avLst>
              <a:gd name="adj1" fmla="val -967"/>
              <a:gd name="adj2" fmla="val -1379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סריקה לפי רמו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/>
          </p:cNvPr>
          <p:cNvSpPr/>
          <p:nvPr/>
        </p:nvSpPr>
        <p:spPr>
          <a:xfrm>
            <a:off x="6477120" y="3276720"/>
            <a:ext cx="2133360" cy="990360"/>
          </a:xfrm>
          <a:prstGeom prst="cloudCallout">
            <a:avLst>
              <a:gd name="adj1" fmla="val -109004"/>
              <a:gd name="adj2" fmla="val -129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בנית עץ חיפו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10:50Z</dcterms:created>
  <dc:creator>חיים אברבוך</dc:creator>
  <dc:description/>
  <dc:language>en-US</dc:language>
  <cp:lastModifiedBy>hila</cp:lastModifiedBy>
  <dcterms:modified xsi:type="dcterms:W3CDTF">2004-08-05T13:46:09Z</dcterms:modified>
  <cp:revision>63</cp:revision>
  <dc:subject/>
  <dc:title>עולמנו המופלא</dc:title>
</cp:coreProperties>
</file>