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dfc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e64"/>
                </a:gs>
                <a:gs pos="50000">
                  <a:srgbClr val="00dfca"/>
                </a:gs>
                <a:gs pos="100000">
                  <a:srgbClr val="006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65f7f"/>
                </a:gs>
                <a:gs pos="50000">
                  <a:srgbClr val="d989b8"/>
                </a:gs>
                <a:gs pos="100000">
                  <a:srgbClr val="965f7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rtl="1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 rtl="1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 rtl="1">
              <a:spcBef>
                <a:spcPts val="79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 rtl="1">
              <a:spcBef>
                <a:spcPts val="799"/>
              </a:spcBef>
              <a:buClr>
                <a:srgbClr val="00ff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 rtl="1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 rtl="1">
              <a:spcBef>
                <a:spcPts val="799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 rtl="1">
              <a:spcBef>
                <a:spcPts val="799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25560">
            <a:solidFill>
              <a:srgbClr val="d98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8640" y="6407280"/>
            <a:ext cx="83026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8cf4ea"/>
                </a:solidFill>
                <a:latin typeface="Arial"/>
                <a:cs typeface="David"/>
              </a:rPr>
              <a:t>מצגות בעיצוב תכנה - המרכז להוראת המדעים, האונ’ העברית בי-ם - תשנ”ז         שקף מס' </a:t>
            </a:r>
            <a:fld id="{E7775D1F-0A6C-47FD-A232-1892982749B7}" type="slidenum">
              <a:rPr b="0" lang="he-IL" sz="1400" spc="-1" strike="noStrike">
                <a:solidFill>
                  <a:srgbClr val="8cf4ea"/>
                </a:solidFill>
                <a:latin typeface="Arial"/>
                <a:ea typeface="David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152280"/>
            <a:ext cx="183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afd00"/>
                </a:solidFill>
                <a:latin typeface="Arial"/>
                <a:cs typeface="David"/>
              </a:rPr>
              <a:t>עץ בינרי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57080" y="685800"/>
            <a:ext cx="75535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dfca"/>
                </a:solidFill>
                <a:latin typeface="Arial"/>
                <a:cs typeface="David"/>
              </a:rPr>
              <a:t>חישוב ערכו של עץ ביטוי חשבוני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00400" y="403848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2437920" y="403848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22640" y="458460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46520" y="45846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10080" y="487692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2590920"/>
            <a:ext cx="1371600" cy="13716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200400" y="2590920"/>
            <a:ext cx="1371600" cy="13716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32320" y="23749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4647960" y="487692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84400" y="38228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32320" y="54230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411480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409720" y="411480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56200" y="38988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56200" y="54230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94440" y="46609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18320" y="46609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152388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afd00"/>
                </a:solidFill>
                <a:latin typeface="Arial"/>
                <a:cs typeface="David"/>
              </a:rPr>
              <a:t>מהו ערכו של הביטוי המיוצג על ידי העץ: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200400" y="403848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437920" y="403848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22640" y="458460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46520" y="45846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487692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48320" y="2590920"/>
            <a:ext cx="1371600" cy="13716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200400" y="2590920"/>
            <a:ext cx="1371600" cy="13716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32320" y="23749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647960" y="487692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84400" y="38228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32320" y="54230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72200" y="411480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409720" y="411480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56200" y="38988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56200" y="54230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94440" y="46609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718320" y="46609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200400" y="403848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437920" y="403848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22640" y="458460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46520" y="45846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10080" y="487692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48320" y="2590920"/>
            <a:ext cx="1371600" cy="13716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3200400" y="2590920"/>
            <a:ext cx="1371600" cy="13716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32320" y="23749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647960" y="487692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984400" y="38228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32320" y="54230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72200" y="411480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409720" y="411480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956200" y="38988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956200" y="54230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194440" y="46609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718320" y="46609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200400" y="403848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437920" y="403848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22640" y="458460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746520" y="45846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10080" y="48769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590920"/>
            <a:ext cx="1371600" cy="13716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200400" y="2590920"/>
            <a:ext cx="1371600" cy="13716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32320" y="23749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647960" y="48769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984400" y="38228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432320" y="54230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72200" y="411480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409720" y="411480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56200" y="38988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956200" y="54230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94440" y="46609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18320" y="46609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200400" y="403848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437920" y="403848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22640" y="458460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46520" y="45846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410080" y="48769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648320" y="2590920"/>
            <a:ext cx="1371600" cy="13716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200400" y="2590920"/>
            <a:ext cx="1371600" cy="13716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32320" y="23749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647960" y="48769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84400" y="38228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432320" y="54230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72200" y="411480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409720" y="411480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956200" y="38988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956200" y="54230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194440" y="46609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18320" y="46609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200400" y="403848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2437920" y="403848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22640" y="458460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46520" y="45846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410080" y="48769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8320" y="2590920"/>
            <a:ext cx="1371600" cy="13716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200400" y="2590920"/>
            <a:ext cx="1371600" cy="13716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32320" y="23749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4647960" y="48769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984400" y="38228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32320" y="54230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72200" y="41148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5409720" y="41148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56200" y="38988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956200" y="54230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94440" y="46609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718320" y="46609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200400" y="403848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2437920" y="403848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22640" y="458460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746520" y="45846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8769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590920"/>
            <a:ext cx="1371600" cy="13716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200400" y="2590920"/>
            <a:ext cx="1371600" cy="13716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32320" y="23749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647960" y="48769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84400" y="38228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432320" y="54230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172200" y="41148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5409720" y="41148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956200" y="38988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956200" y="54230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94440" y="46609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718320" y="46609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200400" y="40384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437920" y="40384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222640" y="458460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46520" y="45846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410080" y="48769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48320" y="2590920"/>
            <a:ext cx="1371600" cy="13716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3200400" y="2590920"/>
            <a:ext cx="1371600" cy="13716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432320" y="23749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4647960" y="48769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984400" y="38228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432320" y="54230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72200" y="41148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409720" y="41148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956200" y="38988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956200" y="54230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94440" y="46609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718320" y="46609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200400" y="40384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2437920" y="40384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222640" y="458460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746520" y="45846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410080" y="48769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48320" y="2590920"/>
            <a:ext cx="1371600" cy="13716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3200400" y="2590920"/>
            <a:ext cx="1371600" cy="13716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432320" y="23749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4647960" y="48769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984400" y="38228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432320" y="54230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172200" y="41148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5409720" y="41148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56200" y="38988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956200" y="54230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194440" y="46609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718320" y="46609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200400" y="40384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2437920" y="40384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222640" y="458460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746520" y="45846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48769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648320" y="2590920"/>
            <a:ext cx="1371600" cy="13716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3200400" y="2590920"/>
            <a:ext cx="1371600" cy="13716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32320" y="23749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647960" y="48769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84400" y="38228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432320" y="54230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172200" y="41148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5409720" y="41148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956200" y="38988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56200" y="54230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194440" y="46609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718320" y="46609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76200" y="2057400"/>
            <a:ext cx="3362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afd00"/>
                </a:solidFill>
                <a:latin typeface="Arial"/>
                <a:cs typeface="David"/>
              </a:rPr>
              <a:t>ערך הביטוי :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  <a:ea typeface="David"/>
              </a:rPr>
              <a:t>12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00400" y="40384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437920" y="40384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22640" y="458460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46520" y="45846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48769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8320" y="2590920"/>
            <a:ext cx="1371600" cy="13716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200400" y="2590920"/>
            <a:ext cx="1371600" cy="13716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32320" y="23749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647960" y="48769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84400" y="38228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32320" y="54230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72200" y="41148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409720" y="41148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56200" y="38988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56200" y="54230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94440" y="46609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18320" y="46609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00400" y="40384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437920" y="40384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22640" y="458460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46520" y="45846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10080" y="487692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2590920"/>
            <a:ext cx="1371600" cy="13716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590920"/>
            <a:ext cx="1371600" cy="13716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32320" y="23749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647960" y="487692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84400" y="38228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32320" y="54230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411480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09720" y="411480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56200" y="38988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56200" y="54230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94440" y="46609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18320" y="46609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00400" y="403848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437920" y="403848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22640" y="458460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46520" y="45846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10080" y="487692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2590920"/>
            <a:ext cx="1371600" cy="13716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200400" y="2590920"/>
            <a:ext cx="1371600" cy="13716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32320" y="23749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647960" y="487692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84400" y="38228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32320" y="54230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72200" y="411480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409720" y="411480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56200" y="38988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56200" y="54230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94440" y="46609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18320" y="46609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00400" y="403848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437920" y="403848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22640" y="458460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487692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2590920"/>
            <a:ext cx="1371600" cy="13716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200400" y="2590920"/>
            <a:ext cx="1371600" cy="13716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32320" y="23749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647960" y="487692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84400" y="38228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32320" y="54230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411480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409720" y="411480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56200" y="38988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56200" y="54230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94440" y="46609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18320" y="46609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46520" y="45846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200400" y="40384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437920" y="40384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22640" y="458460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46520" y="45846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10080" y="487692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2590920"/>
            <a:ext cx="1371600" cy="13716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200400" y="2590920"/>
            <a:ext cx="1371600" cy="13716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32320" y="23749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647960" y="487692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4400" y="38228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32320" y="54230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411480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409720" y="411480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56200" y="38988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56200" y="54230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46609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18320" y="46609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00400" y="40384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437920" y="403848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22640" y="458460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746520" y="45846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487692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2590920"/>
            <a:ext cx="1371600" cy="13716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400" y="2590920"/>
            <a:ext cx="1371600" cy="13716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432320" y="23749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647960" y="487692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84400" y="38228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32320" y="54230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411480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409720" y="411480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56200" y="38988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56200" y="54230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94440" y="46609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18320" y="46609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200400" y="403848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437920" y="403848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22640" y="458460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46520" y="45846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10080" y="48769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48320" y="2590920"/>
            <a:ext cx="1371600" cy="13716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200400" y="2590920"/>
            <a:ext cx="1371600" cy="13716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32320" y="23749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647960" y="48769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84400" y="38228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32320" y="54230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72200" y="41148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409720" y="41148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956200" y="38988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56200" y="54230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94440" y="46609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718320" y="46609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0031"/>
            </a:gs>
            <a:gs pos="100000">
              <a:srgbClr val="2700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200400" y="403848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437920" y="403848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22640" y="458460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46520" y="45846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10080" y="48769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48320" y="2590920"/>
            <a:ext cx="1371600" cy="13716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200400" y="2590920"/>
            <a:ext cx="1371600" cy="13716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32320" y="23749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647960" y="487692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84400" y="38228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432320" y="54230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72200" y="411480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409720" y="4114800"/>
            <a:ext cx="685800" cy="685800"/>
          </a:xfrm>
          <a:prstGeom prst="line">
            <a:avLst/>
          </a:prstGeom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56200" y="389880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56200" y="5423040"/>
            <a:ext cx="355680" cy="35532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94440" y="4660920"/>
            <a:ext cx="35532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718320" y="4660920"/>
            <a:ext cx="355680" cy="355680"/>
          </a:xfrm>
          <a:prstGeom prst="ellipse">
            <a:avLst/>
          </a:prstGeom>
          <a:solidFill>
            <a:srgbClr val="fcfeb9"/>
          </a:solidFill>
          <a:ln w="255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2T12:48:20Z</dcterms:created>
  <dc:creator>MicroSoft Office</dc:creator>
  <dc:description/>
  <dc:language>en-US</dc:language>
  <cp:lastModifiedBy>Tal</cp:lastModifiedBy>
  <dcterms:modified xsi:type="dcterms:W3CDTF">2004-07-24T15:49:10Z</dcterms:modified>
  <cp:revision>33</cp:revision>
  <dc:subject/>
  <dc:title>שקופית 1</dc:title>
</cp:coreProperties>
</file>