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136-BD64-4D53-B674-C1467F36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AA1-897C-47C5-8BEC-3B517CC8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FC9-6A8B-4DFA-885D-1CF8D2BD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C3F-82BF-41F8-8E30-1C764ABD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5B3-5517-4236-A4D3-2AD738A3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BBB-178C-49F4-A649-39547936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E85-94DD-4B2F-8F4D-E269B06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81E-C44F-4EC9-A21E-F3016449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433-AD4D-4A52-ABB6-E224B330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D3A-EDEF-4264-83EE-F5192476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089-77FD-4231-BD95-59B02B35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02A-5B14-4496-8006-A594535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7A37CD95-BB31-4F61-955D-BAF78F5173E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16360" y="620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Arial"/>
                <a:cs typeface="David Transparent"/>
              </a:rPr>
              <a:t>מחלקת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  <a:ea typeface="David Transparent"/>
              </a:rPr>
              <a:t> </a:t>
            </a:r>
            <a:r>
              <a:rPr b="1" lang="he-IL" sz="4800" spc="-1" strike="noStrike">
                <a:solidFill>
                  <a:srgbClr val="ff3300"/>
                </a:solidFill>
                <a:latin typeface="Arial"/>
                <a:cs typeface="David Transparent"/>
              </a:rPr>
              <a:t>רשימה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3" name=""/>
          <p:cNvSpPr/>
          <p:nvPr/>
        </p:nvSpPr>
        <p:spPr>
          <a:xfrm>
            <a:off x="1568520" y="1163520"/>
            <a:ext cx="55958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בניה של רשימה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שרשור רשימו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3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נמצא-ברשימה?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4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מקום-ברשימה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5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מחיקת אברים מרשימ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6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עברות ברשימ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4.7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יפוך רשימ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1760" y="1431000"/>
            <a:ext cx="2950200" cy="3059280"/>
            <a:chOff x="221760" y="1431000"/>
            <a:chExt cx="2950200" cy="30592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 rot="19817400">
              <a:off x="1782000" y="1700280"/>
              <a:ext cx="128736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 rot="19817400">
              <a:off x="323640" y="3466800"/>
              <a:ext cx="128736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 rot="19817400">
              <a:off x="1024560" y="2586240"/>
              <a:ext cx="1287360" cy="75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C89-25AA-495C-A72A-D8E211E321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43120" y="606600"/>
            <a:ext cx="7488000" cy="5760720"/>
            <a:chOff x="843120" y="606600"/>
            <a:chExt cx="7488000" cy="576072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843120" y="606600"/>
              <a:ext cx="7488000" cy="57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511640" y="975600"/>
              <a:ext cx="6150960" cy="50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1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בניה של רשימה</a:t>
              </a:r>
              <a:r>
                <a:rPr b="1" i="1" lang="he-IL" sz="28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סדרה של ערכים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ניית רשימה שמכילה את סדרת הערכים.</a:t>
              </a:r>
              <a:br>
                <a:rPr sz="28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בנה-רשימה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תחל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L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 לא סוף-הסדרה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נתון הבא בסדר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, p, 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ABD-E926-418C-95F4-0375AFADE6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11280" y="692280"/>
            <a:ext cx="7777080" cy="5689440"/>
            <a:chOff x="611280" y="692280"/>
            <a:chExt cx="7777080" cy="568944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11280" y="692280"/>
              <a:ext cx="777708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0000" y="836640"/>
              <a:ext cx="7128000" cy="49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שרשור רשימות</a:t>
              </a:r>
              <a:r>
                <a:rPr b="1" i="1" lang="he-IL" sz="2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שתי רשימו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שרשור הרשימה השנייה לסופה של הרשימה הראשונה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מבלי לקלקל את הרשימה המשורשרת)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שרשר-רשימות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1, L2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קודם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1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1, (L1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2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2, (L2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he-IL" sz="21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2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Times New Roman"/>
                </a:rPr>
                <a:t>≠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Times New Roman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2, p2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1, p1, 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1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1, p1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369720"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2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(L2, p2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A58-491B-4322-BAAE-800652D9AAD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11280" y="692280"/>
            <a:ext cx="7993080" cy="5689440"/>
            <a:chOff x="611280" y="692280"/>
            <a:chExt cx="7993080" cy="56894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611280" y="692280"/>
              <a:ext cx="799308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71640" y="1057320"/>
              <a:ext cx="6918120" cy="49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נמצא ברשימה?</a:t>
              </a:r>
              <a:r>
                <a:rPr b="1" i="1" lang="he-IL" sz="2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רשימה מאותחלת, ערך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פעולה בוליאנית הבודקת האם האיבר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מצא 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נמצא-ברשימה?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, y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(L)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≠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1085760"/>
                  <a:tab algn="l" pos="2171880"/>
                  <a:tab algn="l" pos="3257640"/>
                  <a:tab algn="l" pos="4343400"/>
                  <a:tab algn="l" pos="5429160"/>
                  <a:tab algn="l" pos="6515280"/>
                  <a:tab algn="l" pos="7601040"/>
                  <a:tab algn="l" pos="8686800"/>
                  <a:tab algn="l" pos="9772560"/>
                  <a:tab algn="l" pos="10858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, p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y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  החזר "אמת"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, p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"שקר"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232-8AD9-43D2-87A5-83DAE64C7AC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636480" y="476280"/>
            <a:ext cx="7680600" cy="5759280"/>
            <a:chOff x="636480" y="476280"/>
            <a:chExt cx="7680600" cy="575928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636480" y="476280"/>
              <a:ext cx="7680600" cy="57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00000" y="846000"/>
              <a:ext cx="6742080" cy="50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4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מקום ברשימה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רשימה מאותחלת, ערך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ציאת מקומו של האיבר הראשון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ברשימה אשר בו נמצא ערך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מקיים תנאי ביחס לערך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שניתן כפרמטר</a:t>
              </a:r>
              <a:br>
                <a:rPr sz="20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מקום-ברשימה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, x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(L)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ד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≠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  (L, p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מקיים-תנאי-לבדיקה ביחס ל-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אז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  החזר את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, 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822-719F-4DA2-9885-F81939B43C7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55640" y="333360"/>
            <a:ext cx="7776720" cy="6048360"/>
            <a:chOff x="755640" y="333360"/>
            <a:chExt cx="7776720" cy="6048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8480" y="333360"/>
              <a:ext cx="77338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55640" y="622440"/>
              <a:ext cx="7440480" cy="57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5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מחיקת איברים מרשימה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רשימה מאותחלת 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מחיקת כל המופעים ש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ב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מחק-מרשימה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, x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(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,(L)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  </a:t>
              </a:r>
              <a:br>
                <a:rPr sz="2400"/>
              </a:b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ד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≠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)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בצע</a:t>
              </a:r>
              <a:endParaRPr b="0" lang="en-US" sz="19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r" rtl="1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L, 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)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אזי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   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רשימה 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 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9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L, 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692-CAFA-4E9D-8DD5-12F618FB272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395280" y="333360"/>
            <a:ext cx="8424720" cy="6120000"/>
            <a:chOff x="395280" y="333360"/>
            <a:chExt cx="8424720" cy="61200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95280" y="333360"/>
              <a:ext cx="842472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147320" y="725400"/>
              <a:ext cx="6920280" cy="53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6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עברות ברשימה 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רשימה מאותחל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br>
                <a:rPr sz="1800"/>
              </a:b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עברת כל המספרים המקיימים תנאי לתחילת הרשימה תוך שמירה על הסדר המקורי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ידור-רשימה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Times New Roman"/>
                </a:rPr>
                <a:t>)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os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1700"/>
              </a:b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o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br>
                <a:rPr sz="1700"/>
              </a:b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כל עוד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≠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David"/>
                </a:rPr>
                <a:t>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-רשימה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בצע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x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Davi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מקיים תנאי הבדיקה אזי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רשימה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 לרשימה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os, 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o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br>
                <a:rPr sz="1800"/>
              </a:b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רת </a:t>
              </a:r>
              <a:br>
                <a:rPr sz="17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, 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600-7939-4723-9820-5E662F36CD6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539640" y="476280"/>
            <a:ext cx="7777440" cy="5761080"/>
            <a:chOff x="539640" y="476280"/>
            <a:chExt cx="7777440" cy="576108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539640" y="476280"/>
              <a:ext cx="777744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234080" y="845280"/>
              <a:ext cx="6388560" cy="50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4.7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היפוך רשימה 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רשימה מאותחלת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הפיכת סדר איברי ה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יפוך-רשימה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L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p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Arial"/>
                  <a:ea typeface="Davi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קב-ב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br>
                <a:rPr sz="2000"/>
              </a:b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כל עוד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p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≠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סוף-רשימ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חזר-מרשימה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(L, p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רשימ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,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וגן-רשימה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, (L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 - אוניברסיטת תל-אביב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D87-3DFD-4996-A7B1-CF36D55F603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תבניות בעיצוב תכנה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16:12Z</dcterms:created>
  <dc:creator>averbuch haim</dc:creator>
  <dc:description/>
  <dc:language>en-US</dc:language>
  <cp:lastModifiedBy>Adi</cp:lastModifiedBy>
  <dcterms:modified xsi:type="dcterms:W3CDTF">2004-07-22T07:22:51Z</dcterms:modified>
  <cp:revision>60</cp:revision>
  <dc:subject/>
  <dc:title>תבניות בעיצוב תכנה</dc:title>
</cp:coreProperties>
</file>