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B65-1338-42CC-8A41-675B8845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426-F6AB-47CF-B504-DFBCDA30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2CB-ED04-46B6-A81B-9E5E45A1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308-7749-4AD7-A5E0-F58C2C50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9C4-199C-4C85-849F-B42B97FC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AC6-7984-4BC7-86FB-A742F024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CD4-F46C-4D4C-8037-218F1045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2F2-E71B-4177-A5E2-B26B6427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3D1B-A0E5-498F-BDEA-AE35008D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A15-7A05-49B2-AC41-C40F37F8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2A6-DEA1-43EF-8410-B6606DC0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ABF-30C3-4A97-AEC7-437881DD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1AAD-49D1-4F5B-A469-B2C902192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t_forbid.PPT" TargetMode="External"/><Relationship Id="rId2" Type="http://schemas.openxmlformats.org/officeDocument/2006/relationships/hyperlink" Target="file:///st_unit.PPT" TargetMode="External"/><Relationship Id="rId3" Type="http://schemas.openxmlformats.org/officeDocument/2006/relationships/hyperlink" Target="file:///stack_other.ppt" TargetMode="External"/><Relationship Id="rId4" Type="http://schemas.openxmlformats.org/officeDocument/2006/relationships/hyperlink" Target="file:///st_patt.ppt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304920" y="2476440"/>
            <a:ext cx="1904760" cy="1067040"/>
          </a:xfrm>
          <a:prstGeom prst="cloudCallout">
            <a:avLst>
              <a:gd name="adj1" fmla="val 111833"/>
              <a:gd name="adj2" fmla="val -148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גיאות נפוצו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81320" y="25146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חסני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6629400" y="2552760"/>
            <a:ext cx="2209680" cy="1066680"/>
          </a:xfrm>
          <a:prstGeom prst="cloudCallout">
            <a:avLst>
              <a:gd name="adj1" fmla="val -101365"/>
              <a:gd name="adj2" fmla="val -68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פעולו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ממש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/>
          </p:cNvPr>
          <p:cNvSpPr/>
          <p:nvPr/>
        </p:nvSpPr>
        <p:spPr>
          <a:xfrm>
            <a:off x="3276720" y="4572000"/>
            <a:ext cx="2361960" cy="990720"/>
          </a:xfrm>
          <a:prstGeom prst="cloudCallout">
            <a:avLst>
              <a:gd name="adj1" fmla="val 740"/>
              <a:gd name="adj2" fmla="val -164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חומרים נוספי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/>
          </p:cNvPr>
          <p:cNvSpPr/>
          <p:nvPr/>
        </p:nvSpPr>
        <p:spPr>
          <a:xfrm>
            <a:off x="3200400" y="533520"/>
            <a:ext cx="2590920" cy="990360"/>
          </a:xfrm>
          <a:prstGeom prst="cloudCallout">
            <a:avLst>
              <a:gd name="adj1" fmla="val -60"/>
              <a:gd name="adj2" fmla="val 160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924680" y="4038480"/>
            <a:ext cx="921240" cy="2592720"/>
            <a:chOff x="7924680" y="4038480"/>
            <a:chExt cx="921240" cy="2592720"/>
          </a:xfrm>
        </p:grpSpPr>
        <p:sp>
          <p:nvSpPr>
            <p:cNvPr id="47" name=""/>
            <p:cNvSpPr/>
            <p:nvPr/>
          </p:nvSpPr>
          <p:spPr>
            <a:xfrm>
              <a:off x="7924680" y="4038480"/>
              <a:ext cx="360" cy="25588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24680" y="6630840"/>
              <a:ext cx="920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45560" y="4041360"/>
              <a:ext cx="360" cy="25592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5854320"/>
              <a:ext cx="920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153280" y="5930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Adi</cp:lastModifiedBy>
  <dcterms:modified xsi:type="dcterms:W3CDTF">2004-07-21T14:49:27Z</dcterms:modified>
  <cp:revision>67</cp:revision>
  <dc:subject/>
  <dc:title>עולמנו המופלא</dc:title>
</cp:coreProperties>
</file>