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6858000" cy="9144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0B6-1E2A-481E-9B7B-33A33653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10238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4048-976C-4175-8516-4083A073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10238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2EA-7EDA-434D-9460-E5379401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440" y="10238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F06-6888-44DE-A7FD-4A91855B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B2E0-71BA-456B-9465-39919553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4440" y="10238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3A51-FC68-4149-9906-C2E4C42A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440" y="10238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CF72-AC68-4B3D-8BF2-3E43C2A2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0238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3F4D-3D80-49DA-BF0E-C38C5973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4440" y="10238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CC08-131D-4051-8115-5DA48B23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14440" y="1023840"/>
            <a:ext cx="58291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82AE-6AC5-4B07-BCBC-B0DB71C3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4440" y="10238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34F6-4613-40FB-8A42-A8A1C1ED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440" y="10238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3FD-520F-438B-8777-A90EDDAE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14440" y="10238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7ACC-7904-4A58-8856-4133972D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10238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F334-9F49-4ACB-8E5B-AF80A3B9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10238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DB35-2E63-46FF-850E-5A28C9CF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10238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7368-32F5-4812-B3B8-C6F5BF6F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4440" y="10238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D691-B80C-401D-A4F2-DF609AD5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10238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4C54-B7C0-4614-9BFA-CA7430DB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4440" y="10238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2A5-0D0E-439F-BF17-6A2287A6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0238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050-E9AC-473D-B9FE-AAC68811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514440" y="1023840"/>
            <a:ext cx="58291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61AC-AFA1-4B02-AC3D-854C3D78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10238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D642-BB99-4518-99D9-FA15A928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10238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E82-859F-41D0-93D9-0B489875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10238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291-52A9-4A2F-89BB-E4087717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67360" cy="1009440"/>
            <a:chOff x="0" y="0"/>
            <a:chExt cx="6867360" cy="1009440"/>
          </a:xfrm>
        </p:grpSpPr>
        <p:sp>
          <p:nvSpPr>
            <p:cNvPr id="1" name=""/>
            <p:cNvSpPr/>
            <p:nvPr/>
          </p:nvSpPr>
          <p:spPr>
            <a:xfrm>
              <a:off x="5760" y="0"/>
              <a:ext cx="6861240" cy="100944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07360"/>
              <a:ext cx="304560" cy="53568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6600" y="0"/>
              <a:ext cx="842760" cy="971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5880" y="569160"/>
              <a:ext cx="298800" cy="4107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6080" y="0"/>
              <a:ext cx="189000" cy="15264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81040" y="0"/>
              <a:ext cx="541440" cy="45720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23680" y="78120"/>
              <a:ext cx="492840" cy="22824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130840" y="0"/>
              <a:ext cx="618840" cy="4759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313360" y="325800"/>
              <a:ext cx="513000" cy="49320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693160" y="184320"/>
              <a:ext cx="471240" cy="48024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695680" y="507960"/>
              <a:ext cx="614160" cy="47232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42160" y="685800"/>
              <a:ext cx="492480" cy="21168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768120" y="793800"/>
              <a:ext cx="178200" cy="1519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123080" y="564840"/>
              <a:ext cx="176040" cy="19296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262400" y="122760"/>
              <a:ext cx="1116720" cy="33444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388400" y="306720"/>
              <a:ext cx="442800" cy="20772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307400" y="651960"/>
              <a:ext cx="378720" cy="33444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063320" y="615960"/>
              <a:ext cx="452520" cy="36864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974480" y="396000"/>
              <a:ext cx="622440" cy="14580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82520" y="393480"/>
              <a:ext cx="639360" cy="25380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915160" y="660600"/>
              <a:ext cx="952200" cy="3024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331680" y="507960"/>
              <a:ext cx="478440" cy="24336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8240760"/>
            <a:ext cx="6877080" cy="183240"/>
            <a:chOff x="0" y="8240760"/>
            <a:chExt cx="6877080" cy="183240"/>
          </a:xfrm>
        </p:grpSpPr>
        <p:sp>
          <p:nvSpPr>
            <p:cNvPr id="24" name=""/>
            <p:cNvSpPr/>
            <p:nvPr/>
          </p:nvSpPr>
          <p:spPr>
            <a:xfrm>
              <a:off x="4811400" y="8272080"/>
              <a:ext cx="2065680" cy="15192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56320" y="8253000"/>
              <a:ext cx="3160800" cy="12672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8240760"/>
              <a:ext cx="2430000" cy="1306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0238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498600" y="848988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327400" y="848988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4898520" y="84898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A9AA-862C-42C1-BEFB-053E6613150C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4400" y="1479600"/>
            <a:ext cx="6867360" cy="1009080"/>
            <a:chOff x="14400" y="1479600"/>
            <a:chExt cx="6867360" cy="1009080"/>
          </a:xfrm>
        </p:grpSpPr>
        <p:sp>
          <p:nvSpPr>
            <p:cNvPr id="69" name=""/>
            <p:cNvSpPr/>
            <p:nvPr/>
          </p:nvSpPr>
          <p:spPr>
            <a:xfrm>
              <a:off x="20160" y="1479600"/>
              <a:ext cx="6861240" cy="1009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400" y="1686600"/>
              <a:ext cx="304560" cy="53532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000" y="1479600"/>
              <a:ext cx="842760" cy="97128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0280" y="2048760"/>
              <a:ext cx="298800" cy="4107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0480" y="1479600"/>
              <a:ext cx="189000" cy="1522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5440" y="1479600"/>
              <a:ext cx="541440" cy="45720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38080" y="1557720"/>
              <a:ext cx="492840" cy="22824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45240" y="1479600"/>
              <a:ext cx="618840" cy="4759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27760" y="1805400"/>
              <a:ext cx="513000" cy="49320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07560" y="1663560"/>
              <a:ext cx="471240" cy="48024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10080" y="1987200"/>
              <a:ext cx="614160" cy="47196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56560" y="2165400"/>
              <a:ext cx="492480" cy="21132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82520" y="2273400"/>
              <a:ext cx="178200" cy="1519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37480" y="2044440"/>
              <a:ext cx="176040" cy="19260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76800" y="1602360"/>
              <a:ext cx="1116720" cy="33444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02800" y="1785960"/>
              <a:ext cx="442800" cy="20772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21800" y="2131200"/>
              <a:ext cx="378720" cy="33444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77720" y="2095200"/>
              <a:ext cx="452520" cy="3682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88880" y="1875240"/>
              <a:ext cx="622440" cy="14580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96920" y="1873080"/>
              <a:ext cx="639360" cy="25380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29560" y="2139840"/>
              <a:ext cx="952200" cy="30204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46080" y="1987200"/>
              <a:ext cx="478440" cy="24300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5840" y="8215200"/>
            <a:ext cx="6877080" cy="183600"/>
            <a:chOff x="15840" y="8215200"/>
            <a:chExt cx="6877080" cy="183600"/>
          </a:xfrm>
        </p:grpSpPr>
        <p:sp>
          <p:nvSpPr>
            <p:cNvPr id="92" name=""/>
            <p:cNvSpPr/>
            <p:nvPr/>
          </p:nvSpPr>
          <p:spPr>
            <a:xfrm>
              <a:off x="4827240" y="8246520"/>
              <a:ext cx="2065680" cy="1522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72160" y="8227440"/>
              <a:ext cx="3160800" cy="12708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840" y="8215200"/>
              <a:ext cx="2430000" cy="1306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2490480"/>
            <a:ext cx="5829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514080" y="846432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2343240" y="846432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4915080" y="8464320"/>
            <a:ext cx="142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C895-80A4-491F-AF09-7993BA5D4644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68580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9595ff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66"/>
                </a:solidFill>
                <a:latin typeface="Tahoma"/>
              </a:rPr>
              <a:t>תבניות עיצוב, טיפוסי נתונים</a:t>
            </a:r>
            <a:br>
              <a:rPr sz="4400"/>
            </a:br>
            <a:r>
              <a:rPr b="1" lang="hi-IN" sz="4400" spc="-1" strike="noStrike">
                <a:solidFill>
                  <a:srgbClr val="660066"/>
                </a:solidFill>
                <a:latin typeface="Tahoma"/>
              </a:rPr>
              <a:t>ובחינות הבגרות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66680" y="4876560"/>
            <a:ext cx="472464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545472"/>
                </a:solidFill>
                <a:latin typeface="Tahoma"/>
              </a:rPr>
              <a:t>קבוצת מדעי המחשב</a:t>
            </a:r>
            <a:r>
              <a:rPr b="1" lang="he-IL" sz="36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545472"/>
                </a:solidFill>
                <a:latin typeface="Tahoma"/>
              </a:rPr>
              <a:t>החוג להוראת המדעים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545472"/>
                </a:solidFill>
                <a:latin typeface="Tahoma"/>
              </a:rPr>
              <a:t>אוניברסיטת תל-אביב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545472"/>
                </a:solidFill>
                <a:latin typeface="Tahoma"/>
              </a:rPr>
              <a:t>מרץ </a:t>
            </a:r>
            <a:r>
              <a:rPr b="1" lang="he-IL" sz="3600" spc="-1" strike="noStrike">
                <a:solidFill>
                  <a:srgbClr val="545472"/>
                </a:solidFill>
                <a:latin typeface="Tahoma"/>
              </a:rPr>
              <a:t>2004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קבוצת מדעי המחשב, הוראת המדעים, אוניברסיטת תל-אביב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A489-E240-40A6-9912-1BFE2A1CE6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6096240" cy="731880"/>
          </a:xfrm>
          <a:prstGeom prst="rect">
            <a:avLst/>
          </a:prstGeom>
          <a:noFill/>
          <a:ln w="9360">
            <a:solidFill>
              <a:srgbClr val="9595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660066"/>
                </a:solidFill>
                <a:latin typeface="Tahoma"/>
              </a:rPr>
              <a:t>ייצוג , תבניות, סיבוכיות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2895120"/>
            <a:ext cx="6553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660066"/>
                </a:solidFill>
                <a:latin typeface="Tahoma"/>
              </a:rPr>
              <a:t>רשימה אחת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                                בניה, נמצא ברשימה? (בווריאציות)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22200" indent="0" algn="r" rtl="1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9900"/>
                </a:solidFill>
                <a:latin typeface="Tahoma"/>
              </a:rPr>
              <a:t>עץ – כל סיבוב רמה נפרדת בעץ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                               בניה, סריקה לעומק, סריקה לרוחב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22200" indent="0" algn="ctr" rtl="1">
              <a:lnSpc>
                <a:spcPct val="12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22200" indent="0" algn="ctr" rtl="1">
              <a:lnSpc>
                <a:spcPct val="12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הערכת סיבוכיות ובהירות כל ייצוג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, הוראת המדעים, אוניברסיטת תל-אביב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2A6-1918-4798-91CD-0DA57B5827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6096240" cy="731880"/>
          </a:xfrm>
          <a:prstGeom prst="rect">
            <a:avLst/>
          </a:prstGeom>
          <a:noFill/>
          <a:ln w="9360">
            <a:solidFill>
              <a:srgbClr val="9595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660066"/>
                </a:solidFill>
                <a:latin typeface="Tahoma"/>
              </a:rPr>
              <a:t>בניית עץ מלא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3428640"/>
            <a:ext cx="5105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660066"/>
                </a:solidFill>
                <a:latin typeface="Tahoma"/>
              </a:rPr>
              <a:t>בניה רמה אחר רמה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Tahoma"/>
              </a:rPr>
              <a:t>מלמעלה למטה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0000"/>
                </a:solidFill>
                <a:latin typeface="Tahoma"/>
              </a:rPr>
              <a:t>מלמטה למעלה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, הוראת המדעים, אוניברסיטת תל-אביב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C43-1B9E-46ED-80AB-A4971209B6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6096240" cy="731880"/>
          </a:xfrm>
          <a:prstGeom prst="rect">
            <a:avLst/>
          </a:prstGeom>
          <a:noFill/>
          <a:ln w="9360">
            <a:solidFill>
              <a:srgbClr val="9595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660066"/>
                </a:solidFill>
                <a:latin typeface="Tahoma"/>
              </a:rPr>
              <a:t>בניה מלמעלה למטה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259056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660066"/>
                </a:solidFill>
                <a:latin typeface="Tahoma"/>
              </a:rPr>
              <a:t>הכנסה לפי מפתח מיקום, ולא לפי ערך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996600"/>
                </a:solidFill>
                <a:latin typeface="Tahoma"/>
              </a:rPr>
              <a:t>שימוש בייצוג בינרי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שורש – 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בן שמאלי – 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0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... , בן ימני – 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1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5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למשל,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c g j k l m n p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מיקום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m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הוא: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110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מיקום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k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הוא: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100</a:t>
            </a:r>
            <a:r>
              <a:rPr b="1" lang="he-IL" sz="36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, הוראת המדעים, אוניברסיטת תל-אביב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08B-F0AC-4A9D-B019-94609BFA36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6096240" cy="731880"/>
          </a:xfrm>
          <a:prstGeom prst="rect">
            <a:avLst/>
          </a:prstGeom>
          <a:noFill/>
          <a:ln w="9360">
            <a:solidFill>
              <a:srgbClr val="9595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660066"/>
                </a:solidFill>
                <a:latin typeface="Tahoma"/>
              </a:rPr>
              <a:t>בניה מלמטה למעלה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228564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660066"/>
                </a:solidFill>
                <a:latin typeface="Tahoma"/>
              </a:rPr>
              <a:t>בניה סדרתית, מלמטה למעלה            של "השורשים" של כל רמה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996600"/>
                </a:solidFill>
                <a:latin typeface="Tahoma"/>
              </a:rPr>
              <a:t>שימוש חוזר ונשנה בתור                  הוצאת זוג בנים והכנסת אביהם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22200" indent="0" algn="r" rtl="1">
              <a:lnSpc>
                <a:spcPct val="12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, </a:t>
            </a:r>
            <a:r>
              <a:rPr b="1" lang="he-IL" sz="3600" spc="-1" strike="noStrike">
                <a:solidFill>
                  <a:srgbClr val="660066"/>
                </a:solidFill>
                <a:latin typeface="Tahoma"/>
              </a:rPr>
              <a:t>8-4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, </a:t>
            </a:r>
            <a:r>
              <a:rPr b="1" lang="he-IL" sz="3600" spc="-1" strike="noStrike">
                <a:solidFill>
                  <a:srgbClr val="008000"/>
                </a:solidFill>
                <a:latin typeface="Tahoma"/>
              </a:rPr>
              <a:t>8-5</a:t>
            </a:r>
            <a:r>
              <a:rPr b="1" lang="he-IL" sz="36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8000"/>
                </a:solidFill>
                <a:latin typeface="Tahoma"/>
              </a:rPr>
              <a:t>4-1</a:t>
            </a:r>
            <a:r>
              <a:rPr b="1" lang="he-IL" sz="36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,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8-7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6-5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4-3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2-1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הכנסת נתונים: 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8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7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הוצאת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 והוספת </a:t>
            </a:r>
            <a:r>
              <a:rPr b="1" lang="he-IL" sz="3600" spc="-1" strike="noStrike">
                <a:solidFill>
                  <a:srgbClr val="008000"/>
                </a:solidFill>
                <a:latin typeface="Tahoma"/>
              </a:rPr>
              <a:t>1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:  </a:t>
            </a:r>
            <a:r>
              <a:rPr b="1" lang="he-IL" sz="3600" spc="-1" strike="noStrike">
                <a:solidFill>
                  <a:srgbClr val="008000"/>
                </a:solidFill>
                <a:latin typeface="Tahoma"/>
              </a:rPr>
              <a:t>1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8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7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הוצאת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 והוספת </a:t>
            </a:r>
            <a:r>
              <a:rPr b="1" lang="he-IL" sz="3600" spc="-1" strike="noStrike">
                <a:solidFill>
                  <a:srgbClr val="008000"/>
                </a:solidFill>
                <a:latin typeface="Tahoma"/>
              </a:rPr>
              <a:t>4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:  </a:t>
            </a:r>
            <a:r>
              <a:rPr b="1" lang="he-IL" sz="3600" spc="-1" strike="noStrike">
                <a:solidFill>
                  <a:srgbClr val="008000"/>
                </a:solidFill>
                <a:latin typeface="Tahoma"/>
              </a:rPr>
              <a:t>4</a:t>
            </a:r>
            <a:r>
              <a:rPr b="1" lang="he-IL" sz="36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8000"/>
                </a:solidFill>
                <a:latin typeface="Tahoma"/>
              </a:rPr>
              <a:t>1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8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7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5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, הוראת המדעים, אוניברסיטת תל-אביב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925-C7C3-48AE-B880-30DD383DA0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6096240" cy="731880"/>
          </a:xfrm>
          <a:prstGeom prst="rect">
            <a:avLst/>
          </a:prstGeom>
          <a:noFill/>
          <a:ln w="9360">
            <a:solidFill>
              <a:srgbClr val="9595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660066"/>
                </a:solidFill>
                <a:latin typeface="Tahoma"/>
              </a:rPr>
              <a:t>תבניות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2895120"/>
            <a:ext cx="6553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660066"/>
                </a:solidFill>
                <a:latin typeface="Tahoma"/>
              </a:rPr>
              <a:t>בניה מלמעלה למטה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                              הכנסה במתכונת סריקה בסדר תוכי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9900"/>
                </a:solidFill>
                <a:latin typeface="Tahoma"/>
              </a:rPr>
              <a:t>בניה מלמטה למעלה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                             בניית אב לשני בנים                        הכנסת נתונים לתור                      הוצאת נתונים מתור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, הוראת המדעים, אוניברסיטת תל-אביב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C88-15EC-4712-9842-6E683E1AED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6096240" cy="731880"/>
          </a:xfrm>
          <a:prstGeom prst="rect">
            <a:avLst/>
          </a:prstGeom>
          <a:noFill/>
          <a:ln w="9360">
            <a:solidFill>
              <a:srgbClr val="9595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660066"/>
                </a:solidFill>
                <a:latin typeface="Tahoma"/>
              </a:rPr>
              <a:t>מדידת בד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655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נתון גליל בד, ומוט באורך 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 מטר,               נתון אורך תחילי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 של הבד, ויש להאריכו ל-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, תוך שימוש בפעולות  "הכפל האורך הנוכחי"  ו"הוסף 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"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9900"/>
                </a:solidFill>
                <a:latin typeface="Tahoma"/>
              </a:rPr>
              <a:t>מהו מספר הפעולות המינימלי לביצוע ההארכה?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660066"/>
                </a:solidFill>
                <a:latin typeface="Tahoma"/>
              </a:rPr>
              <a:t>נתון: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תחילי 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10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, להאריך ל-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17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, </a:t>
            </a:r>
            <a:r>
              <a:rPr b="1" lang="he-IL" sz="3600" spc="-1" strike="noStrike">
                <a:solidFill>
                  <a:srgbClr val="996600"/>
                </a:solidFill>
                <a:latin typeface="Tahoma"/>
              </a:rPr>
              <a:t>ל-</a:t>
            </a:r>
            <a:r>
              <a:rPr b="1" lang="he-IL" sz="3600" spc="-1" strike="noStrike">
                <a:solidFill>
                  <a:srgbClr val="996600"/>
                </a:solidFill>
                <a:latin typeface="Tahoma"/>
              </a:rPr>
              <a:t>21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 ל-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17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– נוסיף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7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פעמים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              </a:t>
            </a:r>
            <a:r>
              <a:rPr b="1" lang="he-IL" sz="3600" spc="-1" strike="noStrike">
                <a:solidFill>
                  <a:srgbClr val="996600"/>
                </a:solidFill>
                <a:latin typeface="Tahoma"/>
              </a:rPr>
              <a:t>ל-</a:t>
            </a:r>
            <a:r>
              <a:rPr b="1" lang="he-IL" sz="3600" spc="-1" strike="noStrike">
                <a:solidFill>
                  <a:srgbClr val="996600"/>
                </a:solidFill>
                <a:latin typeface="Tahoma"/>
              </a:rPr>
              <a:t>21</a:t>
            </a:r>
            <a:r>
              <a:rPr b="1" lang="he-IL" sz="3600" spc="-1" strike="noStrike">
                <a:solidFill>
                  <a:srgbClr val="996600"/>
                </a:solidFill>
                <a:latin typeface="Tahoma"/>
              </a:rPr>
              <a:t> – נכפיל, ונוסיף </a:t>
            </a:r>
            <a:r>
              <a:rPr b="1" lang="he-IL" sz="3600" spc="-1" strike="noStrike">
                <a:solidFill>
                  <a:srgbClr val="9966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, הוראת המדעים, אוניברסיטת תל-אביב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9F6-89BC-4067-8DF6-AAF899CADF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6096240" cy="731880"/>
          </a:xfrm>
          <a:prstGeom prst="rect">
            <a:avLst/>
          </a:prstGeom>
          <a:noFill/>
          <a:ln w="9360">
            <a:solidFill>
              <a:srgbClr val="9595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660066"/>
                </a:solidFill>
                <a:latin typeface="Tahoma"/>
              </a:rPr>
              <a:t>מאפיינים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3200040"/>
            <a:ext cx="4724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ahoma"/>
              </a:rPr>
              <a:t>חישוב לאחור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12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ahoma"/>
              </a:rPr>
              <a:t>מניה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, הוראת המדעים, אוניברסיטת תל-אביב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A9B-DFB3-405E-BC9A-1670DEC4A1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6096240" cy="731880"/>
          </a:xfrm>
          <a:prstGeom prst="rect">
            <a:avLst/>
          </a:prstGeom>
          <a:noFill/>
          <a:ln w="9360">
            <a:solidFill>
              <a:srgbClr val="9595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660066"/>
                </a:solidFill>
                <a:latin typeface="Tahoma"/>
              </a:rPr>
              <a:t>תבניות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2819160"/>
            <a:ext cx="6477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מניה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12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רקורסיה בסוף   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                                 הקטנת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- חלוקה ב-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, או החסרת 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            הגדלת מונה ב-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                      רקורסיה עם היתרה, תוך  העברת הפרמטרים: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-הנותר והמונה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, הוראת המדעים, אוניברסיטת תל-אביב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B5A9-7D19-4EF3-BE6F-07070963D7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6096240" cy="731880"/>
          </a:xfrm>
          <a:prstGeom prst="rect">
            <a:avLst/>
          </a:prstGeom>
          <a:noFill/>
          <a:ln w="9360">
            <a:solidFill>
              <a:srgbClr val="9595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660066"/>
                </a:solidFill>
                <a:latin typeface="Tahoma"/>
              </a:rPr>
              <a:t>בעיה דומה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60962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9900"/>
                </a:solidFill>
                <a:latin typeface="Tahoma"/>
              </a:rPr>
              <a:t>הצגת סדרת הפעולות לפי הסדר שיש לבצען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r" rtl="1">
              <a:lnSpc>
                <a:spcPct val="12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רקורסיה   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                             בחירת פעולה: 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×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, או  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+           חישוב רקורסיבי עם היתרה         הצגת הפעולה שנבחרה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r" rtl="1">
              <a:lnSpc>
                <a:spcPct val="12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ללא רקורסיה</a:t>
            </a:r>
            <a:r>
              <a:rPr b="1" lang="he-IL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– שמירת הפעולות במחסנית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, הוראת המדעים, אוניברסיטת תל-אביב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CDEF-292A-4217-9065-9F2CA1176F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6096240" cy="731880"/>
          </a:xfrm>
          <a:prstGeom prst="rect">
            <a:avLst/>
          </a:prstGeom>
          <a:noFill/>
          <a:ln w="9360">
            <a:solidFill>
              <a:srgbClr val="9595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660066"/>
                </a:solidFill>
                <a:latin typeface="Tahoma"/>
              </a:rPr>
              <a:t>חישוב מינ ומקס בו-זמנית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655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נתונה סדרה של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 מספרים, </a:t>
            </a:r>
            <a:r>
              <a:rPr b="1" lang="he-IL" sz="3600" spc="-1" strike="noStrike">
                <a:solidFill>
                  <a:srgbClr val="009900"/>
                </a:solidFill>
                <a:latin typeface="Tahoma"/>
              </a:rPr>
              <a:t>יש לחשב את הקטן ביותר והגדול ביותר בה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660066"/>
                </a:solidFill>
                <a:latin typeface="Tahoma"/>
              </a:rPr>
              <a:t>דרך א':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                                       חישוב על-ידי תבניות נפרדות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660066"/>
                </a:solidFill>
                <a:latin typeface="Tahoma"/>
              </a:rPr>
              <a:t>דרך ב':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                                           חישוב על-ידי שזירת תבניות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r" rtl="1">
              <a:lnSpc>
                <a:spcPct val="12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מספר פעולות ההשוואה?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ct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8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7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, הוראת המדעים, אוניברסיטת תל-אביב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730-42CC-4765-A546-8C8662B9A4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1096560"/>
            <a:ext cx="5829120" cy="731880"/>
          </a:xfrm>
          <a:prstGeom prst="rect">
            <a:avLst/>
          </a:prstGeom>
          <a:noFill/>
          <a:ln w="9360">
            <a:solidFill>
              <a:srgbClr val="9595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660066"/>
                </a:solidFill>
                <a:latin typeface="Tahoma"/>
              </a:rPr>
              <a:t> פתרון בעיות אלגוריתמיות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655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- הבנת 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הבעיה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- </a:t>
            </a:r>
            <a:r>
              <a:rPr b="1" lang="he-IL" sz="3600" spc="-1" strike="noStrike">
                <a:solidFill>
                  <a:srgbClr val="990000"/>
                </a:solidFill>
                <a:latin typeface="Tahoma"/>
              </a:rPr>
              <a:t>ניתוח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 הנתונים וזיהוי מאפיינים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-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בחינת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 אופנים לייצוג הנתונים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- </a:t>
            </a:r>
            <a:r>
              <a:rPr b="1" lang="he-IL" sz="3600" spc="-1" strike="noStrike">
                <a:solidFill>
                  <a:srgbClr val="990000"/>
                </a:solidFill>
                <a:latin typeface="Tahoma"/>
              </a:rPr>
              <a:t>זיהוי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 תבניות לביצוע תת-משימות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-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הערכת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 סיבוכיות ובהירות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- </a:t>
            </a:r>
            <a:r>
              <a:rPr b="1" lang="he-IL" sz="3600" spc="-1" strike="noStrike">
                <a:solidFill>
                  <a:srgbClr val="990000"/>
                </a:solidFill>
                <a:latin typeface="Tahoma"/>
              </a:rPr>
              <a:t>בחירת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 מבנה נתונים מתאים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- 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ניסוח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 אלגוריתמים לפעולות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- 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מימוש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 בסביבת העבודה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, הוראת המדעים, אוניברסיטת תל-אביב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08B9-3333-4E3B-8CF0-A31C841202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6096240" cy="731880"/>
          </a:xfrm>
          <a:prstGeom prst="rect">
            <a:avLst/>
          </a:prstGeom>
          <a:noFill/>
          <a:ln w="9360">
            <a:solidFill>
              <a:srgbClr val="9595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660066"/>
                </a:solidFill>
                <a:latin typeface="Tahoma"/>
              </a:rPr>
              <a:t>אפשר עם פחות השוואות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2285640"/>
            <a:ext cx="65530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he-IL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ctr" rtl="1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ct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5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ctr" rtl="1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ct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he-IL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7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 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5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3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   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ctr" rtl="1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ctr" rtl="1">
              <a:lnSpc>
                <a:spcPct val="120000"/>
              </a:lnSpc>
              <a:spcBef>
                <a:spcPts val="901"/>
              </a:spcBef>
              <a:buClr>
                <a:srgbClr val="0000ff"/>
              </a:buClr>
              <a:buSzPct val="90000"/>
              <a:buFont typeface="Tahoma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7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ctr" rtl="1">
              <a:lnSpc>
                <a:spcPct val="12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N</a:t>
            </a:r>
            <a:r>
              <a:rPr b="1" lang="he-IL" sz="3200" spc="-1" strike="noStrike">
                <a:solidFill>
                  <a:srgbClr val="009900"/>
                </a:solidFill>
                <a:latin typeface="Tahoma"/>
              </a:rPr>
              <a:t>3/2</a:t>
            </a:r>
            <a:r>
              <a:rPr b="1" lang="he-IL" sz="3600" spc="-1" strike="noStrike">
                <a:solidFill>
                  <a:srgbClr val="009900"/>
                </a:solidFill>
                <a:latin typeface="Tahoma"/>
              </a:rPr>
              <a:t>~ השוואות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ct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תבנית רקורסיבית:</a:t>
            </a:r>
            <a:r>
              <a:rPr b="1" lang="he-IL" sz="3600" spc="-1" strike="noStrike">
                <a:solidFill>
                  <a:srgbClr val="660066"/>
                </a:solidFill>
                <a:latin typeface="Tahoma"/>
              </a:rPr>
              <a:t> הפרד-ומשול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, הוראת המדעים, אוניברסיטת תל-אביב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DBB-2705-4B29-827A-0C13707025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6096240" cy="731880"/>
          </a:xfrm>
          <a:prstGeom prst="rect">
            <a:avLst/>
          </a:prstGeom>
          <a:noFill/>
          <a:ln w="9360">
            <a:solidFill>
              <a:srgbClr val="9595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660066"/>
                </a:solidFill>
                <a:latin typeface="Tahoma"/>
              </a:rPr>
              <a:t> סימולציה של רמזור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655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נתונה סדרת נתונים של הגעת מכוניות לרמזור משני כיוונים – א' ו-ב'.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   </a:t>
            </a:r>
            <a:r>
              <a:rPr b="1" lang="he-IL" sz="3600" spc="-1" strike="noStrike">
                <a:solidFill>
                  <a:srgbClr val="660066"/>
                </a:solidFill>
                <a:latin typeface="Tahoma"/>
              </a:rPr>
              <a:t>מכונית: מספר, זמן + כיוון הגעה.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        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אור </a:t>
            </a:r>
            <a:r>
              <a:rPr b="1" lang="he-IL" sz="3600" spc="-1" strike="noStrike">
                <a:solidFill>
                  <a:srgbClr val="009900"/>
                </a:solidFill>
                <a:latin typeface="Tahoma"/>
              </a:rPr>
              <a:t>ירוק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25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 שניות, </a:t>
            </a:r>
            <a:r>
              <a:rPr b="1" lang="he-IL" sz="3600" spc="-1" strike="noStrike">
                <a:solidFill>
                  <a:srgbClr val="ff9900"/>
                </a:solidFill>
                <a:latin typeface="Tahoma"/>
              </a:rPr>
              <a:t>צהוב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.  משך מעבר בצומת – 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 שניות.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9900"/>
                </a:solidFill>
                <a:latin typeface="Tahoma"/>
              </a:rPr>
              <a:t>יש להציג את סדר מעבר המכוניות.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r" rtl="1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קלט: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19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 א,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20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 ב,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29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 א,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40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 ב 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פלט: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, </a:t>
            </a:r>
            <a:r>
              <a:rPr b="1" lang="he-IL" sz="36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, </a:t>
            </a:r>
            <a:r>
              <a:rPr b="1" lang="he-IL" sz="36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, </a:t>
            </a:r>
            <a:r>
              <a:rPr b="1" lang="he-IL" sz="36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.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, הוראת המדעים, אוניברסיטת תל-אביב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06AB-C0A0-4E12-8247-9947617C38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6096240" cy="731880"/>
          </a:xfrm>
          <a:prstGeom prst="rect">
            <a:avLst/>
          </a:prstGeom>
          <a:noFill/>
          <a:ln w="9360">
            <a:solidFill>
              <a:srgbClr val="9595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660066"/>
                </a:solidFill>
                <a:latin typeface="Tahoma"/>
              </a:rPr>
              <a:t> מאפיינים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6553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12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סדרת נתונים היא בעצם שזירה של שתי סדרות – סדרה של כיוון א' וסדרה של כיוון ב'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32640" indent="0" algn="r" rtl="1">
              <a:lnSpc>
                <a:spcPct val="12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8000"/>
                </a:solidFill>
                <a:latin typeface="Tahoma"/>
              </a:rPr>
              <a:t>סדר נתוני הפלט הכולל עשוי להיות שונה מסדר נתוני הקלט הכולל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32640" indent="0" algn="r" rtl="1">
              <a:lnSpc>
                <a:spcPct val="12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סדר נתוני הפלט עבור כיוון זהה לסדר נתוני הקלט עבור אותו הכיוון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, הוראת המדעים, אוניברסיטת תל-אביב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733-0D77-43DC-A7F5-176B103C36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6096240" cy="731880"/>
          </a:xfrm>
          <a:prstGeom prst="rect">
            <a:avLst/>
          </a:prstGeom>
          <a:noFill/>
          <a:ln w="9360">
            <a:solidFill>
              <a:srgbClr val="9595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660066"/>
                </a:solidFill>
                <a:latin typeface="Tahoma"/>
              </a:rPr>
              <a:t>ייצוג , תבניות, סיבוכיות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2285640"/>
            <a:ext cx="6553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660066"/>
                </a:solidFill>
                <a:latin typeface="Tahoma"/>
              </a:rPr>
              <a:t>רשימה אחת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                                בניה, נמצא ברשימה?, מחיקה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9900"/>
                </a:solidFill>
                <a:latin typeface="Tahoma"/>
              </a:rPr>
              <a:t>שתי רשימות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                                בניה, נמצא ברשימה?, מחיקה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שני תורים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                                   הכנסת נתונים, הוצאת נתונים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12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545472"/>
                </a:solidFill>
                <a:latin typeface="Tahoma"/>
              </a:rPr>
              <a:t>מחסנית, עץ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הערכת סיבוכיות ובהירות כל ייצוג 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, הוראת המדעים, אוניברסיטת תל-אביב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794B-F700-4D91-AC42-0EAEF218E9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440" y="1096560"/>
            <a:ext cx="5829120" cy="731880"/>
          </a:xfrm>
          <a:prstGeom prst="rect">
            <a:avLst/>
          </a:prstGeom>
          <a:noFill/>
          <a:ln w="9360">
            <a:solidFill>
              <a:srgbClr val="9595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660066"/>
                </a:solidFill>
                <a:latin typeface="Tahoma"/>
              </a:rPr>
              <a:t>תבנית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Design Pattern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-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2285640"/>
            <a:ext cx="65530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- שם התבנית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- נקודת מוצא, מטרה (משימה לביצוע)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- אלגוריתם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- הקשרים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120000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 דוגמאות: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660066"/>
                </a:solidFill>
                <a:latin typeface="Tahoma"/>
              </a:rPr>
              <a:t> מקסימום, מניה, חיפוש פריט בסדרה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660066"/>
                </a:solidFill>
                <a:latin typeface="Tahoma"/>
              </a:rPr>
              <a:t> הפרד ומשול, נמצא ברשימה?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, הוראת המדעים, אוניברסיטת תל-אביב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26F-9D83-4334-B92D-87CCC74E92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14440" y="1096560"/>
            <a:ext cx="5829120" cy="731880"/>
          </a:xfrm>
          <a:prstGeom prst="rect">
            <a:avLst/>
          </a:prstGeom>
          <a:noFill/>
          <a:ln w="9360">
            <a:solidFill>
              <a:srgbClr val="9595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660066"/>
                </a:solidFill>
                <a:latin typeface="Tahoma"/>
              </a:rPr>
              <a:t>שימוש בתבניות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281916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- ארגז כלים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- מחלקות תבניות של "יסודות"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- מחלקות תבניות של "עיצוב תכנה"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- הרכבה של תבניות                    סידור לינארי, הכלה, שזירה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12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, הוראת המדעים, אוניברסיטת תל-אביב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F66C-9809-4F7B-B40C-4B43390AA7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14440" y="1096560"/>
            <a:ext cx="5829120" cy="731880"/>
          </a:xfrm>
          <a:prstGeom prst="rect">
            <a:avLst/>
          </a:prstGeom>
          <a:noFill/>
          <a:ln w="9360">
            <a:solidFill>
              <a:srgbClr val="9595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660066"/>
                </a:solidFill>
                <a:latin typeface="Tahoma"/>
              </a:rPr>
              <a:t>בעיה דומה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281916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660066"/>
                </a:solidFill>
                <a:latin typeface="Tahoma"/>
              </a:rPr>
              <a:t>סימולציה של רמזור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- 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פלט שכולל גם זמני מעבר בצומת</a:t>
            </a: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-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קלט שאיננו מסודר לפי זמני הגעה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6600"/>
                </a:solidFill>
                <a:latin typeface="Tahoma"/>
              </a:rPr>
              <a:t>- </a:t>
            </a: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רמזור שמתחלף מיד כשאין מכוניות ממתינות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, הוראת המדעים, אוניברסיטת תל-אביב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7F36-02DC-4F0A-9F86-BDDF74EF87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6096240" cy="731880"/>
          </a:xfrm>
          <a:prstGeom prst="rect">
            <a:avLst/>
          </a:prstGeom>
          <a:noFill/>
          <a:ln w="9360">
            <a:solidFill>
              <a:srgbClr val="9595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660066"/>
                </a:solidFill>
                <a:latin typeface="Tahoma"/>
              </a:rPr>
              <a:t>טורניר טניס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655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נתונה סדרת נתונים המתארת את  סיבובי הטורניר – משחקי הסיבוב הראשון, משחקי הסיבוב השני (בין מנצחי הסיבוב הראשון), ... משחק הגמר, והזוכה בגמר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3264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9900"/>
                </a:solidFill>
                <a:latin typeface="Tahoma"/>
              </a:rPr>
              <a:t>יש לענות על שאילתות שונות, כגון: </a:t>
            </a:r>
            <a:r>
              <a:rPr b="1" lang="he-IL" sz="3600" spc="-1" strike="noStrike">
                <a:solidFill>
                  <a:srgbClr val="660066"/>
                </a:solidFill>
                <a:latin typeface="Tahoma"/>
              </a:rPr>
              <a:t>מסלול של שחקן (בפרט – המנצח)</a:t>
            </a:r>
            <a:r>
              <a:rPr b="1" lang="he-IL" sz="36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1" lang="he-IL" sz="3600" spc="-1" strike="noStrike">
                <a:solidFill>
                  <a:srgbClr val="cc0000"/>
                </a:solidFill>
                <a:latin typeface="Tahoma"/>
              </a:rPr>
              <a:t>משחק חצי-הגמר השני, ותוצאתו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3264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,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8-4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,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8-5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4-1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,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8-7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6-5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4-3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he-IL" sz="3600" spc="-1" strike="noStrike">
                <a:solidFill>
                  <a:srgbClr val="0000ff"/>
                </a:solidFill>
                <a:latin typeface="Tahoma"/>
              </a:rPr>
              <a:t>2-1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קבוצת מדעי המחשב, הוראת המדעים, אוניברסיטת תל-אביב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810-B1DB-4D36-83C5-CC357ADEEE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דוד גינת</cp:lastModifiedBy>
  <dcterms:modified xsi:type="dcterms:W3CDTF">2004-07-11T16:07:09Z</dcterms:modified>
  <cp:revision>129</cp:revision>
  <dc:subject/>
  <dc:title>שקופית סיכום</dc:title>
</cp:coreProperties>
</file>