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B41-E005-4A37-B95B-EBD22EC3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A61-6BC1-4F27-B682-915210C9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6B7-CD16-4BE2-ACD7-14C6684A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B6C-7AD5-46FE-8CB7-9A959138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884F0-6829-4329-9C94-F58E9AF9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E23D3-3393-41D2-A85C-5E9FBB1F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924F1-F518-42CD-BE1A-7831A66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A8439-8B7D-4948-A031-AB3281B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B5B40-1BDE-4779-9567-09CD8700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1F806-89D1-4549-95F0-1BFC2E3E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E4D28-88B3-45D9-9BA5-182CF5D5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AA0-D9AD-4A5D-BF11-FD0837F9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E6B16-6DCF-45D1-AAED-7A8D729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18EAD-8CDA-4E0A-BB78-11577D8D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F4BBA-2B05-4F82-BE1A-C881F14E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734AD-D1EC-4DA2-A501-A061905D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0076A-CE52-40EB-A939-1A7A0DCE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FEA-5926-4114-B89F-A9419C96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9C4-69E3-410C-B2A4-CFFDA333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1C9-B2AE-40A0-B49D-43033CBC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488-975C-4747-9080-D0A52BD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815-EDBB-4007-831A-8DFC6AB9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F4F-CC84-4CE0-A07E-DD47124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B5E-5327-461B-B76B-EDCEB31D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AA67-966A-4AFA-BE91-12387C43FC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B48A-402C-4A46-B4AD-016F0B4DF4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000" y="3200400"/>
            <a:ext cx="885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המצגת מכילה שני תרגילים המציגים בעיה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הדורשת אלגוריתם לפתרון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לכל תרגיל מוצגים שני פתרונות אפשריי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שלהם יעילות שונה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92280" y="563400"/>
            <a:ext cx="4359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700" spc="-1" strike="noStrike">
                <a:solidFill>
                  <a:srgbClr val="000000"/>
                </a:solidFill>
                <a:latin typeface="Tahoma"/>
              </a:rPr>
              <a:t>יעילות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1584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9560" y="5226120"/>
            <a:ext cx="25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9560" y="5226120"/>
            <a:ext cx="25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+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123720" y="5502240"/>
            <a:ext cx="5605560" cy="1191240"/>
            <a:chOff x="3123720" y="5502240"/>
            <a:chExt cx="5605560" cy="1191240"/>
          </a:xfrm>
        </p:grpSpPr>
        <p:sp>
          <p:nvSpPr>
            <p:cNvPr id="165" name=""/>
            <p:cNvSpPr/>
            <p:nvPr/>
          </p:nvSpPr>
          <p:spPr>
            <a:xfrm>
              <a:off x="4687200" y="5502240"/>
              <a:ext cx="4042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שוב, קראנו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 ולכן הוספנו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את מספר ה-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 שנקראו ע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כה לצוב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3123720" y="5943240"/>
              <a:ext cx="144900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9560" y="5226120"/>
            <a:ext cx="25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2720" y="5562720"/>
            <a:ext cx="45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ahoma"/>
              </a:rPr>
              <a:t>בסה"כ: </a:t>
            </a:r>
            <a:r>
              <a:rPr b="1" lang="he-IL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he-IL" sz="2400" spc="-1" strike="noStrike">
                <a:solidFill>
                  <a:srgbClr val="ffffff"/>
                </a:solidFill>
                <a:latin typeface="Tahoma"/>
              </a:rPr>
              <a:t> תתי מחרוזו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ahoma"/>
              </a:rPr>
              <a:t>שמתחילות ב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he-IL" sz="2400" spc="-1" strike="noStrike">
                <a:solidFill>
                  <a:srgbClr val="ffffff"/>
                </a:solidFill>
                <a:latin typeface="Tahoma"/>
              </a:rPr>
              <a:t> ומסתיימות ב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76240" y="5670720"/>
            <a:ext cx="533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21360" y="1143000"/>
            <a:ext cx="1016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cc00"/>
                </a:solidFill>
                <a:latin typeface="Tahoma"/>
              </a:rPr>
              <a:t>מצאנו שני פתרונות נכונים לאותה בעיה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cc00"/>
                </a:solidFill>
                <a:latin typeface="Tahoma"/>
              </a:rPr>
              <a:t>עם סיבוכיות זמן שונה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5105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ahoma"/>
              </a:rPr>
              <a:t>כאשר אורך הקלט גדול יש חשיבות רבה לסיבוכיות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80320" y="36576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29480" y="373392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(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91120" y="3352680"/>
            <a:ext cx="981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0840" y="3505320"/>
            <a:ext cx="8308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ff0000"/>
                </a:solidFill>
                <a:uFillTx/>
                <a:latin typeface="Tahoma"/>
              </a:rPr>
              <a:t>פתרון א'</a:t>
            </a:r>
            <a:r>
              <a:rPr b="0" lang="he-IL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נחשב עבור </a:t>
            </a:r>
            <a:r>
              <a:rPr b="1" lang="he-IL" sz="2000" spc="-1" strike="noStrike" u="sng">
                <a:solidFill>
                  <a:srgbClr val="000000"/>
                </a:solidFill>
                <a:uFillTx/>
                <a:latin typeface="Tahoma"/>
              </a:rPr>
              <a:t>כל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תת סדרה אפשרית את סכומה, ונמצא את הסכום הגדול ביות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כיוון שיש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תת סדרות, ועיבוד תת סדרה נעשה ב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n)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הרי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סיבוכיות הזמן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(n)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" y="990720"/>
            <a:ext cx="859752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ff0000"/>
                </a:solidFill>
                <a:uFillTx/>
                <a:latin typeface="Tahoma"/>
              </a:rPr>
              <a:t>פתרון ב'</a:t>
            </a:r>
            <a:r>
              <a:rPr b="0" lang="he-IL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סיבוכיות הזמן של פתרון א' גדולה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ננסה לשפר אותה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he-IL" sz="2000" spc="-1" strike="noStrike">
                <a:solidFill>
                  <a:srgbClr val="ffffff"/>
                </a:solidFill>
                <a:latin typeface="Tahoma"/>
              </a:rPr>
              <a:t>אולי כדאי לחשב רק סכומים של תת סדרות של מספרים חיוביים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דרך זו תאפשר מעבר </a:t>
            </a:r>
            <a:r>
              <a:rPr b="0" lang="he-IL" sz="2000" spc="-1" strike="noStrike" u="sng">
                <a:solidFill>
                  <a:srgbClr val="000000"/>
                </a:solidFill>
                <a:uFillTx/>
                <a:latin typeface="Tahoma"/>
              </a:rPr>
              <a:t>יחיד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על הסדרה שמשמעותו סיבוכיות זמן ש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למשל עבור הסדרה: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יהיה הפלט סכום תת הסדרה הראשונה של המספרים החיוביים (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2406600" y="44193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108320" y="4652640"/>
            <a:ext cx="304920" cy="685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229600" y="1752480"/>
            <a:ext cx="754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8520" y="1322280"/>
            <a:ext cx="88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0000"/>
                </a:solidFill>
                <a:latin typeface="Tahoma"/>
              </a:rPr>
              <a:t>האם פתרון זה אכן נכון ?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82080" y="2692440"/>
            <a:ext cx="440064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נניח שבמקום הסדרה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-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18960" y="4630680"/>
            <a:ext cx="41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היה הסדרה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-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4040" y="4038480"/>
            <a:ext cx="6587640" cy="2209680"/>
            <a:chOff x="194040" y="4038480"/>
            <a:chExt cx="6587640" cy="2209680"/>
          </a:xfrm>
        </p:grpSpPr>
        <p:sp>
          <p:nvSpPr>
            <p:cNvPr id="198" name=""/>
            <p:cNvSpPr/>
            <p:nvPr/>
          </p:nvSpPr>
          <p:spPr>
            <a:xfrm rot="16200000">
              <a:off x="4952880" y="4419360"/>
              <a:ext cx="228600" cy="3429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040" y="4038480"/>
              <a:ext cx="5063760" cy="1524240"/>
              <a:chOff x="194040" y="4038480"/>
              <a:chExt cx="5063760" cy="1524240"/>
            </a:xfrm>
          </p:grpSpPr>
          <p:sp>
            <p:nvSpPr>
              <p:cNvPr id="200" name=""/>
              <p:cNvSpPr/>
              <p:nvPr/>
            </p:nvSpPr>
            <p:spPr>
              <a:xfrm>
                <a:off x="194040" y="4038480"/>
                <a:ext cx="3079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ff"/>
                    </a:solidFill>
                    <a:latin typeface="Tahoma"/>
                  </a:rPr>
                  <a:t>המספר השלילי </a:t>
                </a:r>
                <a:r>
                  <a:rPr b="1" lang="he-IL" sz="2400" spc="-1" strike="noStrike" u="sng">
                    <a:solidFill>
                      <a:srgbClr val="ffffff"/>
                    </a:solidFill>
                    <a:uFillTx/>
                    <a:latin typeface="Tahoma"/>
                  </a:rPr>
                  <a:t>נכלל</a:t>
                </a:r>
                <a:r>
                  <a:rPr b="1" lang="he-IL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ff"/>
                    </a:solidFill>
                    <a:latin typeface="Tahoma"/>
                  </a:rPr>
                  <a:t>בתת הסדרה בעלת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ff"/>
                    </a:solidFill>
                    <a:latin typeface="Tahoma"/>
                  </a:rPr>
                  <a:t>הסכום המרבי !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48120" y="4952880"/>
                <a:ext cx="2209680" cy="60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443160" y="1052640"/>
            <a:ext cx="9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ff0000"/>
                </a:solidFill>
                <a:uFillTx/>
                <a:latin typeface="Tahoma"/>
              </a:rPr>
              <a:t>מסקנה</a:t>
            </a:r>
            <a:r>
              <a:rPr b="1" lang="he-IL" sz="36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he-IL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לא תמיד מותר להשמיט מספרים שליליים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7160" y="1828800"/>
            <a:ext cx="720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 u="sng">
                <a:solidFill>
                  <a:srgbClr val="ff0000"/>
                </a:solidFill>
                <a:uFillTx/>
                <a:latin typeface="Tahoma"/>
              </a:rPr>
              <a:t>שאלה</a:t>
            </a:r>
            <a:r>
              <a:rPr b="1" lang="he-IL" sz="30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he-IL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מתי 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מותר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להשמיט מספרים שליליי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במהלך החישוב ?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8280" y="3124080"/>
            <a:ext cx="89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he-IL" sz="2800" spc="-1" strike="noStrike">
                <a:solidFill>
                  <a:srgbClr val="ffff00"/>
                </a:solidFill>
                <a:latin typeface="Tahoma"/>
              </a:rPr>
              <a:t>כאשר הסכום המצטבר עד אליו (כולל אותו) הופך שליל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480" y="6033960"/>
            <a:ext cx="90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ccffff"/>
                </a:solidFill>
                <a:latin typeface="Tahoma"/>
              </a:rPr>
              <a:t>אחרי השמטת מספר שלילי, תתחיל סכימה חדשה מאפ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526040" y="3962520"/>
            <a:ext cx="5424840" cy="685800"/>
            <a:chOff x="1526040" y="3962520"/>
            <a:chExt cx="5424840" cy="685800"/>
          </a:xfrm>
        </p:grpSpPr>
        <p:sp>
          <p:nvSpPr>
            <p:cNvPr id="208" name=""/>
            <p:cNvSpPr/>
            <p:nvPr/>
          </p:nvSpPr>
          <p:spPr>
            <a:xfrm>
              <a:off x="2775960" y="3962520"/>
              <a:ext cx="41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-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-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843000" y="3504960"/>
              <a:ext cx="152640" cy="21337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90880" y="4267080"/>
              <a:ext cx="6094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6040" y="399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424160" y="4952880"/>
            <a:ext cx="7167240" cy="685440"/>
            <a:chOff x="1424160" y="4952880"/>
            <a:chExt cx="7167240" cy="685440"/>
          </a:xfrm>
        </p:grpSpPr>
        <p:sp>
          <p:nvSpPr>
            <p:cNvPr id="213" name=""/>
            <p:cNvSpPr/>
            <p:nvPr/>
          </p:nvSpPr>
          <p:spPr>
            <a:xfrm>
              <a:off x="2859120" y="4952880"/>
              <a:ext cx="573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לעומת: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-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-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 , </a:t>
              </a:r>
              <a:r>
                <a:rPr b="1" lang="he-IL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3733560" y="4419000"/>
              <a:ext cx="152280" cy="2286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5181480"/>
              <a:ext cx="60984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24160" y="495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he-IL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9040" y="4114800"/>
            <a:ext cx="568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60" y="5226120"/>
            <a:ext cx="295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98720" y="3581280"/>
            <a:ext cx="14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א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9040" y="4114800"/>
            <a:ext cx="568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7960" y="5226120"/>
            <a:ext cx="295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8720" y="3581280"/>
            <a:ext cx="14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א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9680" y="4292640"/>
            <a:ext cx="666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ff0000"/>
                </a:solidFill>
                <a:uFillTx/>
                <a:latin typeface="Tahoma"/>
              </a:rPr>
              <a:t>פתרון א'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(נובע מאבחנה א')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עבור כ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נספור כמ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יש אחריו 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מעברים על המחרוז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סיבוכיות הזמן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68640" y="3556080"/>
            <a:ext cx="80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אבחנה א</a:t>
            </a:r>
            <a:r>
              <a:rPr b="0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פותח מספר תתי מחרוזות כמספר ה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-ים שמופיעים אחריו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9040" y="4114800"/>
            <a:ext cx="568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3280" y="5226120"/>
            <a:ext cx="316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8720" y="3581280"/>
            <a:ext cx="14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א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9400" y="4114800"/>
            <a:ext cx="56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960" y="5226120"/>
            <a:ext cx="295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98720" y="3581280"/>
            <a:ext cx="14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א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9400" y="4114800"/>
            <a:ext cx="56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3280" y="5226120"/>
            <a:ext cx="316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98720" y="3581280"/>
            <a:ext cx="14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א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3280" y="5226120"/>
            <a:ext cx="316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78920" y="35812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א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9400" y="4114800"/>
            <a:ext cx="56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400" y="4114800"/>
            <a:ext cx="56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10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3280" y="5226120"/>
            <a:ext cx="316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28520" y="5683320"/>
            <a:ext cx="307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ahoma"/>
                <a:cs typeface="Guttman Yad-Brush"/>
              </a:rPr>
              <a:t>הסכום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Guttman Yad-Brush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Tahoma"/>
                <a:cs typeface="Guttman Yad-Brush"/>
              </a:rPr>
              <a:t>המכסימל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ahoma"/>
                <a:cs typeface="Guttman Yad-Brush"/>
              </a:rPr>
              <a:t>הוא </a:t>
            </a:r>
            <a:r>
              <a:rPr b="1" lang="he-IL" sz="2800" spc="-1" strike="noStrike">
                <a:solidFill>
                  <a:srgbClr val="ffffff"/>
                </a:solidFill>
                <a:latin typeface="Tahoma"/>
                <a:ea typeface="Guttman Yad-Brush"/>
              </a:rPr>
              <a:t>20</a:t>
            </a:r>
            <a:r>
              <a:rPr b="1" lang="he-IL" sz="2800" spc="-1" strike="noStrike">
                <a:solidFill>
                  <a:srgbClr val="ffffff"/>
                </a:solidFill>
                <a:latin typeface="Tahoma"/>
                <a:ea typeface="Guttman Yad-Brush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3276360" y="5486040"/>
            <a:ext cx="23619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98720" y="3581280"/>
            <a:ext cx="14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א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3000" y="41148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3 , 5 , 6 , 9-, 1 , 2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8960" y="5227560"/>
            <a:ext cx="29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3000" y="41148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3 , 5 , 6 , 9-, 1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8960" y="5227560"/>
            <a:ext cx="29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3000" y="41148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3 , 5 , 6 , 9-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8960" y="5227560"/>
            <a:ext cx="29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3000" y="41148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3 , 5 , 6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9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8080" y="5227560"/>
            <a:ext cx="312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2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3000" y="41148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3 , 5 , 6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9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61080" y="55785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rrent_Sum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 הפך שליל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ולכן נתחיל את הספירה מחד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96216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8080" y="5227560"/>
            <a:ext cx="312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2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5638680"/>
            <a:ext cx="6858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560" y="4038480"/>
            <a:ext cx="86907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ff0000"/>
                </a:solidFill>
                <a:uFillTx/>
                <a:latin typeface="Tahoma"/>
              </a:rPr>
              <a:t>פתרון ב'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(נובע מאבחנה ב')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עבור כ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נדע, כשנראה אותו, כמ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היו לפניו - מעבר אחד על המחרוז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 u="sng">
                <a:solidFill>
                  <a:srgbClr val="000000"/>
                </a:solidFill>
                <a:uFillTx/>
                <a:latin typeface="Tahoma"/>
              </a:rPr>
              <a:t>הסבר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: נשתמש במשתנה ששומר כמ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נקראו עד כה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ובכל פעם שנקרא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נוסיף את ערכו של המשתנה לסכום תת המחרוזות המצטב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סיבוכיות הזמן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3800" y="3556080"/>
            <a:ext cx="76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אבחנה ב</a:t>
            </a:r>
            <a:r>
              <a:rPr b="0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סוגר מספר תתי מחרוזות כמספר ה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-ים שהופיעו לפניו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000" y="41148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3 , 5 , 6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9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767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61080" y="55785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rrent_Sum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 הפך שליל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ולכן נתחיל את הספירה מחד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96216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1760" y="5227560"/>
            <a:ext cx="309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5638680"/>
            <a:ext cx="6858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3000" y="41148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3 , 5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9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0760" y="5227560"/>
            <a:ext cx="30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_sum 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6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3000" y="4114800"/>
            <a:ext cx="58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3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9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6440" y="5227560"/>
            <a:ext cx="327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11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3000" y="4114800"/>
            <a:ext cx="58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9-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44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85040" y="3581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דוגמה ב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386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6440" y="5227560"/>
            <a:ext cx="327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_sum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_Sum = 14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3000" y="5530680"/>
            <a:ext cx="307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ahoma"/>
                <a:cs typeface="Guttman Yad-Brush"/>
              </a:rPr>
              <a:t>הסכום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Guttman Yad-Brush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Tahoma"/>
                <a:cs typeface="Guttman Yad-Brush"/>
              </a:rPr>
              <a:t>המכסימל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ahoma"/>
                <a:cs typeface="Guttman Yad-Brush"/>
              </a:rPr>
              <a:t>הוא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Guttman Yad-Brush"/>
              </a:rPr>
              <a:t>14</a:t>
            </a:r>
            <a:r>
              <a:rPr b="1" lang="he-IL" sz="2800" spc="-1" strike="noStrike">
                <a:solidFill>
                  <a:srgbClr val="ffffff"/>
                </a:solidFill>
                <a:latin typeface="Tahoma"/>
                <a:ea typeface="Guttman Yad-Brush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428640" y="5486400"/>
            <a:ext cx="2384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5960" y="266688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סדרה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-   יתקבל הפלט: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2960" y="1143000"/>
            <a:ext cx="838188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0720" y="3809880"/>
            <a:ext cx="681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Tahoma"/>
              </a:rPr>
              <a:t>עברנו על הסדרה רק פעם אחת, ולכן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Tahoma"/>
              </a:rPr>
              <a:t>סיבוכיות הזמן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(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57560" y="1324080"/>
            <a:ext cx="790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דרת מספרים שלמים (חיוביים ושליליים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סכום תת הסדרה הגדול ביותר של מספרים רציפי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1600" y="1035000"/>
            <a:ext cx="884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cc00"/>
                </a:solidFill>
                <a:latin typeface="Tahoma"/>
              </a:rPr>
              <a:t>שוב, מצאנו שני פתרונות נכונים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cc00"/>
                </a:solidFill>
                <a:latin typeface="Tahoma"/>
              </a:rPr>
              <a:t>לאותה בעיה, עם סיבוכיות שונה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72480" y="4311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1280" y="4387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(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191120" y="3962520"/>
            <a:ext cx="981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118040" y="35568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ב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9000" y="1219320"/>
            <a:ext cx="8343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cc00"/>
                </a:solidFill>
                <a:latin typeface="Tahoma"/>
              </a:rPr>
              <a:t>אבל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cc00"/>
                </a:solidFill>
                <a:latin typeface="Tahoma"/>
              </a:rPr>
              <a:t>בדרך לפתרון השני הצענו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cc00"/>
                </a:solidFill>
                <a:latin typeface="Tahoma"/>
              </a:rPr>
              <a:t>תחילה פתרון שהתברר כשגוי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0" y="3657600"/>
            <a:ext cx="91767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ahoma"/>
              </a:rPr>
              <a:t>זיכרו!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היעילות חשובה, אך הנכונות חשובה יותר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אם היינו קובעים שמספר שלילי 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לא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יכול להיכלל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בתת סדרה בעלת הסכום המרבי, היה הפתרון שלנו שגוי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8560" y="5226120"/>
            <a:ext cx="250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032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8560" y="5226120"/>
            <a:ext cx="250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560" y="5226120"/>
            <a:ext cx="250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8560" y="5226120"/>
            <a:ext cx="250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8560" y="5226120"/>
            <a:ext cx="250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2 +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7760" y="5502240"/>
            <a:ext cx="5549760" cy="1191240"/>
            <a:chOff x="3047760" y="5502240"/>
            <a:chExt cx="5549760" cy="1191240"/>
          </a:xfrm>
        </p:grpSpPr>
        <p:sp>
          <p:nvSpPr>
            <p:cNvPr id="138" name=""/>
            <p:cNvSpPr/>
            <p:nvPr/>
          </p:nvSpPr>
          <p:spPr>
            <a:xfrm>
              <a:off x="4762440" y="5502240"/>
              <a:ext cx="383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קראנו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 ולכן הוספנו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את מספר ה-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 שנקראו ע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ff"/>
                  </a:solidFill>
                  <a:latin typeface="Tahoma"/>
                </a:rPr>
                <a:t>כה לצוב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047760" y="5943240"/>
              <a:ext cx="14684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215280" y="1324080"/>
            <a:ext cx="95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ק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נתונה מחרוזת תווים באורך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המורכבת מהתווים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 u="sng">
                <a:solidFill>
                  <a:srgbClr val="000000"/>
                </a:solidFill>
                <a:uFillTx/>
                <a:latin typeface="Tahoma"/>
              </a:rPr>
              <a:t>פלט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: מספר תתי המחרוזות בקלט שמתחיל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ומסתיימות ב-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0840" y="3556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תרגיל א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1960" y="355608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Tahoma"/>
              </a:rPr>
              <a:t>דוגמה לפתרון ב</a:t>
            </a:r>
            <a:r>
              <a:rPr b="1" lang="he-IL" sz="2000" spc="-1" strike="noStrike">
                <a:solidFill>
                  <a:srgbClr val="ff0000"/>
                </a:solidFill>
                <a:latin typeface="Tahoma"/>
              </a:rPr>
              <a:t>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7400" y="2666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ה עבור הק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cbbaac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     יתקבל הפלט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43000"/>
            <a:ext cx="887256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7720" y="4191120"/>
            <a:ext cx="63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8560" y="5226120"/>
            <a:ext cx="250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Of_a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0:11:11Z</dcterms:created>
  <dc:creator>Tal</dc:creator>
  <dc:description/>
  <dc:language>en-US</dc:language>
  <cp:lastModifiedBy>Tal</cp:lastModifiedBy>
  <dcterms:modified xsi:type="dcterms:W3CDTF">2004-07-24T15:43:43Z</dcterms:modified>
  <cp:revision>33</cp:revision>
  <dc:subject/>
  <dc:title>Slide 1</dc:title>
</cp:coreProperties>
</file>