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 rtl="1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 rtl="1">
              <a:spcBef>
                <a:spcPts val="799"/>
              </a:spcBef>
              <a:buClr>
                <a:srgbClr val="00ff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 rtl="1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25560">
            <a:solidFill>
              <a:srgbClr val="d98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8640" y="6407280"/>
            <a:ext cx="83026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8cf4ea"/>
                </a:solidFill>
                <a:latin typeface="Arial"/>
                <a:cs typeface="David"/>
              </a:rPr>
              <a:t>מצגות בעיצוב תכנה - המרכז להוראת המדעים, האונ’ העברית בי-ם - תשנ”ז         שקף מס' </a:t>
            </a:r>
            <a:fld id="{6DD4D58C-4D1C-4891-8215-B4657FCD6DE9}" type="slidenum">
              <a:rPr b="0" lang="he-IL" sz="1400" spc="-1" strike="noStrike">
                <a:solidFill>
                  <a:srgbClr val="8cf4ea"/>
                </a:solidFill>
                <a:latin typeface="Arial"/>
                <a:ea typeface="David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183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עץ בינר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747800" y="3657600"/>
            <a:ext cx="153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afd00"/>
                </a:solidFill>
                <a:latin typeface="Arial"/>
                <a:cs typeface="David"/>
              </a:rPr>
              <a:t>תור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062000" y="457200"/>
            <a:ext cx="6943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dfca"/>
                </a:solidFill>
                <a:latin typeface="Arial"/>
                <a:cs typeface="David"/>
              </a:rPr>
              <a:t>סריקה לפי רמות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9608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80440" y="3060720"/>
            <a:ext cx="35532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934320" y="4038480"/>
            <a:ext cx="901080" cy="901800"/>
            <a:chOff x="6934320" y="4038480"/>
            <a:chExt cx="901080" cy="901800"/>
          </a:xfrm>
        </p:grpSpPr>
        <p:sp>
          <p:nvSpPr>
            <p:cNvPr id="49" name=""/>
            <p:cNvSpPr/>
            <p:nvPr/>
          </p:nvSpPr>
          <p:spPr>
            <a:xfrm>
              <a:off x="693432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479720" y="4584600"/>
              <a:ext cx="35532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 flipH="1">
            <a:off x="617184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4220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18320" y="2298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432320" y="4038480"/>
            <a:ext cx="901440" cy="901800"/>
            <a:chOff x="4432320" y="4038480"/>
            <a:chExt cx="901440" cy="901800"/>
          </a:xfrm>
        </p:grpSpPr>
        <p:sp>
          <p:nvSpPr>
            <p:cNvPr id="56" name=""/>
            <p:cNvSpPr/>
            <p:nvPr/>
          </p:nvSpPr>
          <p:spPr>
            <a:xfrm flipH="1">
              <a:off x="464796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32320" y="4584600"/>
              <a:ext cx="35568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 flipH="1">
            <a:off x="540972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94440" y="3822840"/>
            <a:ext cx="35532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17184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56200" y="4584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6200" y="306072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1832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200400"/>
            <a:ext cx="1676160" cy="5335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50000">
                <a:srgbClr val="000000"/>
              </a:gs>
              <a:gs pos="100000">
                <a:srgbClr val="dc00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32004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373392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9608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80440" y="3060720"/>
            <a:ext cx="35532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934320" y="4038480"/>
            <a:ext cx="901080" cy="901800"/>
            <a:chOff x="6934320" y="4038480"/>
            <a:chExt cx="901080" cy="901800"/>
          </a:xfrm>
        </p:grpSpPr>
        <p:sp>
          <p:nvSpPr>
            <p:cNvPr id="255" name=""/>
            <p:cNvSpPr/>
            <p:nvPr/>
          </p:nvSpPr>
          <p:spPr>
            <a:xfrm>
              <a:off x="693432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479720" y="4584600"/>
              <a:ext cx="35532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dfca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 flipH="1">
            <a:off x="617184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4220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18320" y="2298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432320" y="4038480"/>
            <a:ext cx="901440" cy="901800"/>
            <a:chOff x="4432320" y="4038480"/>
            <a:chExt cx="901440" cy="901800"/>
          </a:xfrm>
        </p:grpSpPr>
        <p:sp>
          <p:nvSpPr>
            <p:cNvPr id="262" name=""/>
            <p:cNvSpPr/>
            <p:nvPr/>
          </p:nvSpPr>
          <p:spPr>
            <a:xfrm flipH="1">
              <a:off x="464796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32320" y="4584600"/>
              <a:ext cx="35568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dfca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 flipH="1">
            <a:off x="540972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94440" y="3822840"/>
            <a:ext cx="35532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17184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56200" y="4584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56200" y="306072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1832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76520" y="3200400"/>
            <a:ext cx="1676160" cy="5335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50000">
                <a:srgbClr val="000000"/>
              </a:gs>
              <a:gs pos="100000">
                <a:srgbClr val="dc00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32004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373392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3341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,D,H,E,G,Y,T,Z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9608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80440" y="3060720"/>
            <a:ext cx="35532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934320" y="4038480"/>
            <a:ext cx="901080" cy="901800"/>
            <a:chOff x="6934320" y="4038480"/>
            <a:chExt cx="901080" cy="901800"/>
          </a:xfrm>
        </p:grpSpPr>
        <p:sp>
          <p:nvSpPr>
            <p:cNvPr id="278" name=""/>
            <p:cNvSpPr/>
            <p:nvPr/>
          </p:nvSpPr>
          <p:spPr>
            <a:xfrm>
              <a:off x="693432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479720" y="4584600"/>
              <a:ext cx="35532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dfca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 flipH="1">
            <a:off x="617184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24220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18320" y="2298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7220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432320" y="4038480"/>
            <a:ext cx="901440" cy="901800"/>
            <a:chOff x="4432320" y="4038480"/>
            <a:chExt cx="901440" cy="901800"/>
          </a:xfrm>
        </p:grpSpPr>
        <p:sp>
          <p:nvSpPr>
            <p:cNvPr id="285" name=""/>
            <p:cNvSpPr/>
            <p:nvPr/>
          </p:nvSpPr>
          <p:spPr>
            <a:xfrm flipH="1">
              <a:off x="464796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32320" y="4584600"/>
              <a:ext cx="35568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dfca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H="1">
            <a:off x="540972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4440" y="3822840"/>
            <a:ext cx="35532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17184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56200" y="4584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56200" y="306072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1832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76520" y="3200400"/>
            <a:ext cx="1676160" cy="5335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50000">
                <a:srgbClr val="000000"/>
              </a:gs>
              <a:gs pos="100000">
                <a:srgbClr val="dc00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32004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373392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3341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,D,H,E,G,Y,T,Z,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769608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480440" y="3060720"/>
            <a:ext cx="35532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934320" y="4038480"/>
            <a:ext cx="901080" cy="901800"/>
            <a:chOff x="6934320" y="4038480"/>
            <a:chExt cx="901080" cy="901800"/>
          </a:xfrm>
        </p:grpSpPr>
        <p:sp>
          <p:nvSpPr>
            <p:cNvPr id="301" name=""/>
            <p:cNvSpPr/>
            <p:nvPr/>
          </p:nvSpPr>
          <p:spPr>
            <a:xfrm>
              <a:off x="693432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479720" y="4584600"/>
              <a:ext cx="35532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dfca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 flipH="1">
            <a:off x="617184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4220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18320" y="2298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432320" y="4038480"/>
            <a:ext cx="901440" cy="901800"/>
            <a:chOff x="4432320" y="4038480"/>
            <a:chExt cx="901440" cy="901800"/>
          </a:xfrm>
        </p:grpSpPr>
        <p:sp>
          <p:nvSpPr>
            <p:cNvPr id="308" name=""/>
            <p:cNvSpPr/>
            <p:nvPr/>
          </p:nvSpPr>
          <p:spPr>
            <a:xfrm flipH="1">
              <a:off x="464796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32320" y="4584600"/>
              <a:ext cx="35568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dfca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 flipH="1">
            <a:off x="540972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94440" y="3822840"/>
            <a:ext cx="35532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17184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56200" y="4584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56200" y="306072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1832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3200400"/>
            <a:ext cx="1676160" cy="5335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50000">
                <a:srgbClr val="000000"/>
              </a:gs>
              <a:gs pos="100000">
                <a:srgbClr val="dc00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76520" y="32004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373392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53341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,D,H,E,G,Y,T,Z,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200000">
            <a:off x="4000320" y="3085920"/>
            <a:ext cx="4647960" cy="838080"/>
          </a:xfrm>
          <a:prstGeom prst="rect">
            <a:avLst/>
          </a:prstGeom>
          <a:noFill/>
          <a:ln w="76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afd00"/>
                </a:solidFill>
                <a:latin typeface="Arial"/>
                <a:cs typeface="David"/>
              </a:rPr>
              <a:t>סריקת העץ הסתימה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9608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80440" y="3060720"/>
            <a:ext cx="35532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934320" y="4038480"/>
            <a:ext cx="901080" cy="901800"/>
            <a:chOff x="6934320" y="4038480"/>
            <a:chExt cx="901080" cy="901800"/>
          </a:xfrm>
        </p:grpSpPr>
        <p:sp>
          <p:nvSpPr>
            <p:cNvPr id="71" name=""/>
            <p:cNvSpPr/>
            <p:nvPr/>
          </p:nvSpPr>
          <p:spPr>
            <a:xfrm>
              <a:off x="693432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479720" y="4584600"/>
              <a:ext cx="35532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 flipH="1">
            <a:off x="617184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4220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18320" y="2298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432320" y="4038480"/>
            <a:ext cx="901440" cy="901800"/>
            <a:chOff x="4432320" y="4038480"/>
            <a:chExt cx="901440" cy="901800"/>
          </a:xfrm>
        </p:grpSpPr>
        <p:sp>
          <p:nvSpPr>
            <p:cNvPr id="78" name=""/>
            <p:cNvSpPr/>
            <p:nvPr/>
          </p:nvSpPr>
          <p:spPr>
            <a:xfrm flipH="1">
              <a:off x="464796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32320" y="4584600"/>
              <a:ext cx="35568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 flipH="1">
            <a:off x="540972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94440" y="3822840"/>
            <a:ext cx="35532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7184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56200" y="4584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56200" y="306072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1832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200400"/>
            <a:ext cx="1676160" cy="5335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50000">
                <a:srgbClr val="000000"/>
              </a:gs>
              <a:gs pos="100000">
                <a:srgbClr val="dc00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2004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73392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53341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9608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80440" y="3060720"/>
            <a:ext cx="35532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934320" y="4038480"/>
            <a:ext cx="901080" cy="901800"/>
            <a:chOff x="6934320" y="4038480"/>
            <a:chExt cx="901080" cy="901800"/>
          </a:xfrm>
        </p:grpSpPr>
        <p:sp>
          <p:nvSpPr>
            <p:cNvPr id="94" name=""/>
            <p:cNvSpPr/>
            <p:nvPr/>
          </p:nvSpPr>
          <p:spPr>
            <a:xfrm>
              <a:off x="693432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479720" y="4584600"/>
              <a:ext cx="35532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 flipH="1">
            <a:off x="617184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4220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18320" y="2298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432320" y="4038480"/>
            <a:ext cx="901440" cy="901800"/>
            <a:chOff x="4432320" y="4038480"/>
            <a:chExt cx="901440" cy="901800"/>
          </a:xfrm>
        </p:grpSpPr>
        <p:sp>
          <p:nvSpPr>
            <p:cNvPr id="101" name=""/>
            <p:cNvSpPr/>
            <p:nvPr/>
          </p:nvSpPr>
          <p:spPr>
            <a:xfrm flipH="1">
              <a:off x="464796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32320" y="4584600"/>
              <a:ext cx="35568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H="1">
            <a:off x="540972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94440" y="3822840"/>
            <a:ext cx="35532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17184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56200" y="4584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6200" y="306072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1832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3200400"/>
            <a:ext cx="1676160" cy="5335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50000">
                <a:srgbClr val="000000"/>
              </a:gs>
              <a:gs pos="100000">
                <a:srgbClr val="dc00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,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32004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73392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53341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9608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80440" y="3060720"/>
            <a:ext cx="35532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934320" y="4038480"/>
            <a:ext cx="901080" cy="901800"/>
            <a:chOff x="6934320" y="4038480"/>
            <a:chExt cx="901080" cy="901800"/>
          </a:xfrm>
        </p:grpSpPr>
        <p:sp>
          <p:nvSpPr>
            <p:cNvPr id="117" name=""/>
            <p:cNvSpPr/>
            <p:nvPr/>
          </p:nvSpPr>
          <p:spPr>
            <a:xfrm>
              <a:off x="693432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479720" y="4584600"/>
              <a:ext cx="35532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H="1">
            <a:off x="617184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4220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18320" y="2298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432320" y="4038480"/>
            <a:ext cx="901440" cy="901800"/>
            <a:chOff x="4432320" y="4038480"/>
            <a:chExt cx="901440" cy="901800"/>
          </a:xfrm>
        </p:grpSpPr>
        <p:sp>
          <p:nvSpPr>
            <p:cNvPr id="124" name=""/>
            <p:cNvSpPr/>
            <p:nvPr/>
          </p:nvSpPr>
          <p:spPr>
            <a:xfrm flipH="1">
              <a:off x="464796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32320" y="4584600"/>
              <a:ext cx="35568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H="1">
            <a:off x="540972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94440" y="3822840"/>
            <a:ext cx="35532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17184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56200" y="4584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56200" y="306072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1832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3200400"/>
            <a:ext cx="1676160" cy="5335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50000">
                <a:srgbClr val="000000"/>
              </a:gs>
              <a:gs pos="100000">
                <a:srgbClr val="dc00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,E,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32004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73392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3341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,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9608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80440" y="3060720"/>
            <a:ext cx="35532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934320" y="4038480"/>
            <a:ext cx="901080" cy="901800"/>
            <a:chOff x="6934320" y="4038480"/>
            <a:chExt cx="901080" cy="901800"/>
          </a:xfrm>
        </p:grpSpPr>
        <p:sp>
          <p:nvSpPr>
            <p:cNvPr id="140" name=""/>
            <p:cNvSpPr/>
            <p:nvPr/>
          </p:nvSpPr>
          <p:spPr>
            <a:xfrm>
              <a:off x="693432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479720" y="4584600"/>
              <a:ext cx="35532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 flipH="1">
            <a:off x="617184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4220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18320" y="2298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432320" y="4038480"/>
            <a:ext cx="901440" cy="901800"/>
            <a:chOff x="4432320" y="4038480"/>
            <a:chExt cx="901440" cy="901800"/>
          </a:xfrm>
        </p:grpSpPr>
        <p:sp>
          <p:nvSpPr>
            <p:cNvPr id="147" name=""/>
            <p:cNvSpPr/>
            <p:nvPr/>
          </p:nvSpPr>
          <p:spPr>
            <a:xfrm flipH="1">
              <a:off x="464796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32320" y="4584600"/>
              <a:ext cx="35568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flipH="1">
            <a:off x="540972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94440" y="3822840"/>
            <a:ext cx="35532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7184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56200" y="4584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56200" y="306072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1832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3200400"/>
            <a:ext cx="1676160" cy="5335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50000">
                <a:srgbClr val="000000"/>
              </a:gs>
              <a:gs pos="100000">
                <a:srgbClr val="dc00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,G,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32004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373392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53341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,D,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9608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80440" y="3060720"/>
            <a:ext cx="35532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934320" y="4038480"/>
            <a:ext cx="901080" cy="901800"/>
            <a:chOff x="6934320" y="4038480"/>
            <a:chExt cx="901080" cy="901800"/>
          </a:xfrm>
        </p:grpSpPr>
        <p:sp>
          <p:nvSpPr>
            <p:cNvPr id="163" name=""/>
            <p:cNvSpPr/>
            <p:nvPr/>
          </p:nvSpPr>
          <p:spPr>
            <a:xfrm>
              <a:off x="693432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479720" y="4584600"/>
              <a:ext cx="35532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H="1">
            <a:off x="617184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4220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18320" y="2298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432320" y="4038480"/>
            <a:ext cx="901440" cy="901800"/>
            <a:chOff x="4432320" y="4038480"/>
            <a:chExt cx="901440" cy="901800"/>
          </a:xfrm>
        </p:grpSpPr>
        <p:sp>
          <p:nvSpPr>
            <p:cNvPr id="170" name=""/>
            <p:cNvSpPr/>
            <p:nvPr/>
          </p:nvSpPr>
          <p:spPr>
            <a:xfrm flipH="1">
              <a:off x="464796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32320" y="4584600"/>
              <a:ext cx="35568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dfca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H="1">
            <a:off x="540972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94440" y="3822840"/>
            <a:ext cx="35532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17184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56200" y="4584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56200" y="306072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1832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3200400"/>
            <a:ext cx="1676160" cy="5335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50000">
                <a:srgbClr val="000000"/>
              </a:gs>
              <a:gs pos="100000">
                <a:srgbClr val="dc00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G,Y,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32004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373392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53341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,D,H,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9608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80440" y="3060720"/>
            <a:ext cx="35532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934320" y="4038480"/>
            <a:ext cx="901080" cy="901800"/>
            <a:chOff x="6934320" y="4038480"/>
            <a:chExt cx="901080" cy="901800"/>
          </a:xfrm>
        </p:grpSpPr>
        <p:sp>
          <p:nvSpPr>
            <p:cNvPr id="186" name=""/>
            <p:cNvSpPr/>
            <p:nvPr/>
          </p:nvSpPr>
          <p:spPr>
            <a:xfrm>
              <a:off x="693432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479720" y="4584600"/>
              <a:ext cx="35532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dfca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 flipH="1">
            <a:off x="617184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4220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18320" y="2298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432320" y="4038480"/>
            <a:ext cx="901440" cy="901800"/>
            <a:chOff x="4432320" y="4038480"/>
            <a:chExt cx="901440" cy="901800"/>
          </a:xfrm>
        </p:grpSpPr>
        <p:sp>
          <p:nvSpPr>
            <p:cNvPr id="193" name=""/>
            <p:cNvSpPr/>
            <p:nvPr/>
          </p:nvSpPr>
          <p:spPr>
            <a:xfrm flipH="1">
              <a:off x="464796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32320" y="4584600"/>
              <a:ext cx="35568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dfca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 flipH="1">
            <a:off x="540972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94440" y="3822840"/>
            <a:ext cx="35532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17184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56200" y="4584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56200" y="306072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1832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3200400"/>
            <a:ext cx="1676160" cy="5335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50000">
                <a:srgbClr val="000000"/>
              </a:gs>
              <a:gs pos="100000">
                <a:srgbClr val="dc00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Y,T,Z,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32004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73392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53341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,D,H,E,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9608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80440" y="3060720"/>
            <a:ext cx="35532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934320" y="4038480"/>
            <a:ext cx="901080" cy="901800"/>
            <a:chOff x="6934320" y="4038480"/>
            <a:chExt cx="901080" cy="901800"/>
          </a:xfrm>
        </p:grpSpPr>
        <p:sp>
          <p:nvSpPr>
            <p:cNvPr id="209" name=""/>
            <p:cNvSpPr/>
            <p:nvPr/>
          </p:nvSpPr>
          <p:spPr>
            <a:xfrm>
              <a:off x="693432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479720" y="4584600"/>
              <a:ext cx="35532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dfca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H="1">
            <a:off x="617184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220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18320" y="2298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432320" y="4038480"/>
            <a:ext cx="901440" cy="901800"/>
            <a:chOff x="4432320" y="4038480"/>
            <a:chExt cx="901440" cy="901800"/>
          </a:xfrm>
        </p:grpSpPr>
        <p:sp>
          <p:nvSpPr>
            <p:cNvPr id="216" name=""/>
            <p:cNvSpPr/>
            <p:nvPr/>
          </p:nvSpPr>
          <p:spPr>
            <a:xfrm flipH="1">
              <a:off x="464796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32320" y="4584600"/>
              <a:ext cx="35568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dfca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H="1">
            <a:off x="540972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94440" y="3822840"/>
            <a:ext cx="35532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17184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56200" y="4584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56200" y="306072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1832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3200400"/>
            <a:ext cx="1676160" cy="5335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50000">
                <a:srgbClr val="000000"/>
              </a:gs>
              <a:gs pos="100000">
                <a:srgbClr val="dc00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,Z,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76520" y="32004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373392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3341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,D,H,E,G,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9608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3432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80440" y="3060720"/>
            <a:ext cx="35532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934320" y="4038480"/>
            <a:ext cx="901080" cy="901800"/>
            <a:chOff x="6934320" y="4038480"/>
            <a:chExt cx="901080" cy="901800"/>
          </a:xfrm>
        </p:grpSpPr>
        <p:sp>
          <p:nvSpPr>
            <p:cNvPr id="232" name=""/>
            <p:cNvSpPr/>
            <p:nvPr/>
          </p:nvSpPr>
          <p:spPr>
            <a:xfrm>
              <a:off x="693432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479720" y="4584600"/>
              <a:ext cx="35532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dfca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 flipH="1">
            <a:off x="617184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4220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18320" y="2298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432320" y="4038480"/>
            <a:ext cx="901440" cy="901800"/>
            <a:chOff x="4432320" y="4038480"/>
            <a:chExt cx="901440" cy="901800"/>
          </a:xfrm>
        </p:grpSpPr>
        <p:sp>
          <p:nvSpPr>
            <p:cNvPr id="239" name=""/>
            <p:cNvSpPr/>
            <p:nvPr/>
          </p:nvSpPr>
          <p:spPr>
            <a:xfrm flipH="1">
              <a:off x="4647960" y="4038480"/>
              <a:ext cx="68580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32320" y="4584600"/>
              <a:ext cx="355680" cy="355680"/>
            </a:xfrm>
            <a:prstGeom prst="ellipse">
              <a:avLst/>
            </a:prstGeom>
            <a:solidFill>
              <a:srgbClr val="270063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dfca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H="1">
            <a:off x="5409720" y="32767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94440" y="3822840"/>
            <a:ext cx="35532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17184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56200" y="458460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56200" y="3060720"/>
            <a:ext cx="355680" cy="35568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18320" y="3822840"/>
            <a:ext cx="355680" cy="355320"/>
          </a:xfrm>
          <a:prstGeom prst="ellipse">
            <a:avLst/>
          </a:prstGeom>
          <a:solidFill>
            <a:srgbClr val="27006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200400"/>
            <a:ext cx="1676160" cy="5335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50000">
                <a:srgbClr val="000000"/>
              </a:gs>
              <a:gs pos="100000">
                <a:srgbClr val="dc00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Z,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32004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373392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53341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,D,H,E,G,Y,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2T14:27:10Z</dcterms:created>
  <dc:creator>MicroSoft Office</dc:creator>
  <dc:description/>
  <dc:language>en-US</dc:language>
  <cp:lastModifiedBy>Haim Averbuch</cp:lastModifiedBy>
  <dcterms:modified xsi:type="dcterms:W3CDTF">2004-07-06T08:21:47Z</dcterms:modified>
  <cp:revision>21</cp:revision>
  <dc:subject/>
  <dc:title>שקופית 1</dc:title>
</cp:coreProperties>
</file>