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0CCD-7DC6-461E-84D8-25F54C11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2ED-DBE5-4E80-83B1-FECCC164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1E8-E778-4288-AD8D-856E17F4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2C3-1B34-43FE-92F4-2B16A7DC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20D-9223-4667-A3F2-25E86E61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259-B0F2-4A83-A9E5-09E623DA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1FA-EA76-4D23-813A-C40FCCDB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EF59-5605-4B0C-9565-80343C72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CC8-685E-4141-8E9F-599A4F99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AC8-DB59-4AD9-9619-B1917136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6312-623A-42F4-82B4-76252FC6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191-6567-473D-99F2-B1C0CF72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A66E-160A-4A71-914B-F5A4CEEC5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r_unit.PPT" TargetMode="External"/><Relationship Id="rId2" Type="http://schemas.openxmlformats.org/officeDocument/2006/relationships/hyperlink" Target="file:///tr_forbid.PPT" TargetMode="External"/><Relationship Id="rId3" Type="http://schemas.openxmlformats.org/officeDocument/2006/relationships/image" Target="../media/image1.wmf"/><Relationship Id="rId4" Type="http://schemas.openxmlformats.org/officeDocument/2006/relationships/hyperlink" Target="file:///tree_other.ppt" TargetMode="External"/><Relationship Id="rId5" Type="http://schemas.openxmlformats.org/officeDocument/2006/relationships/hyperlink" Target="file:///tr_patt.ppt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6400800" y="2666880"/>
            <a:ext cx="2133720" cy="990720"/>
          </a:xfrm>
          <a:prstGeom prst="cloudCallout">
            <a:avLst>
              <a:gd name="adj1" fmla="val -99180"/>
              <a:gd name="adj2" fmla="val -5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פעולו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ממש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80880" y="2666880"/>
            <a:ext cx="2133720" cy="990720"/>
          </a:xfrm>
          <a:prstGeom prst="cloudCallout">
            <a:avLst>
              <a:gd name="adj1" fmla="val 84745"/>
              <a:gd name="adj2" fmla="val -91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גיאות נפוצו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978600" y="4572000"/>
            <a:ext cx="216540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rId4"/>
          </p:cNvPr>
          <p:cNvSpPr/>
          <p:nvPr/>
        </p:nvSpPr>
        <p:spPr>
          <a:xfrm>
            <a:off x="3371760" y="4876920"/>
            <a:ext cx="2133720" cy="990360"/>
          </a:xfrm>
          <a:prstGeom prst="cloudCallout">
            <a:avLst>
              <a:gd name="adj1" fmla="val 1712"/>
              <a:gd name="adj2" fmla="val -1610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חומרים נוספי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/>
          </p:cNvPr>
          <p:cNvSpPr/>
          <p:nvPr/>
        </p:nvSpPr>
        <p:spPr>
          <a:xfrm>
            <a:off x="3276720" y="533520"/>
            <a:ext cx="2133360" cy="990360"/>
          </a:xfrm>
          <a:prstGeom prst="cloudCallout">
            <a:avLst>
              <a:gd name="adj1" fmla="val 819"/>
              <a:gd name="adj2" fmla="val 131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133720"/>
            <a:ext cx="20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עץ בינאר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10:50Z</dcterms:created>
  <dc:creator>חיים אברבוך</dc:creator>
  <dc:description/>
  <dc:language>en-US</dc:language>
  <cp:lastModifiedBy>Haim Averbuch</cp:lastModifiedBy>
  <dcterms:modified xsi:type="dcterms:W3CDTF">2004-05-04T21:28:51Z</dcterms:modified>
  <cp:revision>65</cp:revision>
  <dc:subject/>
  <dc:title>עולמנו המופלא</dc:title>
</cp:coreProperties>
</file>