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FB1-71B5-49E5-B2D4-ED6A2371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6FF-B754-4B35-A724-7AD0881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CBB-1549-4E20-B40B-643AA575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E87-1F75-4AEE-8AF9-397A7F38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153-73AC-4435-8CEA-91CBA891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7D7-13C7-4831-B206-D39CB2B4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0D4-F19C-46A3-AF08-6A1C215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530-69C4-4D0A-AB19-3748055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2ED-52BD-446C-AF61-30786A9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6DD-1531-4CD8-B6E8-12E00EF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A6B-AB41-4033-B89C-1BF7DFE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57C-07CF-4467-BF70-EACF577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C87-A7E2-492C-BAE0-67F6AB844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t_brack.PPT" TargetMode="External"/><Relationship Id="rId2" Type="http://schemas.openxmlformats.org/officeDocument/2006/relationships/hyperlink" Target="file:///st_oops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5791320" y="4267080"/>
            <a:ext cx="2819160" cy="1067040"/>
          </a:xfrm>
          <a:prstGeom prst="cloudCallout">
            <a:avLst>
              <a:gd name="adj1" fmla="val -79333"/>
              <a:gd name="adj2" fmla="val -124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דיקת תקינות סוגרי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762120" y="4343400"/>
            <a:ext cx="2666880" cy="990720"/>
          </a:xfrm>
          <a:prstGeom prst="cloudCallout">
            <a:avLst>
              <a:gd name="adj1" fmla="val 78986"/>
              <a:gd name="adj2" fmla="val -145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פעולת אופ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5146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חסני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Tal</cp:lastModifiedBy>
  <dcterms:modified xsi:type="dcterms:W3CDTF">2004-07-24T15:31:22Z</dcterms:modified>
  <cp:revision>61</cp:revision>
  <dc:subject/>
  <dc:title>עולמנו המופלא</dc:title>
</cp:coreProperties>
</file>