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DA4-F046-45BB-842E-679639CE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D70-E7F7-461C-9853-6F8D595A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099-7207-4DD9-9866-6BB0F684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B7B-A813-439C-9E96-E29E6128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F86-C9D7-4705-9ACF-F3D26263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094-8028-459A-AEEB-E263CE15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274-9A1E-48DF-8BBC-244D4B8A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85B-67F9-4677-8857-544DAA1E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A1B-BF84-47FF-A656-8D6C2C70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B4A-5B92-49B4-91C1-BB08603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F52-B185-4F76-84CB-593EDD43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29E-C001-4282-8D16-59D2E3E0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B523-A5B9-4076-BCC2-4D27FF16A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3352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 u="sng">
                <a:solidFill>
                  <a:srgbClr val="ff3300"/>
                </a:solidFill>
                <a:uFillTx/>
                <a:latin typeface="Arial"/>
                <a:cs typeface="David"/>
              </a:rPr>
              <a:t>פעולות ממשק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David"/>
              </a:rPr>
              <a:t> (חלקיות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4114800" y="167652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אתחל-</a:t>
            </a:r>
            <a:r>
              <a:rPr b="0" lang="he-IL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רשימ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2876040" y="2398680"/>
            <a:ext cx="56322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</a:rPr>
              <a:t>רשימה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3" action="ppaction://hlinksldjump"/>
              </a:rPr>
              <a:t>-ריקה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4" action="ppaction://hlinksldjump"/>
              </a:rPr>
              <a:t>?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5" action="ppaction://hlinksldjump"/>
              </a:rPr>
              <a:t>(T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2560" y="4267080"/>
            <a:ext cx="57934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</a:rPr>
              <a:t>הכנס-לרשימה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6" action="ppaction://hlinksldjump"/>
              </a:rPr>
              <a:t>(T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2635200" y="3352680"/>
            <a:ext cx="58802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  <a:hlinkClick r:id="rId8" action="ppaction://hlinksldjump"/>
              </a:rPr>
              <a:t>אחזר-מרשימה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9" action="ppaction://hlinksldjump"/>
              </a:rPr>
              <a:t>(T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4080" y="5257800"/>
            <a:ext cx="58471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  <a:hlinkClick r:id="rId10" action="ppaction://hlinksldjump"/>
              </a:rPr>
              <a:t>הוצא-מרשימה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11" action="ppaction://hlinksldjump"/>
              </a:rPr>
              <a:t>(T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380880"/>
            <a:ext cx="4952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3300"/>
                </a:solidFill>
                <a:latin typeface="Arial"/>
                <a:cs typeface="David"/>
              </a:rPr>
              <a:t>אתחל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-</a:t>
            </a:r>
            <a:r>
              <a:rPr b="1" lang="he-IL" sz="6000" spc="-1" strike="noStrike">
                <a:solidFill>
                  <a:srgbClr val="ff3300"/>
                </a:solidFill>
                <a:latin typeface="Arial"/>
                <a:cs typeface="David"/>
              </a:rPr>
              <a:t>רשימה</a:t>
            </a:r>
            <a:r>
              <a:rPr b="1" lang="he-IL" sz="6000" spc="-1" strike="noStrike">
                <a:solidFill>
                  <a:srgbClr val="ff3300"/>
                </a:solidFill>
                <a:latin typeface="Arial"/>
                <a:ea typeface="David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51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נוצרת רשימה ריק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עם עוגן וסו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543800" y="2743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21440" y="4379760"/>
            <a:ext cx="1407960" cy="649440"/>
            <a:chOff x="5221440" y="4379760"/>
            <a:chExt cx="1407960" cy="64944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5221440" y="4379760"/>
              <a:ext cx="49356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095880" y="4419720"/>
              <a:ext cx="53352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129360" y="45244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5000" y="4648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80880"/>
            <a:ext cx="5638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רשימה-ריקה? (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L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17524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מצ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281952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ערך מוחזר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"אמת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80880" y="1523880"/>
            <a:ext cx="3644640" cy="2806560"/>
            <a:chOff x="380880" y="1523880"/>
            <a:chExt cx="3644640" cy="2806560"/>
          </a:xfrm>
        </p:grpSpPr>
        <p:sp>
          <p:nvSpPr>
            <p:cNvPr id="65" name=""/>
            <p:cNvSpPr/>
            <p:nvPr/>
          </p:nvSpPr>
          <p:spPr>
            <a:xfrm>
              <a:off x="380880" y="15238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17906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ה: הרשימה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L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אותחלת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181480" y="563868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ערך מוחזר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"שקר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מצ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562720" y="1828800"/>
            <a:ext cx="1407960" cy="649440"/>
            <a:chOff x="5562720" y="1828800"/>
            <a:chExt cx="1407960" cy="64944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562720" y="1828800"/>
              <a:ext cx="49356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437160" y="1868760"/>
              <a:ext cx="53352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470640" y="19735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56280" y="2097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191120" y="4379760"/>
            <a:ext cx="493560" cy="64944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6781680" y="4419720"/>
            <a:ext cx="533520" cy="609480"/>
            <a:chOff x="6781680" y="4419720"/>
            <a:chExt cx="533520" cy="609480"/>
          </a:xfrm>
        </p:grpSpPr>
        <p:sp>
          <p:nvSpPr>
            <p:cNvPr id="76" name=""/>
            <p:cNvSpPr/>
            <p:nvPr/>
          </p:nvSpPr>
          <p:spPr>
            <a:xfrm>
              <a:off x="6781680" y="4419720"/>
              <a:ext cx="53352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815160" y="45244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68468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2240" y="4410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73480" y="441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אחזר-מרשימה (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L, p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)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x </a:t>
            </a:r>
            <a:r>
              <a:rPr b="1" lang="en-US" sz="60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320" y="2070000"/>
            <a:ext cx="4190400" cy="2806560"/>
            <a:chOff x="76320" y="2070000"/>
            <a:chExt cx="4190400" cy="2806560"/>
          </a:xfrm>
        </p:grpSpPr>
        <p:sp>
          <p:nvSpPr>
            <p:cNvPr id="86" name=""/>
            <p:cNvSpPr/>
            <p:nvPr/>
          </p:nvSpPr>
          <p:spPr>
            <a:xfrm>
              <a:off x="76320" y="2070000"/>
              <a:ext cx="419040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9120" y="2336760"/>
              <a:ext cx="366480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ות: </a:t>
              </a:r>
              <a:br>
                <a:rPr sz="3000"/>
              </a:br>
              <a:r>
                <a:rPr b="0" lang="en-US" sz="30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רשימה </a:t>
              </a:r>
              <a:r>
                <a:rPr b="0" lang="en-US" sz="3000" spc="-1" strike="noStrike">
                  <a:solidFill>
                    <a:srgbClr val="3333cc"/>
                  </a:solidFill>
                  <a:latin typeface="Arial"/>
                  <a:ea typeface="Arial"/>
                </a:rPr>
                <a:t>L</a:t>
              </a:r>
              <a:r>
                <a:rPr b="0" lang="en-US" sz="30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מאותחלת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cc"/>
                  </a:solidFill>
                  <a:latin typeface="Arial"/>
                  <a:ea typeface="Arial"/>
                </a:rPr>
                <a:t>P</a:t>
              </a:r>
              <a:r>
                <a:rPr b="0" lang="en-US" sz="30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מקום בתוכה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000" spc="-1" strike="noStrike">
                  <a:solidFill>
                    <a:srgbClr val="3333cc"/>
                  </a:solidFill>
                  <a:latin typeface="Arial"/>
                  <a:cs typeface="Arial"/>
                </a:rPr>
                <a:t>שאינו עוגן או סוף רשימה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343400" y="2209680"/>
            <a:ext cx="3124080" cy="649440"/>
            <a:chOff x="4343400" y="2209680"/>
            <a:chExt cx="3124080" cy="6494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4343400" y="2209680"/>
              <a:ext cx="493560" cy="64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6933960" y="2249640"/>
              <a:ext cx="533520" cy="609480"/>
              <a:chOff x="6933960" y="2249640"/>
              <a:chExt cx="533520" cy="609480"/>
            </a:xfrm>
          </p:grpSpPr>
          <p:sp>
            <p:nvSpPr>
              <p:cNvPr id="91" name=""/>
              <p:cNvSpPr/>
              <p:nvPr/>
            </p:nvSpPr>
            <p:spPr>
              <a:xfrm>
                <a:off x="6933960" y="2249640"/>
                <a:ext cx="5335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967440" y="2354400"/>
                <a:ext cx="4572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36960" y="2478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53080" y="2478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4520" y="22399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25760" y="2249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38680" y="2478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V="1">
            <a:off x="5886360" y="2824200"/>
            <a:ext cx="304920" cy="5335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91520" y="327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228600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452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53000" y="4572000"/>
            <a:ext cx="12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3300"/>
                </a:solidFill>
                <a:latin typeface="Arial"/>
                <a:cs typeface="David"/>
              </a:rPr>
              <a:t>הכנס-ל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רשימה (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L, p, x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2280" y="2133720"/>
            <a:ext cx="3809880" cy="2806560"/>
            <a:chOff x="152280" y="2133720"/>
            <a:chExt cx="3809880" cy="2806560"/>
          </a:xfrm>
        </p:grpSpPr>
        <p:sp>
          <p:nvSpPr>
            <p:cNvPr id="106" name=""/>
            <p:cNvSpPr/>
            <p:nvPr/>
          </p:nvSpPr>
          <p:spPr>
            <a:xfrm>
              <a:off x="152280" y="2133720"/>
              <a:ext cx="380988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960" y="2400480"/>
              <a:ext cx="333216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ות: 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רשימה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L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מאותחלת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P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מקום בתוכה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שאינו סוף-רשימ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343400" y="2209680"/>
            <a:ext cx="3124080" cy="649440"/>
            <a:chOff x="4343400" y="2209680"/>
            <a:chExt cx="3124080" cy="6494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4343400" y="2209680"/>
              <a:ext cx="493560" cy="64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6933960" y="2249640"/>
              <a:ext cx="533520" cy="609480"/>
              <a:chOff x="6933960" y="2249640"/>
              <a:chExt cx="533520" cy="6094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33960" y="2249640"/>
                <a:ext cx="5335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967440" y="2354400"/>
                <a:ext cx="4572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836960" y="2478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3080" y="2478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4520" y="22399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25760" y="2249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38680" y="2478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 flipV="1">
            <a:off x="5486040" y="2742840"/>
            <a:ext cx="228600" cy="6094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1520" y="327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228600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52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8720" y="274320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493560" cy="64944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7238880" y="4611600"/>
            <a:ext cx="533520" cy="609480"/>
            <a:chOff x="7238880" y="4611600"/>
            <a:chExt cx="533520" cy="609480"/>
          </a:xfrm>
        </p:grpSpPr>
        <p:sp>
          <p:nvSpPr>
            <p:cNvPr id="125" name=""/>
            <p:cNvSpPr/>
            <p:nvPr/>
          </p:nvSpPr>
          <p:spPr>
            <a:xfrm>
              <a:off x="7238880" y="4611600"/>
              <a:ext cx="53352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272360" y="47163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419720" y="484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484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19440" y="4602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1120" y="4586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484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4160" y="45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97600" y="4844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028840" y="5028840"/>
            <a:ext cx="228600" cy="6094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34320" y="556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3300"/>
                </a:solidFill>
                <a:latin typeface="Arial"/>
                <a:cs typeface="David"/>
              </a:rPr>
              <a:t>הוצא-מ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רשימה (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L, p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52280" y="2133720"/>
            <a:ext cx="3809880" cy="2806560"/>
            <a:chOff x="152280" y="2133720"/>
            <a:chExt cx="3809880" cy="2806560"/>
          </a:xfrm>
        </p:grpSpPr>
        <p:sp>
          <p:nvSpPr>
            <p:cNvPr id="139" name=""/>
            <p:cNvSpPr/>
            <p:nvPr/>
          </p:nvSpPr>
          <p:spPr>
            <a:xfrm>
              <a:off x="152280" y="2133720"/>
              <a:ext cx="380988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0960" y="2400480"/>
              <a:ext cx="333216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cc"/>
                  </a:solidFill>
                  <a:latin typeface="Times New Roman"/>
                </a:rPr>
                <a:t>הנחות: </a:t>
              </a:r>
              <a:br>
                <a:rPr sz="3000"/>
              </a:br>
              <a:r>
                <a:rPr b="0" lang="en-US" sz="3000" spc="-1" strike="noStrike">
                  <a:solidFill>
                    <a:srgbClr val="3333cc"/>
                  </a:solidFill>
                  <a:latin typeface="Times New Roman"/>
                </a:rPr>
                <a:t>הרשימה </a:t>
              </a:r>
              <a:r>
                <a:rPr b="0" lang="en-US" sz="30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3333cc"/>
                  </a:solidFill>
                  <a:latin typeface="Times New Roman"/>
                </a:rPr>
                <a:t> מאותחלת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3333cc"/>
                  </a:solidFill>
                  <a:latin typeface="Times New Roman"/>
                </a:rPr>
                <a:t> מקום בתוכה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000" spc="-1" strike="noStrike">
                  <a:solidFill>
                    <a:srgbClr val="3333cc"/>
                  </a:solidFill>
                  <a:latin typeface="Times New Roman"/>
                </a:rPr>
                <a:t>שאינו עוגן או סוף רשימה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343400" y="4495680"/>
            <a:ext cx="3124080" cy="649440"/>
            <a:chOff x="4343400" y="4495680"/>
            <a:chExt cx="3124080" cy="6494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4343400" y="4495680"/>
              <a:ext cx="493560" cy="64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"/>
            <p:cNvGrpSpPr/>
            <p:nvPr/>
          </p:nvGrpSpPr>
          <p:grpSpPr>
            <a:xfrm>
              <a:off x="6933960" y="4535640"/>
              <a:ext cx="533520" cy="609480"/>
              <a:chOff x="6933960" y="4535640"/>
              <a:chExt cx="53352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933960" y="4535640"/>
                <a:ext cx="5335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6967440" y="4640400"/>
                <a:ext cx="4572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4836960" y="4764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53080" y="4764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14520" y="45259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25760" y="4535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764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V="1">
            <a:off x="5715000" y="2742840"/>
            <a:ext cx="0" cy="6094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8200" y="327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228600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452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14800" y="2133720"/>
            <a:ext cx="3657600" cy="649080"/>
            <a:chOff x="4114800" y="2133720"/>
            <a:chExt cx="3657600" cy="64908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4114800" y="2133720"/>
              <a:ext cx="493560" cy="64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7238880" y="2172960"/>
              <a:ext cx="533520" cy="609480"/>
              <a:chOff x="7238880" y="2172960"/>
              <a:chExt cx="533520" cy="609480"/>
            </a:xfrm>
          </p:grpSpPr>
          <p:sp>
            <p:nvSpPr>
              <p:cNvPr id="158" name=""/>
              <p:cNvSpPr/>
              <p:nvPr/>
            </p:nvSpPr>
            <p:spPr>
              <a:xfrm>
                <a:off x="7238880" y="2172960"/>
                <a:ext cx="5335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272360" y="2277720"/>
                <a:ext cx="4572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419720" y="24015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0" y="2401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19440" y="21636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21120" y="2147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1480" y="2401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4160" y="21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7600" y="2406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V="1">
            <a:off x="6248520" y="5105160"/>
            <a:ext cx="0" cy="6094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487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Tal</cp:lastModifiedBy>
  <dcterms:modified xsi:type="dcterms:W3CDTF">2004-07-24T15:26:39Z</dcterms:modified>
  <cp:revision>66</cp:revision>
  <dc:subject/>
  <dc:title>עולמנו המופלא</dc:title>
</cp:coreProperties>
</file>