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dfca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00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2520" y="6400800"/>
            <a:ext cx="831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cf4ea"/>
                </a:solidFill>
                <a:latin typeface="Arial"/>
                <a:cs typeface="David"/>
              </a:rPr>
              <a:t>מצגות בעיצוב תכנה - המרכז להוראת המדעים, האונ’ העברית בי-ם - תשנ”ז         שקף מס' </a:t>
            </a:r>
            <a:fld id="{77CB9221-388F-4E3E-9032-7BAE439A361B}" type="slidenum">
              <a:rPr b="0" lang="en-US" sz="14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עץ בינ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3400" y="533520"/>
            <a:ext cx="74772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dfca"/>
                </a:solidFill>
                <a:latin typeface="Arial"/>
                <a:cs typeface="David"/>
              </a:rPr>
              <a:t>סריקה בסדר תוכי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114800" y="2057400"/>
            <a:ext cx="4657680" cy="2222640"/>
            <a:chOff x="4114800" y="2057400"/>
            <a:chExt cx="4657680" cy="2222640"/>
          </a:xfrm>
        </p:grpSpPr>
        <p:sp>
          <p:nvSpPr>
            <p:cNvPr id="61" name=""/>
            <p:cNvSpPr/>
            <p:nvPr/>
          </p:nvSpPr>
          <p:spPr>
            <a:xfrm>
              <a:off x="420660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7676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7676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676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240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8360" y="3581280"/>
              <a:ext cx="695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480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7240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816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1500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936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0100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948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59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616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66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686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720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3880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38800" y="41148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76840" y="37339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10200" y="4114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77040" y="37339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77040" y="44956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757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774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844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895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94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963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980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15120" y="2666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15120" y="380988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52800" y="342900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86520" y="3809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553000" y="34290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53000" y="419112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01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1033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085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1102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1135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23880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238800" y="41148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876840" y="37339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10200" y="4114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77040" y="37339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77040" y="44956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172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1189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258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063880"/>
            <a:ext cx="4718160" cy="197460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43828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765440" y="1994040"/>
            <a:ext cx="35532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52720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1574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315120" y="2666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15120" y="380988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952800" y="342900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086520" y="3809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553000" y="34290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553000" y="419112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1709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315120" y="2666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315120" y="380988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52800" y="342900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086520" y="3809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553000" y="34290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553000" y="419112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876840" y="2971800"/>
            <a:ext cx="4657680" cy="2222640"/>
            <a:chOff x="3876840" y="2971800"/>
            <a:chExt cx="4657680" cy="2222640"/>
          </a:xfrm>
        </p:grpSpPr>
        <p:sp>
          <p:nvSpPr>
            <p:cNvPr id="1726" name=""/>
            <p:cNvSpPr/>
            <p:nvPr/>
          </p:nvSpPr>
          <p:spPr>
            <a:xfrm>
              <a:off x="3968640" y="29782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238800" y="29718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238800" y="2971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238800" y="41148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34440" y="41148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610400" y="44956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876840" y="37339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34440" y="37339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010200" y="41148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7040" y="37339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181400" y="44956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77040" y="44956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763040" y="33526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391440" y="33526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e-IL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עץ-ריק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934240" y="33526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391520" y="33526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,H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467400" y="3200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763040" y="3200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839000" y="35812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238800" y="3200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410000" y="35812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5705640" y="35812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3952800" y="2666880"/>
            <a:ext cx="4657680" cy="2223000"/>
            <a:chOff x="3952800" y="2666880"/>
            <a:chExt cx="4657680" cy="2223000"/>
          </a:xfrm>
        </p:grpSpPr>
        <p:sp>
          <p:nvSpPr>
            <p:cNvPr id="1795" name=""/>
            <p:cNvSpPr/>
            <p:nvPr/>
          </p:nvSpPr>
          <p:spPr>
            <a:xfrm>
              <a:off x="4044960" y="267336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15120" y="26668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15120" y="2666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15120" y="380988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10400" y="38098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86720" y="419112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952800" y="342900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10400" y="34290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086520" y="380988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553000" y="34290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57720" y="419112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553000" y="419112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839000" y="30481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467400" y="304812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010200" y="304812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467480" y="3048120"/>
              <a:ext cx="92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52720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289320" y="351792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,H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197240" y="20638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467400" y="20574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467400" y="2057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05440" y="28195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763040" y="28195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705640" y="28195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7991640" y="2438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6620040" y="24382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162840" y="24382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620120" y="24382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2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,B,G,E,A,C,H,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rot="20040000">
            <a:off x="101520" y="2997000"/>
            <a:ext cx="3683160" cy="71100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e9b03"/>
                </a:solidFill>
                <a:latin typeface="Arial"/>
                <a:cs typeface="David"/>
              </a:rPr>
              <a:t>העץ נסרק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4280040"/>
            <a:ext cx="3556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03320" y="275580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5440" y="3517920"/>
            <a:ext cx="35532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17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91440" y="350532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63040" y="388620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2912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8672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62840" y="3505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2932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34040" y="388620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2932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43720" y="274320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6520" y="27432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226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67400" y="35053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6304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39000" y="388620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0544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6304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0" y="3505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0564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10000" y="388620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0564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5320" y="2743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0040" y="274320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62840" y="274320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293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121280" y="2368440"/>
            <a:ext cx="4559040" cy="196848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91440" y="23623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91440" y="236232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67400" y="350532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63040" y="35053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39000" y="388620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05440" y="31240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3040" y="31240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35053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05640" y="31240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10000" y="388620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05640" y="38862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20040" y="274320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62840" y="274320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274320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35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376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91440" y="38098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8672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6304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29120" y="34290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8672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62840" y="3809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29320" y="34290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34040" y="419112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29320" y="41911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4372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8652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304812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508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443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460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91440" y="3809880"/>
            <a:ext cx="153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8672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6304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029120" y="342900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8672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162840" y="38098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29320" y="342900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34040" y="419112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629320" y="41911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4372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עץ-ריק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8652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43800" y="304812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68640" y="297828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0" y="2971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238800" y="2971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238800" y="41148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534440" y="411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10400" y="4495680"/>
            <a:ext cx="695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76840" y="373392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534440" y="37339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010200" y="411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77040" y="373392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81400" y="449568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477040" y="44956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763040" y="33526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91440" y="3352680"/>
            <a:ext cx="107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934240" y="3352680"/>
            <a:ext cx="6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391520" y="3352680"/>
            <a:ext cx="92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1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4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74320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98108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2108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74284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2108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20968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8284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58960" y="1987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56840" y="297180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1200" y="3517920"/>
            <a:ext cx="355680" cy="3556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218960" y="3733920"/>
            <a:ext cx="685800" cy="685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6840" y="427356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6840" y="274968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58960" y="35114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50292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105440" y="2057400"/>
            <a:ext cx="4657680" cy="2222640"/>
            <a:chOff x="4105440" y="2057400"/>
            <a:chExt cx="4657680" cy="2222640"/>
          </a:xfrm>
        </p:grpSpPr>
        <p:sp>
          <p:nvSpPr>
            <p:cNvPr id="529" name=""/>
            <p:cNvSpPr/>
            <p:nvPr/>
          </p:nvSpPr>
          <p:spPr>
            <a:xfrm>
              <a:off x="4197240" y="2063880"/>
              <a:ext cx="455940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67400" y="2057400"/>
              <a:ext cx="2295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67400" y="2057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67400" y="3200400"/>
              <a:ext cx="153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63040" y="32004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39000" y="3581280"/>
              <a:ext cx="69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05440" y="281952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63040" y="28195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38800" y="32004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05640" y="28195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10000" y="3581280"/>
              <a:ext cx="1762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05640" y="35812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91640" y="24382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20040" y="2438280"/>
              <a:ext cx="107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62840" y="243828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20120" y="243828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029120" y="2362320"/>
            <a:ext cx="4657680" cy="2222640"/>
            <a:chOff x="4029120" y="2362320"/>
            <a:chExt cx="4657680" cy="2222640"/>
          </a:xfrm>
        </p:grpSpPr>
        <p:sp>
          <p:nvSpPr>
            <p:cNvPr id="546" name=""/>
            <p:cNvSpPr/>
            <p:nvPr/>
          </p:nvSpPr>
          <p:spPr>
            <a:xfrm>
              <a:off x="4121280" y="2368440"/>
              <a:ext cx="4559040" cy="19684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91440" y="236232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91440" y="2362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91440" y="3505320"/>
              <a:ext cx="15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בקר בשורש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86720" y="350532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2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63040" y="3886200"/>
              <a:ext cx="695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3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29120" y="3124080"/>
              <a:ext cx="206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שמאל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6720" y="312408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.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62840" y="350532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29320" y="312408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34040" y="3886200"/>
              <a:ext cx="1761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תת-עץ-ימנ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29320" y="3886200"/>
              <a:ext cx="22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 </a:t>
              </a:r>
              <a:r>
                <a:rPr b="1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סרוק-בסדר-תוכי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15320" y="2743200"/>
              <a:ext cx="77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43720" y="2743200"/>
              <a:ext cx="1076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David"/>
                </a:rPr>
                <a:t>?עץ-ריק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86520" y="2743200"/>
              <a:ext cx="61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43800" y="2743200"/>
              <a:ext cx="923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afd00"/>
                  </a:solidFill>
                  <a:latin typeface="Arial"/>
                  <a:cs typeface="David"/>
                </a:rPr>
                <a:t>אם לא</a:t>
              </a:r>
              <a:endParaRPr b="0" lang="en-US" sz="20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44960" y="2673360"/>
            <a:ext cx="4559400" cy="196848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15120" y="2666880"/>
            <a:ext cx="229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15120" y="2666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15120" y="38098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i-IN" sz="2000" spc="-1" strike="noStrike">
                <a:solidFill>
                  <a:srgbClr val="00ff00"/>
                </a:solidFill>
                <a:latin typeface="Arial"/>
                <a:cs typeface="David"/>
              </a:rPr>
              <a:t>בקר בשורש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10400" y="38098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686720" y="4191120"/>
            <a:ext cx="695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52800" y="3429000"/>
            <a:ext cx="2067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שמאל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10400" y="34290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6520" y="38098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53000" y="34290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57720" y="4191120"/>
            <a:ext cx="176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cs typeface="David"/>
              </a:rPr>
              <a:t>תת-עץ-ימנ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53000" y="419112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סרוק-בסדר-תוכ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839000" y="304812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67400" y="3048120"/>
            <a:ext cx="107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ץ-רי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10200" y="30481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3048120"/>
            <a:ext cx="92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ם לא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91120" y="20574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23623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66688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1T18:40:56Z</dcterms:created>
  <dc:creator>MicroSoft Office</dc:creator>
  <dc:description/>
  <dc:language>en-US</dc:language>
  <cp:lastModifiedBy>Tal</cp:lastModifiedBy>
  <dcterms:modified xsi:type="dcterms:W3CDTF">2004-07-24T16:12:20Z</dcterms:modified>
  <cp:revision>19</cp:revision>
  <dc:subject/>
  <dc:title>שקופית 1</dc:title>
</cp:coreProperties>
</file>