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8640" y="6407280"/>
            <a:ext cx="8302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cf4ea"/>
                </a:solidFill>
                <a:latin typeface="Arial"/>
                <a:ea typeface="David"/>
              </a:rPr>
              <a:t> מצגות בעיצוב תכנה - המרכז להוראת המדעים, האונ’ העברית בי-ם - תשנ”ז         שקף מס' </a:t>
            </a:r>
            <a:fld id="{7CB88D21-1C2D-4911-91B8-24B6E8EDD307}" type="slidenum">
              <a:rPr b="0" lang="en-US" sz="14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עץ בינ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38320" y="609480"/>
            <a:ext cx="68673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dfca"/>
                </a:solidFill>
                <a:latin typeface="Arial"/>
                <a:cs typeface="David"/>
              </a:rPr>
              <a:t>בניית עץ לביטוי חשבוני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4680" y="3733920"/>
            <a:ext cx="3286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עותקי התו        הנוצרים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במהלך הרקורסיה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90600" y="3733920"/>
            <a:ext cx="466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c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      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dfca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4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14800" y="16765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afd00"/>
                </a:solidFill>
                <a:latin typeface="Arial"/>
              </a:rPr>
              <a:t>האלגוריתם לבניית העץ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3048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 =3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-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-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-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 =2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-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474747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-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474747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3048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1120" y="2292480"/>
            <a:ext cx="4265640" cy="35686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7200" y="2336760"/>
            <a:ext cx="191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נה-עץ-ביטו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89320" y="26416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68760" y="2336760"/>
            <a:ext cx="609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78240" y="2641680"/>
            <a:ext cx="107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קרא תו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5320" y="3611520"/>
            <a:ext cx="115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c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 = ‘(‘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09720" y="3308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c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330840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2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4320" y="2944800"/>
            <a:ext cx="747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ch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89320" y="29448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22560" y="26416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ch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24200" y="2944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 אם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41320" y="2944800"/>
            <a:ext cx="229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הוא ספרה בצע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: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6600" y="3308400"/>
            <a:ext cx="191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נה-עץ-צומת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9160" y="3611520"/>
            <a:ext cx="145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אחרת, אם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0720" y="3611520"/>
            <a:ext cx="115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בצע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: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89320" y="36115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0" y="391644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3.1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0" y="421956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3.2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0" y="452268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3.3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5000" y="4522680"/>
            <a:ext cx="172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נה-עץ-ביטו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5000" y="3916440"/>
            <a:ext cx="172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נה-עץ-ביטו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38520" y="4219560"/>
            <a:ext cx="12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קרא תו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6040" y="421956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ch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0" y="482616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3.4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0" y="512928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3.5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89280" y="4826160"/>
            <a:ext cx="115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בנה-עץ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85680" y="4826160"/>
            <a:ext cx="3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0320" y="4826160"/>
            <a:ext cx="199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T1, T2, c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65360" y="51292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קרא תו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0080" y="512928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ch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89320" y="54324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84480" y="543240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החזר את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81440" y="54324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2720" y="512928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‘)‘{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1480" y="5129280"/>
            <a:ext cx="153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afd00"/>
                </a:solidFill>
                <a:latin typeface="Arial"/>
                <a:cs typeface="David"/>
              </a:rPr>
              <a:t>צריך להיות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1320" y="5129280"/>
            <a:ext cx="32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}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676520"/>
            <a:ext cx="4952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David"/>
              </a:rPr>
              <a:t>:האלגוריתם לבניית העץ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94920" y="50292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0600" y="3301920"/>
            <a:ext cx="3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99840" y="3505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95520" y="3911760"/>
            <a:ext cx="48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T1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80720" y="41148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5520" y="4521240"/>
            <a:ext cx="48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David"/>
              </a:rPr>
              <a:t>T2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80720" y="4724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92240" y="26924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92240" y="26924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 =4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92240" y="26924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92240" y="26924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 =1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3048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0" algn="ctr" rtl="1">
              <a:lnSpc>
                <a:spcPct val="105000"/>
              </a:lnSpc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</a:rPr>
              <a:t>ניצור עץ המתאים לביטוי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40120" indent="0" rtl="1">
              <a:lnSpc>
                <a:spcPct val="105000"/>
              </a:lnSpc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( ( 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3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 - 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2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 ) * ( ( 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4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 * 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 ) + 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8</a:t>
            </a:r>
            <a:r>
              <a:rPr b="1" lang="he-IL" sz="3200" spc="-1" strike="noStrike">
                <a:solidFill>
                  <a:srgbClr val="fafd00"/>
                </a:solidFill>
                <a:latin typeface="Times New Roman"/>
              </a:rPr>
              <a:t> )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40120" indent="0" rtl="1">
              <a:lnSpc>
                <a:spcPct val="105000"/>
              </a:lnSpc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915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+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4380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+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18520" y="4051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+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487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 =8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18520" y="4051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+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7240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00992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0" y="32893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18520" y="4051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+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0100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77240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00992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0" y="32893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18520" y="4051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0100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48520" y="198108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800600" y="198108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32520" y="1765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00992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56400" y="32893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18520" y="4051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732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*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532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48520" y="198108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800600" y="198108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32520" y="1765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7240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700992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0" y="32893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18520" y="4051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1532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6320" y="3048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3048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038120" y="34290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22840" y="39751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46720" y="39751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1028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198108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800600" y="198108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32520" y="1765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248160" y="42670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84600" y="32130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3252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7240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7009920" y="35053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56400" y="32893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0" y="48132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94640" y="4051440"/>
            <a:ext cx="35532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18520" y="40514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  <a:ea typeface="David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3059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20340000">
            <a:off x="3987360" y="2997360"/>
            <a:ext cx="4597560" cy="86328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afd00"/>
                </a:solidFill>
                <a:latin typeface="Arial"/>
                <a:cs typeface="David"/>
              </a:rPr>
              <a:t>בניית העץ הושלמה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320" y="3048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800600" y="5791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( </a:t>
            </a:r>
            <a:r>
              <a:rPr b="1" lang="en-US" sz="2400" spc="-1" strike="noStrike">
                <a:solidFill>
                  <a:srgbClr val="fe9b03"/>
                </a:solidFill>
                <a:latin typeface="Times New Roman"/>
                <a:ea typeface="David"/>
              </a:rPr>
              <a:t>(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3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-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* ( (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4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*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1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8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David"/>
              </a:rPr>
              <a:t> ) 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486400"/>
            <a:ext cx="0" cy="380880"/>
          </a:xfrm>
          <a:prstGeom prst="line">
            <a:avLst/>
          </a:prstGeom>
          <a:ln w="255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040" y="223524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7320" y="2387520"/>
            <a:ext cx="1244520" cy="86364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 (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39960" y="2540160"/>
            <a:ext cx="1244520" cy="86328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ch</a:t>
            </a:r>
            <a:r>
              <a:rPr b="0" lang="en-US" sz="3200" spc="-1" strike="noStrike">
                <a:solidFill>
                  <a:srgbClr val="fe9b03"/>
                </a:solidFill>
                <a:latin typeface="Arial"/>
                <a:ea typeface="David"/>
              </a:rPr>
              <a:t> =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2T13:22:46Z</dcterms:created>
  <dc:creator>MicroSoft Office</dc:creator>
  <dc:description/>
  <dc:language>en-US</dc:language>
  <cp:lastModifiedBy>Tal</cp:lastModifiedBy>
  <dcterms:modified xsi:type="dcterms:W3CDTF">2004-07-24T15:57:26Z</dcterms:modified>
  <cp:revision>12</cp:revision>
  <dc:subject/>
  <dc:title>שקופית 1</dc:title>
</cp:coreProperties>
</file>