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dfca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 rtl="1">
              <a:spcBef>
                <a:spcPts val="799"/>
              </a:spcBef>
              <a:buClr>
                <a:srgbClr val="fc012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25560">
            <a:solidFill>
              <a:srgbClr val="d98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8640" y="6407280"/>
            <a:ext cx="83026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cf4ea"/>
                </a:solidFill>
                <a:latin typeface="Arial"/>
                <a:cs typeface="David"/>
              </a:rPr>
              <a:t>מצגות בעיצוב תכנה - המרכז להוראת המדעים, האונ’ העברית בי-ם - תשנ”ז         שקף מס'  </a:t>
            </a:r>
            <a:fld id="{C7A57C16-58D9-4303-A956-B56FD93E2AB3}" type="slidenum">
              <a:rPr b="0" lang="en-US" sz="1600" spc="-1" strike="noStrike">
                <a:solidFill>
                  <a:srgbClr val="8cf4ea"/>
                </a:solidFill>
                <a:latin typeface="Arial"/>
                <a:ea typeface="David"/>
              </a:rPr>
              <a:t>&lt;number&gt;</a:t>
            </a:fld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52280"/>
            <a:ext cx="183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afd00"/>
                </a:solidFill>
                <a:latin typeface="Arial"/>
                <a:cs typeface="David"/>
              </a:rPr>
              <a:t>מחסנית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27432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335268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05920" y="274284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39625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20880" y="2273400"/>
            <a:ext cx="3187440" cy="227304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32500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39816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59108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8325000" y="398124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2743200"/>
            <a:ext cx="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339084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325000" y="2742840"/>
            <a:ext cx="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95600" y="2857680"/>
            <a:ext cx="990360" cy="99036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9625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20880" y="2273400"/>
            <a:ext cx="3187440" cy="227304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32500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39816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459108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325000" y="398124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743200"/>
            <a:ext cx="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39084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325000" y="2742840"/>
            <a:ext cx="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95600" y="2857680"/>
            <a:ext cx="990360" cy="99036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5334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אופס !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39625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20880" y="2273400"/>
            <a:ext cx="3187440" cy="227304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32500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62720" y="39816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459108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325000" y="398124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2743200"/>
            <a:ext cx="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62720" y="339084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325000" y="2742840"/>
            <a:ext cx="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5600" y="2857680"/>
            <a:ext cx="990360" cy="99036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5334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אופס !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1523880"/>
            <a:ext cx="449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שלוף-ממחסנית (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424800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337176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3059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83059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548640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24800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337176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3059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3059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53341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צייר מצולע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337176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059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83059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514600"/>
            <a:ext cx="916200" cy="1373040"/>
          </a:xfrm>
          <a:custGeom>
            <a:avLst/>
            <a:gdLst/>
            <a:ahLst/>
            <a:rect l="l" t="t" r="r" b="b"/>
            <a:pathLst>
              <a:path w="577" h="865">
                <a:moveTo>
                  <a:pt x="192" y="0"/>
                </a:moveTo>
                <a:lnTo>
                  <a:pt x="576" y="192"/>
                </a:lnTo>
                <a:lnTo>
                  <a:pt x="576" y="864"/>
                </a:lnTo>
                <a:lnTo>
                  <a:pt x="0" y="480"/>
                </a:lnTo>
                <a:lnTo>
                  <a:pt x="240" y="288"/>
                </a:lnTo>
                <a:lnTo>
                  <a:pt x="192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53341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צייר מצולע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152388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דחוף-למחסנית (מצולע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,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2514600"/>
            <a:ext cx="916200" cy="1373040"/>
          </a:xfrm>
          <a:custGeom>
            <a:avLst/>
            <a:gdLst/>
            <a:ahLst/>
            <a:rect l="l" t="t" r="r" b="b"/>
            <a:pathLst>
              <a:path w="577" h="865">
                <a:moveTo>
                  <a:pt x="192" y="0"/>
                </a:moveTo>
                <a:lnTo>
                  <a:pt x="576" y="192"/>
                </a:lnTo>
                <a:lnTo>
                  <a:pt x="576" y="864"/>
                </a:lnTo>
                <a:lnTo>
                  <a:pt x="0" y="480"/>
                </a:lnTo>
                <a:lnTo>
                  <a:pt x="240" y="288"/>
                </a:lnTo>
                <a:lnTo>
                  <a:pt x="192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9625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32500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39816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59108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מצולע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8325000" y="398124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2743200"/>
            <a:ext cx="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339084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325000" y="2742840"/>
            <a:ext cx="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39625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20880" y="2273400"/>
            <a:ext cx="3187440" cy="227304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2500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39816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459108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8325000" y="398124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2514600"/>
            <a:ext cx="916200" cy="1373040"/>
          </a:xfrm>
          <a:custGeom>
            <a:avLst/>
            <a:gdLst/>
            <a:ahLst/>
            <a:rect l="l" t="t" r="r" b="b"/>
            <a:pathLst>
              <a:path w="577" h="865">
                <a:moveTo>
                  <a:pt x="192" y="0"/>
                </a:moveTo>
                <a:lnTo>
                  <a:pt x="576" y="192"/>
                </a:lnTo>
                <a:lnTo>
                  <a:pt x="576" y="864"/>
                </a:lnTo>
                <a:lnTo>
                  <a:pt x="0" y="480"/>
                </a:lnTo>
                <a:lnTo>
                  <a:pt x="240" y="288"/>
                </a:lnTo>
                <a:lnTo>
                  <a:pt x="192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מצולע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62720" y="2743200"/>
            <a:ext cx="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339084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8325000" y="2742840"/>
            <a:ext cx="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5334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אופס !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39625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20880" y="2273400"/>
            <a:ext cx="3187440" cy="227304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832500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62720" y="39816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62720" y="459108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8325000" y="398124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2514600"/>
            <a:ext cx="916200" cy="1373040"/>
          </a:xfrm>
          <a:custGeom>
            <a:avLst/>
            <a:gdLst/>
            <a:ahLst/>
            <a:rect l="l" t="t" r="r" b="b"/>
            <a:pathLst>
              <a:path w="577" h="865">
                <a:moveTo>
                  <a:pt x="192" y="0"/>
                </a:moveTo>
                <a:lnTo>
                  <a:pt x="576" y="192"/>
                </a:lnTo>
                <a:lnTo>
                  <a:pt x="576" y="864"/>
                </a:lnTo>
                <a:lnTo>
                  <a:pt x="0" y="480"/>
                </a:lnTo>
                <a:lnTo>
                  <a:pt x="240" y="288"/>
                </a:lnTo>
                <a:lnTo>
                  <a:pt x="192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מצולע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62720" y="2743200"/>
            <a:ext cx="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339084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8325000" y="2742840"/>
            <a:ext cx="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5334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אופס !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1523880"/>
            <a:ext cx="449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שלוף-ממחסנית (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424800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62720" y="337176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3059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3059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27432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335268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305920" y="274284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53341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צייר קו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409572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337176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83059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83059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05520" y="5334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אופס !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424800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5334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אופס !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62720" y="337176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3059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83059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1523880"/>
            <a:ext cx="449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שלוף-ממחסנית (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562720" y="2742840"/>
            <a:ext cx="2743200" cy="609840"/>
            <a:chOff x="5562720" y="2742840"/>
            <a:chExt cx="2743200" cy="609840"/>
          </a:xfrm>
        </p:grpSpPr>
        <p:sp>
          <p:nvSpPr>
            <p:cNvPr id="351" name=""/>
            <p:cNvSpPr/>
            <p:nvPr/>
          </p:nvSpPr>
          <p:spPr>
            <a:xfrm>
              <a:off x="5562720" y="2743200"/>
              <a:ext cx="2743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dc0081"/>
                  </a:solidFill>
                  <a:latin typeface="Times New Roman"/>
                </a:rPr>
                <a:t>(parameters) </a:t>
              </a:r>
              <a:r>
                <a:rPr b="0" lang="en-US" sz="2400" spc="-1" strike="noStrike">
                  <a:solidFill>
                    <a:srgbClr val="dc0081"/>
                  </a:solidFill>
                  <a:latin typeface="Times New Roman"/>
                </a:rPr>
                <a:t>קו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62720" y="2743200"/>
              <a:ext cx="0" cy="609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62720" y="3352680"/>
              <a:ext cx="274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8305920" y="2742840"/>
              <a:ext cx="0" cy="609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562720" y="424800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7432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35268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05920" y="274284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53341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צייר קו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52388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דחוף-למחסנית (קו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,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27432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35268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305920" y="274284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181480" y="5334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צייר נקודה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7432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335268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305920" y="274284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81480" y="5334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צייר נקודה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27432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335268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8305920" y="274284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152388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דחוף-למחסנית (נקודה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,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37176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3059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3059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20880" y="2254320"/>
            <a:ext cx="3187440" cy="227340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37176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3059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3059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53341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צייר קו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2280" y="1987560"/>
            <a:ext cx="3644640" cy="2806560"/>
          </a:xfrm>
          <a:prstGeom prst="rect">
            <a:avLst/>
          </a:prstGeom>
          <a:solidFill>
            <a:srgbClr val="cecece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20880" y="2273400"/>
            <a:ext cx="3187440" cy="2273040"/>
          </a:xfrm>
          <a:prstGeom prst="roundRect">
            <a:avLst>
              <a:gd name="adj" fmla="val 12495"/>
            </a:avLst>
          </a:prstGeom>
          <a:solidFill>
            <a:srgbClr val="c1ce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600200" y="2895480"/>
            <a:ext cx="1828800" cy="91440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35480" y="3611520"/>
            <a:ext cx="85680" cy="874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5600" y="2857680"/>
            <a:ext cx="990360" cy="99036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53341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3600" spc="-1" strike="noStrike">
                <a:solidFill>
                  <a:srgbClr val="fafd00"/>
                </a:solidFill>
                <a:latin typeface="Arial"/>
                <a:cs typeface="David"/>
              </a:rPr>
              <a:t>צייר קו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2743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נקו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3526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(parameters)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ק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37176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305920" y="2743200"/>
            <a:ext cx="0" cy="6285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981600"/>
            <a:ext cx="274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305920" y="337176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152388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דחוף-למחסנית (קו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,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dfca"/>
                </a:solidFill>
                <a:latin typeface="Arial"/>
                <a:cs typeface="David"/>
              </a:rPr>
              <a:t>פעולת האופס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3:41:02Z</dcterms:created>
  <dc:creator>MicroSoft Office</dc:creator>
  <dc:description/>
  <dc:language>en-US</dc:language>
  <cp:lastModifiedBy>Tal</cp:lastModifiedBy>
  <dcterms:modified xsi:type="dcterms:W3CDTF">2004-07-21T10:29:14Z</dcterms:modified>
  <cp:revision>38</cp:revision>
  <dc:subject/>
  <dc:title>פעולת האופס</dc:title>
</cp:coreProperties>
</file>