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572-F0C0-44DD-99F4-C35A1B72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434-16CA-4758-9C50-28520A5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F2F-CEE5-496E-9FF2-A31B26EB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9DE-DD2A-4A86-9E01-55075BAD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6A6-C739-4B89-967D-B2691647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3D7-E50C-40B7-8573-03331589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326-CB86-481D-BC8B-97BC014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2D4-0C67-4ECB-8663-244FB767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C2D-93B9-43F7-A509-8321B8A0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CE4-7692-4E94-8F39-C793CBBD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03E-BA97-43AC-90BF-3016DC0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70F-3897-4A8A-A591-B4BABAD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B4488CB8-A214-4FCC-83EA-D3C0AEDA704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40000" y="764640"/>
            <a:ext cx="52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Arial"/>
                <a:cs typeface="David Transparent"/>
              </a:rPr>
              <a:t>מחלקת רקורסיה</a:t>
            </a:r>
            <a:r>
              <a:rPr b="1" lang="he-IL" sz="4000" spc="-1" strike="noStrike">
                <a:solidFill>
                  <a:srgbClr val="008080"/>
                </a:solidFill>
                <a:latin typeface="Arial"/>
                <a:ea typeface="Guttman Adi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1917000"/>
            <a:ext cx="55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- רקורסיה תחילה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- רקורסיה בסוף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- רקורסיה כפולה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פרד ומשול 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5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cs typeface="David"/>
              </a:rPr>
              <a:t>דו-ממדית (העשרה)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44" name="NA00826_" descr=""/>
          <p:cNvPicPr/>
          <p:nvPr/>
        </p:nvPicPr>
        <p:blipFill>
          <a:blip r:embed="rId2"/>
          <a:stretch/>
        </p:blipFill>
        <p:spPr>
          <a:xfrm rot="1244400">
            <a:off x="610920" y="3284640"/>
            <a:ext cx="1974600" cy="206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CA7-355A-45D0-AF22-68BFF62E93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015920" y="353880"/>
            <a:ext cx="7039080" cy="5954400"/>
            <a:chOff x="1015920" y="353880"/>
            <a:chExt cx="7039080" cy="5954400"/>
          </a:xfrm>
        </p:grpSpPr>
        <p:grpSp>
          <p:nvGrpSpPr>
            <p:cNvPr id="46" name=""/>
            <p:cNvGrpSpPr/>
            <p:nvPr/>
          </p:nvGrpSpPr>
          <p:grpSpPr>
            <a:xfrm>
              <a:off x="1015920" y="353880"/>
              <a:ext cx="7039080" cy="5954400"/>
              <a:chOff x="1015920" y="353880"/>
              <a:chExt cx="7039080" cy="5954400"/>
            </a:xfrm>
          </p:grpSpPr>
          <p:sp>
            <p:nvSpPr>
              <p:cNvPr id="47" name=""/>
              <p:cNvSpPr/>
              <p:nvPr/>
            </p:nvSpPr>
            <p:spPr>
              <a:xfrm>
                <a:off x="1050840" y="396360"/>
                <a:ext cx="6969240" cy="2934720"/>
              </a:xfrm>
              <a:custGeom>
                <a:avLst/>
                <a:gdLst/>
                <a:ahLst/>
                <a:rect l="l" t="t" r="r" b="b"/>
                <a:pathLst>
                  <a:path w="7869" h="2489">
                    <a:moveTo>
                      <a:pt x="0" y="2489"/>
                    </a:moveTo>
                    <a:lnTo>
                      <a:pt x="0" y="0"/>
                    </a:lnTo>
                    <a:lnTo>
                      <a:pt x="7869" y="0"/>
                    </a:lnTo>
                    <a:lnTo>
                      <a:pt x="7869" y="2489"/>
                    </a:lnTo>
                    <a:lnTo>
                      <a:pt x="7784" y="2489"/>
                    </a:lnTo>
                    <a:lnTo>
                      <a:pt x="7784" y="85"/>
                    </a:lnTo>
                    <a:lnTo>
                      <a:pt x="85" y="85"/>
                    </a:lnTo>
                    <a:lnTo>
                      <a:pt x="85" y="2489"/>
                    </a:lnTo>
                    <a:lnTo>
                      <a:pt x="0" y="2489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50840" y="3331440"/>
                <a:ext cx="74520" cy="4212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945560" y="3331440"/>
                <a:ext cx="74520" cy="4212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15920" y="3404160"/>
                <a:ext cx="6969240" cy="2893680"/>
              </a:xfrm>
              <a:custGeom>
                <a:avLst/>
                <a:gdLst/>
                <a:ahLst/>
                <a:rect l="l" t="t" r="r" b="b"/>
                <a:pathLst>
                  <a:path w="7869" h="2453">
                    <a:moveTo>
                      <a:pt x="0" y="0"/>
                    </a:moveTo>
                    <a:lnTo>
                      <a:pt x="0" y="2453"/>
                    </a:lnTo>
                    <a:lnTo>
                      <a:pt x="7869" y="2453"/>
                    </a:lnTo>
                    <a:lnTo>
                      <a:pt x="7869" y="0"/>
                    </a:lnTo>
                    <a:lnTo>
                      <a:pt x="7784" y="0"/>
                    </a:lnTo>
                    <a:lnTo>
                      <a:pt x="7784" y="2368"/>
                    </a:lnTo>
                    <a:lnTo>
                      <a:pt x="85" y="2368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50840" y="396360"/>
                <a:ext cx="6969240" cy="586908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5360" y="496800"/>
                <a:ext cx="6820200" cy="566856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15920" y="514800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15920" y="514800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04240" y="514800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04240" y="514800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15920" y="35388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15920" y="35388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04240" y="35388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04240" y="35388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50840" y="5239440"/>
                <a:ext cx="839880" cy="10260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870"/>
                    </a:moveTo>
                    <a:lnTo>
                      <a:pt x="0" y="0"/>
                    </a:lnTo>
                    <a:lnTo>
                      <a:pt x="949" y="870"/>
                    </a:lnTo>
                    <a:lnTo>
                      <a:pt x="0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80200" y="5239440"/>
                <a:ext cx="839880" cy="10260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870"/>
                    </a:moveTo>
                    <a:lnTo>
                      <a:pt x="949" y="0"/>
                    </a:lnTo>
                    <a:lnTo>
                      <a:pt x="0" y="870"/>
                    </a:lnTo>
                    <a:lnTo>
                      <a:pt x="949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50840" y="396360"/>
                <a:ext cx="839880" cy="10260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0"/>
                    </a:moveTo>
                    <a:lnTo>
                      <a:pt x="0" y="870"/>
                    </a:lnTo>
                    <a:lnTo>
                      <a:pt x="94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80200" y="396360"/>
                <a:ext cx="839880" cy="10260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0"/>
                    </a:moveTo>
                    <a:lnTo>
                      <a:pt x="949" y="870"/>
                    </a:lnTo>
                    <a:lnTo>
                      <a:pt x="0" y="0"/>
                    </a:lnTo>
                    <a:lnTo>
                      <a:pt x="94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15920" y="514800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15920" y="514800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20080" y="514800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020080" y="514800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15920" y="35388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15920" y="35388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20080" y="35388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20080" y="353880"/>
                <a:ext cx="34920" cy="11602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15920" y="6265800"/>
                <a:ext cx="95112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15920" y="6265800"/>
                <a:ext cx="95112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04240" y="6265800"/>
                <a:ext cx="95076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04240" y="6265800"/>
                <a:ext cx="95076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15920" y="353880"/>
                <a:ext cx="95112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015920" y="353880"/>
                <a:ext cx="95112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04240" y="353880"/>
                <a:ext cx="95076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04240" y="353880"/>
                <a:ext cx="950760" cy="424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015920" y="514800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15920" y="514800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04240" y="514800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104240" y="514800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15920" y="35388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15920" y="353880"/>
                <a:ext cx="95112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04240" y="35388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04240" y="353880"/>
                <a:ext cx="950760" cy="11602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116000" y="402480"/>
              <a:ext cx="6840720" cy="57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1.1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 - רקורסיה תחילה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נתון מספר של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דפסת כל המספרים בין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ל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סדר עולה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דפס-בסדר-עולה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n = 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הדפס-בסדר-עולה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n-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00F-3CAB-4BF0-ACC8-F1D3BDC00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20600" y="353880"/>
            <a:ext cx="7039080" cy="5883120"/>
            <a:chOff x="1020600" y="353880"/>
            <a:chExt cx="7039080" cy="5883120"/>
          </a:xfrm>
        </p:grpSpPr>
        <p:grpSp>
          <p:nvGrpSpPr>
            <p:cNvPr id="91" name=""/>
            <p:cNvGrpSpPr/>
            <p:nvPr/>
          </p:nvGrpSpPr>
          <p:grpSpPr>
            <a:xfrm>
              <a:off x="1020600" y="353880"/>
              <a:ext cx="7039080" cy="5883120"/>
              <a:chOff x="1020600" y="353880"/>
              <a:chExt cx="7039080" cy="5883120"/>
            </a:xfrm>
          </p:grpSpPr>
          <p:sp>
            <p:nvSpPr>
              <p:cNvPr id="92" name=""/>
              <p:cNvSpPr/>
              <p:nvPr/>
            </p:nvSpPr>
            <p:spPr>
              <a:xfrm>
                <a:off x="1054800" y="395640"/>
                <a:ext cx="6969960" cy="2900160"/>
              </a:xfrm>
              <a:custGeom>
                <a:avLst/>
                <a:gdLst/>
                <a:ahLst/>
                <a:rect l="l" t="t" r="r" b="b"/>
                <a:pathLst>
                  <a:path w="7869" h="2489">
                    <a:moveTo>
                      <a:pt x="0" y="2489"/>
                    </a:moveTo>
                    <a:lnTo>
                      <a:pt x="0" y="0"/>
                    </a:lnTo>
                    <a:lnTo>
                      <a:pt x="7869" y="0"/>
                    </a:lnTo>
                    <a:lnTo>
                      <a:pt x="7869" y="2489"/>
                    </a:lnTo>
                    <a:lnTo>
                      <a:pt x="7784" y="2489"/>
                    </a:lnTo>
                    <a:lnTo>
                      <a:pt x="7784" y="85"/>
                    </a:lnTo>
                    <a:lnTo>
                      <a:pt x="85" y="85"/>
                    </a:lnTo>
                    <a:lnTo>
                      <a:pt x="85" y="2489"/>
                    </a:lnTo>
                    <a:lnTo>
                      <a:pt x="0" y="2489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54800" y="3295800"/>
                <a:ext cx="75240" cy="4068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949880" y="3295800"/>
                <a:ext cx="75240" cy="4068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20600" y="3368160"/>
                <a:ext cx="6969960" cy="2858400"/>
              </a:xfrm>
              <a:custGeom>
                <a:avLst/>
                <a:gdLst/>
                <a:ahLst/>
                <a:rect l="l" t="t" r="r" b="b"/>
                <a:pathLst>
                  <a:path w="7869" h="2453">
                    <a:moveTo>
                      <a:pt x="0" y="0"/>
                    </a:moveTo>
                    <a:lnTo>
                      <a:pt x="0" y="2453"/>
                    </a:lnTo>
                    <a:lnTo>
                      <a:pt x="7869" y="2453"/>
                    </a:lnTo>
                    <a:lnTo>
                      <a:pt x="7869" y="0"/>
                    </a:lnTo>
                    <a:lnTo>
                      <a:pt x="7784" y="0"/>
                    </a:lnTo>
                    <a:lnTo>
                      <a:pt x="7784" y="2368"/>
                    </a:lnTo>
                    <a:lnTo>
                      <a:pt x="85" y="2368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54800" y="395640"/>
                <a:ext cx="6969960" cy="579924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30400" y="494640"/>
                <a:ext cx="6819480" cy="560160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20600" y="5090400"/>
                <a:ext cx="95004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20600" y="5090400"/>
                <a:ext cx="95004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09280" y="5090400"/>
                <a:ext cx="95040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09280" y="5090400"/>
                <a:ext cx="95040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20600" y="353880"/>
                <a:ext cx="95004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20600" y="353880"/>
                <a:ext cx="95004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09280" y="353880"/>
                <a:ext cx="95040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09280" y="353880"/>
                <a:ext cx="95040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54800" y="5181480"/>
                <a:ext cx="840600" cy="10137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870"/>
                    </a:moveTo>
                    <a:lnTo>
                      <a:pt x="0" y="0"/>
                    </a:lnTo>
                    <a:lnTo>
                      <a:pt x="949" y="870"/>
                    </a:lnTo>
                    <a:lnTo>
                      <a:pt x="0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84520" y="5181480"/>
                <a:ext cx="840600" cy="10137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870"/>
                    </a:moveTo>
                    <a:lnTo>
                      <a:pt x="949" y="0"/>
                    </a:lnTo>
                    <a:lnTo>
                      <a:pt x="0" y="870"/>
                    </a:lnTo>
                    <a:lnTo>
                      <a:pt x="949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54800" y="395640"/>
                <a:ext cx="840600" cy="10134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0"/>
                    </a:moveTo>
                    <a:lnTo>
                      <a:pt x="0" y="870"/>
                    </a:lnTo>
                    <a:lnTo>
                      <a:pt x="94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84520" y="395640"/>
                <a:ext cx="840600" cy="10134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0"/>
                    </a:moveTo>
                    <a:lnTo>
                      <a:pt x="949" y="870"/>
                    </a:lnTo>
                    <a:lnTo>
                      <a:pt x="0" y="0"/>
                    </a:lnTo>
                    <a:lnTo>
                      <a:pt x="94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20600" y="5090400"/>
                <a:ext cx="34200" cy="11466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20600" y="5090400"/>
                <a:ext cx="34200" cy="11466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025120" y="5090400"/>
                <a:ext cx="34200" cy="11466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25120" y="5090400"/>
                <a:ext cx="34200" cy="11466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20600" y="353880"/>
                <a:ext cx="34200" cy="11462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0600" y="353880"/>
                <a:ext cx="34200" cy="11462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25120" y="353880"/>
                <a:ext cx="34200" cy="11462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25120" y="353880"/>
                <a:ext cx="34200" cy="11462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20600" y="6195240"/>
                <a:ext cx="95004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0600" y="6195240"/>
                <a:ext cx="95004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09280" y="6195240"/>
                <a:ext cx="95040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09280" y="6195240"/>
                <a:ext cx="95040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20600" y="353880"/>
                <a:ext cx="95004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20600" y="353880"/>
                <a:ext cx="95004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09280" y="353880"/>
                <a:ext cx="95040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09280" y="353880"/>
                <a:ext cx="950400" cy="417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20600" y="5090400"/>
                <a:ext cx="95004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20600" y="5090400"/>
                <a:ext cx="95004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9280" y="5090400"/>
                <a:ext cx="95040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09280" y="5090400"/>
                <a:ext cx="950400" cy="11466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0600" y="353880"/>
                <a:ext cx="95004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20600" y="353880"/>
                <a:ext cx="95004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109280" y="353880"/>
                <a:ext cx="95040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09280" y="353880"/>
                <a:ext cx="950400" cy="11462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173240" y="469440"/>
              <a:ext cx="6783480" cy="57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1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- רקורסיה בסוף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נתון מספר של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דפסת כל המספרים בין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ל-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סדר יורד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דפס-בסדר-יורד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n =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הדפס-בסדר-יורד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214-C477-4F18-9ADE-D6373B0ED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042920" y="404640"/>
            <a:ext cx="7023240" cy="5832720"/>
            <a:chOff x="1042920" y="404640"/>
            <a:chExt cx="7023240" cy="5832720"/>
          </a:xfrm>
        </p:grpSpPr>
        <p:grpSp>
          <p:nvGrpSpPr>
            <p:cNvPr id="136" name=""/>
            <p:cNvGrpSpPr/>
            <p:nvPr/>
          </p:nvGrpSpPr>
          <p:grpSpPr>
            <a:xfrm>
              <a:off x="1042920" y="404640"/>
              <a:ext cx="7023240" cy="5832720"/>
              <a:chOff x="1042920" y="404640"/>
              <a:chExt cx="7023240" cy="5832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077120" y="446040"/>
                <a:ext cx="6954120" cy="2874960"/>
              </a:xfrm>
              <a:custGeom>
                <a:avLst/>
                <a:gdLst/>
                <a:ahLst/>
                <a:rect l="l" t="t" r="r" b="b"/>
                <a:pathLst>
                  <a:path w="7869" h="2489">
                    <a:moveTo>
                      <a:pt x="0" y="2489"/>
                    </a:moveTo>
                    <a:lnTo>
                      <a:pt x="0" y="0"/>
                    </a:lnTo>
                    <a:lnTo>
                      <a:pt x="7869" y="0"/>
                    </a:lnTo>
                    <a:lnTo>
                      <a:pt x="7869" y="2489"/>
                    </a:lnTo>
                    <a:lnTo>
                      <a:pt x="7784" y="2489"/>
                    </a:lnTo>
                    <a:lnTo>
                      <a:pt x="7784" y="85"/>
                    </a:lnTo>
                    <a:lnTo>
                      <a:pt x="85" y="85"/>
                    </a:lnTo>
                    <a:lnTo>
                      <a:pt x="85" y="2489"/>
                    </a:lnTo>
                    <a:lnTo>
                      <a:pt x="0" y="2489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77120" y="3321360"/>
                <a:ext cx="74880" cy="4032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956360" y="3321360"/>
                <a:ext cx="74880" cy="4032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42920" y="3393000"/>
                <a:ext cx="6954120" cy="2833560"/>
              </a:xfrm>
              <a:custGeom>
                <a:avLst/>
                <a:gdLst/>
                <a:ahLst/>
                <a:rect l="l" t="t" r="r" b="b"/>
                <a:pathLst>
                  <a:path w="7869" h="2453">
                    <a:moveTo>
                      <a:pt x="0" y="0"/>
                    </a:moveTo>
                    <a:lnTo>
                      <a:pt x="0" y="2453"/>
                    </a:lnTo>
                    <a:lnTo>
                      <a:pt x="7869" y="2453"/>
                    </a:lnTo>
                    <a:lnTo>
                      <a:pt x="7869" y="0"/>
                    </a:lnTo>
                    <a:lnTo>
                      <a:pt x="7784" y="0"/>
                    </a:lnTo>
                    <a:lnTo>
                      <a:pt x="7784" y="2368"/>
                    </a:lnTo>
                    <a:lnTo>
                      <a:pt x="85" y="2368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77120" y="446040"/>
                <a:ext cx="6954120" cy="574920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52360" y="543960"/>
                <a:ext cx="6804000" cy="555300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42920" y="5100480"/>
                <a:ext cx="94788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42920" y="5100480"/>
                <a:ext cx="94788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17920" y="5100480"/>
                <a:ext cx="94824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17920" y="5100480"/>
                <a:ext cx="94824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2920" y="404640"/>
                <a:ext cx="94788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42920" y="404640"/>
                <a:ext cx="94788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17920" y="404640"/>
                <a:ext cx="94824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17920" y="404640"/>
                <a:ext cx="94824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77120" y="5190480"/>
                <a:ext cx="838440" cy="100512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870"/>
                    </a:moveTo>
                    <a:lnTo>
                      <a:pt x="0" y="0"/>
                    </a:lnTo>
                    <a:lnTo>
                      <a:pt x="949" y="870"/>
                    </a:lnTo>
                    <a:lnTo>
                      <a:pt x="0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92800" y="5190480"/>
                <a:ext cx="838440" cy="100512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870"/>
                    </a:moveTo>
                    <a:lnTo>
                      <a:pt x="949" y="0"/>
                    </a:lnTo>
                    <a:lnTo>
                      <a:pt x="0" y="870"/>
                    </a:lnTo>
                    <a:lnTo>
                      <a:pt x="949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77120" y="446040"/>
                <a:ext cx="838440" cy="10047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0"/>
                    </a:moveTo>
                    <a:lnTo>
                      <a:pt x="0" y="870"/>
                    </a:lnTo>
                    <a:lnTo>
                      <a:pt x="94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92800" y="446040"/>
                <a:ext cx="838440" cy="10047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0"/>
                    </a:moveTo>
                    <a:lnTo>
                      <a:pt x="949" y="870"/>
                    </a:lnTo>
                    <a:lnTo>
                      <a:pt x="0" y="0"/>
                    </a:lnTo>
                    <a:lnTo>
                      <a:pt x="94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42920" y="5100480"/>
                <a:ext cx="34200" cy="11368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42920" y="5100480"/>
                <a:ext cx="34200" cy="11368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31600" y="5100480"/>
                <a:ext cx="34200" cy="11368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31600" y="5100480"/>
                <a:ext cx="34200" cy="11368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42920" y="404640"/>
                <a:ext cx="34200" cy="113652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42920" y="404640"/>
                <a:ext cx="34200" cy="113652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31600" y="404640"/>
                <a:ext cx="34200" cy="113652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31600" y="404640"/>
                <a:ext cx="34200" cy="113652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42920" y="6195600"/>
                <a:ext cx="94788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2920" y="6195600"/>
                <a:ext cx="94788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17920" y="6195600"/>
                <a:ext cx="94824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17920" y="6195600"/>
                <a:ext cx="94824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42920" y="404640"/>
                <a:ext cx="94788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42920" y="404640"/>
                <a:ext cx="94788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17920" y="404640"/>
                <a:ext cx="94824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7920" y="404640"/>
                <a:ext cx="948240" cy="4140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42920" y="5100480"/>
                <a:ext cx="94788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42920" y="5100480"/>
                <a:ext cx="94788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17920" y="5100480"/>
                <a:ext cx="94824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17920" y="5100480"/>
                <a:ext cx="948240" cy="11368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42920" y="404640"/>
                <a:ext cx="94788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42920" y="404640"/>
                <a:ext cx="94788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17920" y="404640"/>
                <a:ext cx="94824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17920" y="404640"/>
                <a:ext cx="948240" cy="113652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95560" y="472320"/>
              <a:ext cx="6761160" cy="57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1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-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רקורסיה כפולה</a:t>
              </a:r>
              <a:br>
                <a:rPr sz="4000"/>
              </a:br>
              <a:r>
                <a:rPr b="1" lang="he-IL" sz="3200" spc="-1" strike="noStrike">
                  <a:solidFill>
                    <a:srgbClr val="008080"/>
                  </a:solidFill>
                  <a:latin typeface="Times New Roman"/>
                  <a:ea typeface="Guttman Adii"/>
                </a:rPr>
                <a:t> </a:t>
              </a:r>
              <a:r>
                <a:rPr b="1" lang="he-IL" sz="2400" spc="-1" strike="noStrike">
                  <a:solidFill>
                    <a:srgbClr val="008080"/>
                  </a:solidFill>
                  <a:latin typeface="Times New Roman"/>
                  <a:ea typeface="Guttman Adii"/>
                </a:rPr>
                <a:t>(דוגמה: סדרת פיבונאצ'י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 נתון מספר של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.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 חישוב ערכו של המספר הפיבונאצ'י ה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פיבונאצ'י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פיבונאצ'י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) +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פיבונאצ'י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2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E9E-3213-46E8-A749-E4987B731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731880" y="639720"/>
            <a:ext cx="7561080" cy="5545080"/>
            <a:chOff x="731880" y="639720"/>
            <a:chExt cx="7561080" cy="554508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731880" y="639720"/>
              <a:ext cx="756108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76240" y="900000"/>
              <a:ext cx="727200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10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1.4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 - הפרד ומשול</a:t>
              </a:r>
              <a:br>
                <a:rPr sz="4000"/>
              </a:br>
              <a:r>
                <a:rPr b="1" lang="he-IL" sz="2400" spc="-1" strike="noStrike">
                  <a:solidFill>
                    <a:srgbClr val="008080"/>
                  </a:solidFill>
                  <a:latin typeface="Times New Roman"/>
                  <a:ea typeface="Guttman Adii"/>
                </a:rPr>
                <a:t>(דוגמא: מקסימום בסדרה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ת מספרים.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ציאת מקסימום בעזרת פירוק הסדרה לשתי תת-סדרות ומציאת המקסימום בכל תת-סדרה בנפרד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מצא-מקסימום (סדרת אברים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הסדרה מכילה איבר בודד אזי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א המקסימלי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מצא-מקסימום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חלק מסדרת המספרים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max1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מצא-מקסימום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שאר האיברים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max2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 הערך הגדול מבין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1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ו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2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DAC-2B7A-4C01-BD30-762629C96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44480" y="755640"/>
            <a:ext cx="7559640" cy="5548320"/>
            <a:chOff x="744480" y="755640"/>
            <a:chExt cx="7559640" cy="554832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44480" y="755640"/>
              <a:ext cx="7559640" cy="55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85960" y="909720"/>
              <a:ext cx="7346880" cy="52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1.5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- דו מימדי</a:t>
              </a:r>
              <a:br>
                <a:rPr sz="4000"/>
              </a:br>
              <a:r>
                <a:rPr b="0" i="1" lang="he-IL" sz="28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 </a:t>
              </a:r>
              <a:r>
                <a:rPr b="1" lang="he-IL" sz="2400" spc="-1" strike="noStrike">
                  <a:solidFill>
                    <a:srgbClr val="008080"/>
                  </a:solidFill>
                  <a:latin typeface="Arial"/>
                  <a:ea typeface="Guttman Adii"/>
                </a:rPr>
                <a:t>(דוגמא: דרכים בסריג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נקודה ברביע החיובי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חישוב מספר הדרכים האפשריות להגעה לראשית הצירים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כאשר מותר לצעוד אחד שמאלה או אחד למטה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דרכים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x,y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= 0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או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FrankRuehl"/>
                </a:rPr>
                <a:t>y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= 0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דרכים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-1,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+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דרכים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FrankRuehl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,y-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FrankRueh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ED4-2292-4945-8DF1-2AC79B80E4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16:12Z</dcterms:created>
  <dc:creator>averbuch haim</dc:creator>
  <dc:description/>
  <dc:language>en-US</dc:language>
  <cp:lastModifiedBy>Adi</cp:lastModifiedBy>
  <dcterms:modified xsi:type="dcterms:W3CDTF">2004-07-22T07:25:27Z</dcterms:modified>
  <cp:revision>53</cp:revision>
  <dc:subject/>
  <dc:title>תבניות בעיצוב תכנה</dc:title>
</cp:coreProperties>
</file>