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A0F2-249F-4B5C-A7C0-E39063ED6C81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D909-49EA-4621-89ED-2AC2C2983F7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F8BE-0C30-434A-9F27-D24EB4846555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5224-4147-44D7-835A-761798062FF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9E34-7D1F-4C71-A46D-BE22380A5DD1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BC34-DCCC-47ED-8F67-B74DA120F4A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BC9D-F995-4EF3-82A5-B54644B1E0C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18B7-D23E-47DF-9DC8-F0D3191F913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AC04-B423-4332-B7F3-BFFF071E81C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ED68-E0DF-4A43-8609-6706AA8A06A4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F9F-FA8A-40CE-95FC-9DB73FE5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2CF-7751-4A5E-B6B4-1B9AC7F4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3EC-B392-49C2-9486-4A4A96B2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755-8440-4522-AFA9-192A51EB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FB9-8073-4E5C-955B-A8BF0F9C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7C2-E24D-4D23-B10C-628335BB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0C4-2D27-48D4-998F-C959BA86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9E4-529D-4EB2-80A1-F0C88046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B53-C405-408B-A018-14E6205E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555-F605-4380-BA60-F49E4BA8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8C8-5BB1-475C-B1D2-20DD689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7D5-0DD9-4DEA-8BFD-2AB03DF2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FAC56044-A847-4234-99B1-E917A968D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7621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600" spc="-1" strike="noStrike">
                <a:solidFill>
                  <a:srgbClr val="ff3300"/>
                </a:solidFill>
                <a:latin typeface="Arial"/>
                <a:cs typeface="David"/>
              </a:rPr>
              <a:t>מחסנית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  <a:cs typeface="David"/>
              </a:rPr>
              <a:t>מה מותר ומה אסו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מצגת מכילה מספר תרחיש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ובסופה תרגיל מסכ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2438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D22-212A-42A7-87F4-BD2E355C60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4572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חיש א'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David"/>
              </a:rPr>
              <a:t>הכנסת איבר למחסנית לא מאותחל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54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המחסנית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לא מאותחלת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36232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cs typeface="Arial"/>
              </a:rPr>
              <a:t>דחוף-למחסנית (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S, 5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43434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תיקו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Arial"/>
              </a:rPr>
              <a:t>אתחל-מחסנית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Arial"/>
              </a:rPr>
              <a:t>דחוף-למחסנית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, 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085-2FC0-4DD6-85E3-56B81465F8E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04920" y="1676520"/>
            <a:ext cx="3644640" cy="2806560"/>
            <a:chOff x="304920" y="1676520"/>
            <a:chExt cx="3644640" cy="2806560"/>
          </a:xfrm>
        </p:grpSpPr>
        <p:sp>
          <p:nvSpPr>
            <p:cNvPr id="60" name=""/>
            <p:cNvSpPr/>
            <p:nvPr/>
          </p:nvSpPr>
          <p:spPr>
            <a:xfrm>
              <a:off x="304920" y="167652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194328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המחסנית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מאותחלת  אך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ריקה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cs typeface="Arial"/>
              </a:rPr>
              <a:t>שלוף-ממחסנית 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S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)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חיש 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David"/>
              </a:rPr>
              <a:t>חמיקה - ניסיון שליפה ממחסנית ריק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267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תיקו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Arial"/>
              </a:rPr>
              <a:t>אם לא מחסנית-ריקה?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 אז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Arial"/>
              </a:rPr>
              <a:t>שלוף-ממחסנית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CF9-9B4B-4213-B6E8-1CD63E7EEA67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חיש 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David"/>
              </a:rPr>
              <a:t>הרס עצמ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67652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cs typeface="Arial"/>
              </a:rPr>
              <a:t>אתחל-מחסנית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2743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4419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1320" y="2666880"/>
            <a:ext cx="990360" cy="1143000"/>
            <a:chOff x="5791320" y="2666880"/>
            <a:chExt cx="990360" cy="1143000"/>
          </a:xfrm>
        </p:grpSpPr>
        <p:sp>
          <p:nvSpPr>
            <p:cNvPr id="72" name=""/>
            <p:cNvSpPr/>
            <p:nvPr/>
          </p:nvSpPr>
          <p:spPr>
            <a:xfrm>
              <a:off x="5791320" y="27432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1320" y="38098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266688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56480" y="27432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80880" y="2133720"/>
            <a:ext cx="4038480" cy="3047400"/>
            <a:chOff x="380880" y="2133720"/>
            <a:chExt cx="4038480" cy="3047400"/>
          </a:xfrm>
        </p:grpSpPr>
        <p:sp>
          <p:nvSpPr>
            <p:cNvPr id="77" name=""/>
            <p:cNvSpPr/>
            <p:nvPr/>
          </p:nvSpPr>
          <p:spPr>
            <a:xfrm>
              <a:off x="380880" y="2133720"/>
              <a:ext cx="4038480" cy="3047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3960" y="2423160"/>
              <a:ext cx="3531960" cy="246852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אין גישה לאיברים </a:t>
              </a:r>
              <a:br>
                <a:rPr sz="3200"/>
              </a:br>
              <a:r>
                <a:rPr b="0" lang="he-IL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במחסנית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3333cc"/>
                  </a:solidFill>
                  <a:latin typeface="Arial"/>
                  <a:cs typeface="David"/>
                </a:rPr>
                <a:t>האם זה מה שבאמת רצית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791320" y="4267080"/>
            <a:ext cx="990360" cy="1067040"/>
            <a:chOff x="5791320" y="4267080"/>
            <a:chExt cx="990360" cy="1067040"/>
          </a:xfrm>
        </p:grpSpPr>
        <p:sp>
          <p:nvSpPr>
            <p:cNvPr id="80" name=""/>
            <p:cNvSpPr/>
            <p:nvPr/>
          </p:nvSpPr>
          <p:spPr>
            <a:xfrm>
              <a:off x="5791320" y="4267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91320" y="53341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56480" y="4267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EB2-4D8A-4B92-96B8-307C4D8C23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304920"/>
            <a:ext cx="8153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חיש 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David"/>
              </a:rPr>
              <a:t>אין גיש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920" y="2476440"/>
            <a:ext cx="4038120" cy="2895480"/>
            <a:chOff x="304920" y="2476440"/>
            <a:chExt cx="4038120" cy="2895480"/>
          </a:xfrm>
        </p:grpSpPr>
        <p:sp>
          <p:nvSpPr>
            <p:cNvPr id="85" name=""/>
            <p:cNvSpPr/>
            <p:nvPr/>
          </p:nvSpPr>
          <p:spPr>
            <a:xfrm>
              <a:off x="304920" y="2476440"/>
              <a:ext cx="4038120" cy="289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000" y="2751480"/>
              <a:ext cx="3531600" cy="2345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הוצאת איבר </a:t>
              </a:r>
              <a:br>
                <a:rPr sz="3200"/>
              </a:b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מבלי לשמור את ערכו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3333cc"/>
                  </a:solidFill>
                  <a:latin typeface="Times New Roman"/>
                  <a:cs typeface="David"/>
                </a:rPr>
                <a:t>האם זה מה שבאמת רצית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6765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cs typeface="Arial"/>
              </a:rPr>
              <a:t>אם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cs typeface="Arial"/>
              </a:rPr>
              <a:t>שלוף-ממחסנית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) &gt;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5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 אזי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2743200"/>
            <a:ext cx="9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2590920"/>
            <a:ext cx="990360" cy="1143000"/>
            <a:chOff x="5791320" y="2590920"/>
            <a:chExt cx="990360" cy="1143000"/>
          </a:xfrm>
        </p:grpSpPr>
        <p:sp>
          <p:nvSpPr>
            <p:cNvPr id="92" name=""/>
            <p:cNvSpPr/>
            <p:nvPr/>
          </p:nvSpPr>
          <p:spPr>
            <a:xfrm>
              <a:off x="5791320" y="266724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37339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43600" y="259092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56480" y="266724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791320" y="4191120"/>
            <a:ext cx="990360" cy="1143000"/>
            <a:chOff x="5791320" y="4191120"/>
            <a:chExt cx="990360" cy="1143000"/>
          </a:xfrm>
        </p:grpSpPr>
        <p:sp>
          <p:nvSpPr>
            <p:cNvPr id="97" name=""/>
            <p:cNvSpPr/>
            <p:nvPr/>
          </p:nvSpPr>
          <p:spPr>
            <a:xfrm>
              <a:off x="5791320" y="426744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53341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419112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56480" y="426744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244-3BCC-4AB7-8E82-1355C61F65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3300"/>
                </a:solidFill>
                <a:latin typeface="Arial"/>
                <a:cs typeface="David"/>
              </a:rPr>
              <a:t>תרגיל סיכו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להלן אלגוריתם </a:t>
            </a:r>
            <a:r>
              <a:rPr b="1" lang="he-IL" sz="4000" spc="-1" strike="noStrike">
                <a:solidFill>
                  <a:srgbClr val="ff3300"/>
                </a:solidFill>
                <a:latin typeface="Arial"/>
                <a:cs typeface="Arial"/>
              </a:rPr>
              <a:t>שגוי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 המקבל מחסני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מאותחלת שאיבריה מספרים שלמים. 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האלגוריתם </a:t>
            </a:r>
            <a:r>
              <a:rPr b="1" lang="he-IL" sz="4000" spc="-1" strike="noStrike">
                <a:solidFill>
                  <a:srgbClr val="ff3300"/>
                </a:solidFill>
                <a:latin typeface="Arial"/>
                <a:cs typeface="Arial"/>
              </a:rPr>
              <a:t>אמור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 להחזיר מחסנית 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המכילה רק את המספרים הזוגיים 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שבמחסנית המקורית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(התרגיל מכיל חלק משגיאות שהוזכרו וכן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שגיאות אופייניות נוספות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31C-113D-41C4-B225-8F9919107D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גיל סיכום – אלגוריתם שגו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600200"/>
            <a:ext cx="7695360" cy="4343040"/>
            <a:chOff x="762120" y="1600200"/>
            <a:chExt cx="7695360" cy="4343040"/>
          </a:xfrm>
        </p:grpSpPr>
        <p:sp>
          <p:nvSpPr>
            <p:cNvPr id="106" name=""/>
            <p:cNvSpPr/>
            <p:nvPr/>
          </p:nvSpPr>
          <p:spPr>
            <a:xfrm>
              <a:off x="762120" y="1600200"/>
              <a:ext cx="7695360" cy="4343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4520" y="2012760"/>
              <a:ext cx="6730200" cy="351792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3333cc"/>
                  </a:solidFill>
                  <a:uFillTx/>
                  <a:latin typeface="Arial"/>
                  <a:cs typeface="Arial"/>
                </a:rPr>
                <a:t>זוגיי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בצ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שלוף-ממחסנית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</a:t>
              </a:r>
              <a:r>
                <a:rPr b="0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ם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זוגי אז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דחוף-למחסנית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new,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עד אשר מחסנית-ריקה?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1B9-3A52-4097-9766-59EA7AE9B0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cs typeface="David"/>
              </a:rPr>
              <a:t>תרגיל סיכום – אלגוריתם שגו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9480" y="1685880"/>
            <a:ext cx="8076600" cy="4343040"/>
            <a:chOff x="609480" y="1685880"/>
            <a:chExt cx="8076600" cy="4343040"/>
          </a:xfrm>
        </p:grpSpPr>
        <p:sp>
          <p:nvSpPr>
            <p:cNvPr id="110" name=""/>
            <p:cNvSpPr/>
            <p:nvPr/>
          </p:nvSpPr>
          <p:spPr>
            <a:xfrm>
              <a:off x="609480" y="1685880"/>
              <a:ext cx="8076600" cy="4343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6000" y="2098440"/>
              <a:ext cx="7063560" cy="351792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Arial"/>
                  <a:cs typeface="Arial"/>
                </a:rPr>
                <a:t>השגיאות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r" rtl="1">
                <a:lnSpc>
                  <a:spcPct val="100000"/>
                </a:lnSpc>
                <a:buClr>
                  <a:srgbClr val="33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חסר פרמטר בכותרת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r" rtl="1">
                <a:lnSpc>
                  <a:spcPct val="100000"/>
                </a:lnSpc>
                <a:buClr>
                  <a:srgbClr val="33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אין אתחול מחסנית 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new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r" rtl="1">
                <a:lnSpc>
                  <a:spcPct val="100000"/>
                </a:lnSpc>
                <a:buClr>
                  <a:srgbClr val="33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אין בדיקה האם המחסנית-ריקה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לפני הוצאת </a:t>
              </a: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</a:t>
              </a: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י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בר</a:t>
              </a: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הראשון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r" rtl="1">
                <a:lnSpc>
                  <a:spcPct val="100000"/>
                </a:lnSpc>
                <a:buClr>
                  <a:srgbClr val="33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אין הוראת ההחזרה ל-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new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.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כמו כן אין תיעוד לפעולה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616-9A37-4757-A29D-56935A836F0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גיל סיכום – אלגוריתם תקי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61800" y="704880"/>
            <a:ext cx="8325000" cy="5619600"/>
            <a:chOff x="361800" y="704880"/>
            <a:chExt cx="8325000" cy="5619600"/>
          </a:xfrm>
        </p:grpSpPr>
        <p:sp>
          <p:nvSpPr>
            <p:cNvPr id="114" name=""/>
            <p:cNvSpPr/>
            <p:nvPr/>
          </p:nvSpPr>
          <p:spPr>
            <a:xfrm>
              <a:off x="361800" y="704880"/>
              <a:ext cx="8325000" cy="5619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6600" y="966240"/>
              <a:ext cx="7835040" cy="516996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3333cc"/>
                  </a:solidFill>
                  <a:uFillTx/>
                  <a:latin typeface="Arial"/>
                  <a:cs typeface="Arial"/>
                </a:rPr>
                <a:t>זוגיים(</a:t>
              </a:r>
              <a:r>
                <a:rPr b="1" lang="en-US" sz="4000" spc="-1" strike="noStrike" u="sng">
                  <a:solidFill>
                    <a:srgbClr val="3333cc"/>
                  </a:solidFill>
                  <a:uFillTx/>
                  <a:latin typeface="Arial"/>
                  <a:ea typeface="Arial"/>
                </a:rPr>
                <a:t>S</a:t>
              </a:r>
              <a:r>
                <a:rPr b="1" lang="en-US" sz="4000" spc="-1" strike="noStrike" u="sng">
                  <a:solidFill>
                    <a:srgbClr val="3333cc"/>
                  </a:solidFill>
                  <a:uFillTx/>
                  <a:latin typeface="Arial"/>
                  <a:ea typeface="Arial"/>
                </a:rPr>
                <a:t>)</a:t>
              </a:r>
              <a:r>
                <a:rPr b="1" lang="en-US" sz="3200" spc="-1" strike="noStrike" u="sng">
                  <a:solidFill>
                    <a:srgbClr val="3333cc"/>
                  </a:solidFill>
                  <a:uFillTx/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{ האלגוריתם מקבל מחסנית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מכילה מספרים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שלמים ומחזיר מחסנית חדשה המכילה את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המספרים הזוגיים שב-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. הנחה: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אותחלת.</a:t>
              </a: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}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תחל-מחסנית </a:t>
              </a:r>
              <a:r>
                <a:rPr b="0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ne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כל עוד לא מחסנית-ריקה?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בצ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שלוף-ממחסנית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</a:t>
              </a:r>
              <a:r>
                <a:rPr b="0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ם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זוגי אז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דחוף-למחסנית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new,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חז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ne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39F-968A-40F0-AAB0-1FF162E334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hila</cp:lastModifiedBy>
  <dcterms:modified xsi:type="dcterms:W3CDTF">2004-07-29T11:25:19Z</dcterms:modified>
  <cp:revision>70</cp:revision>
  <dc:subject/>
  <dc:title>עולמנו המופלא</dc:title>
</cp:coreProperties>
</file>