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00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25560">
            <a:solidFill>
              <a:srgbClr val="d98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2520" y="6400800"/>
            <a:ext cx="831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cf4ea"/>
                </a:solidFill>
                <a:latin typeface="Arial"/>
                <a:cs typeface="David"/>
              </a:rPr>
              <a:t>מצגות בעיצוב תכנה - המרכז להוראת המדעים, האונ’ העברית בי-ם - תשנ”ז         שקף מס' </a:t>
            </a:r>
            <a:fld id="{5ABAA314-1D03-4329-A0CE-4A39F29BE931}" type="slidenum">
              <a:rPr b="0" lang="en-US" sz="1400" spc="-1" strike="noStrike">
                <a:solidFill>
                  <a:srgbClr val="8cf4ea"/>
                </a:solidFill>
                <a:latin typeface="Arial"/>
                <a:ea typeface="David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18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עץ בינר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2000" y="533520"/>
            <a:ext cx="7096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dfca"/>
                </a:solidFill>
                <a:latin typeface="Arial"/>
                <a:cs typeface="David"/>
              </a:rPr>
              <a:t>בניית עץ חיפוש בינרי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5,6,2,4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102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170240" y="3035160"/>
            <a:ext cx="970200" cy="966960"/>
            <a:chOff x="4170240" y="3035160"/>
            <a:chExt cx="970200" cy="966960"/>
          </a:xfrm>
        </p:grpSpPr>
        <p:sp>
          <p:nvSpPr>
            <p:cNvPr id="105" name=""/>
            <p:cNvSpPr/>
            <p:nvPr/>
          </p:nvSpPr>
          <p:spPr>
            <a:xfrm>
              <a:off x="4170240" y="3035160"/>
              <a:ext cx="723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 &gt;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76760" y="3533760"/>
              <a:ext cx="463680" cy="46836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108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113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116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170240" y="3035160"/>
            <a:ext cx="970200" cy="966960"/>
            <a:chOff x="4170240" y="3035160"/>
            <a:chExt cx="970200" cy="966960"/>
          </a:xfrm>
        </p:grpSpPr>
        <p:sp>
          <p:nvSpPr>
            <p:cNvPr id="119" name=""/>
            <p:cNvSpPr/>
            <p:nvPr/>
          </p:nvSpPr>
          <p:spPr>
            <a:xfrm>
              <a:off x="4170240" y="3035160"/>
              <a:ext cx="723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 &gt;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76760" y="3535200"/>
              <a:ext cx="463680" cy="46692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122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127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130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133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138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141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18160" y="1752480"/>
            <a:ext cx="971640" cy="968400"/>
            <a:chOff x="5618160" y="1752480"/>
            <a:chExt cx="971640" cy="968400"/>
          </a:xfrm>
        </p:grpSpPr>
        <p:sp>
          <p:nvSpPr>
            <p:cNvPr id="144" name=""/>
            <p:cNvSpPr/>
            <p:nvPr/>
          </p:nvSpPr>
          <p:spPr>
            <a:xfrm>
              <a:off x="5618160" y="1752480"/>
              <a:ext cx="725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8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 &gt;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26120" y="2251080"/>
              <a:ext cx="463680" cy="46980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147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152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155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850080" y="3035160"/>
            <a:ext cx="969840" cy="966960"/>
            <a:chOff x="6850080" y="3035160"/>
            <a:chExt cx="969840" cy="966960"/>
          </a:xfrm>
        </p:grpSpPr>
        <p:sp>
          <p:nvSpPr>
            <p:cNvPr id="158" name=""/>
            <p:cNvSpPr/>
            <p:nvPr/>
          </p:nvSpPr>
          <p:spPr>
            <a:xfrm>
              <a:off x="6850080" y="3035160"/>
              <a:ext cx="723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8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 &gt;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58040" y="3533760"/>
              <a:ext cx="461880" cy="46836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161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635880" y="3321000"/>
            <a:ext cx="1581120" cy="1555920"/>
            <a:chOff x="6635880" y="3321000"/>
            <a:chExt cx="1581120" cy="1555920"/>
          </a:xfrm>
        </p:grpSpPr>
        <p:sp>
          <p:nvSpPr>
            <p:cNvPr id="166" name=""/>
            <p:cNvSpPr/>
            <p:nvPr/>
          </p:nvSpPr>
          <p:spPr>
            <a:xfrm>
              <a:off x="663588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296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169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172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850080" y="3035160"/>
            <a:ext cx="969840" cy="966960"/>
            <a:chOff x="6850080" y="3035160"/>
            <a:chExt cx="969840" cy="966960"/>
          </a:xfrm>
        </p:grpSpPr>
        <p:sp>
          <p:nvSpPr>
            <p:cNvPr id="175" name=""/>
            <p:cNvSpPr/>
            <p:nvPr/>
          </p:nvSpPr>
          <p:spPr>
            <a:xfrm>
              <a:off x="6850080" y="3035160"/>
              <a:ext cx="723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8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 &gt;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58040" y="3533760"/>
              <a:ext cx="461880" cy="46836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178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35880" y="3321000"/>
            <a:ext cx="1581120" cy="1555920"/>
            <a:chOff x="6635880" y="3321000"/>
            <a:chExt cx="1581120" cy="1555920"/>
          </a:xfrm>
        </p:grpSpPr>
        <p:sp>
          <p:nvSpPr>
            <p:cNvPr id="183" name=""/>
            <p:cNvSpPr/>
            <p:nvPr/>
          </p:nvSpPr>
          <p:spPr>
            <a:xfrm>
              <a:off x="663588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6296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186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189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192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635880" y="3321000"/>
            <a:ext cx="1581120" cy="1555920"/>
            <a:chOff x="6635880" y="3321000"/>
            <a:chExt cx="1581120" cy="1555920"/>
          </a:xfrm>
        </p:grpSpPr>
        <p:sp>
          <p:nvSpPr>
            <p:cNvPr id="197" name=""/>
            <p:cNvSpPr/>
            <p:nvPr/>
          </p:nvSpPr>
          <p:spPr>
            <a:xfrm>
              <a:off x="663588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296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200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203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24080" y="1752480"/>
            <a:ext cx="969840" cy="968400"/>
            <a:chOff x="4024080" y="1752480"/>
            <a:chExt cx="969840" cy="968400"/>
          </a:xfrm>
        </p:grpSpPr>
        <p:sp>
          <p:nvSpPr>
            <p:cNvPr id="206" name=""/>
            <p:cNvSpPr/>
            <p:nvPr/>
          </p:nvSpPr>
          <p:spPr>
            <a:xfrm flipH="1">
              <a:off x="4269600" y="1752480"/>
              <a:ext cx="723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&gt; 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024080" y="2251080"/>
              <a:ext cx="461880" cy="46980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209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649240" y="3106800"/>
            <a:ext cx="997200" cy="966600"/>
            <a:chOff x="2649240" y="3106800"/>
            <a:chExt cx="997200" cy="966600"/>
          </a:xfrm>
        </p:grpSpPr>
        <p:sp>
          <p:nvSpPr>
            <p:cNvPr id="214" name=""/>
            <p:cNvSpPr/>
            <p:nvPr/>
          </p:nvSpPr>
          <p:spPr>
            <a:xfrm flipH="1">
              <a:off x="2901960" y="3106800"/>
              <a:ext cx="7444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&gt; 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649240" y="3605040"/>
              <a:ext cx="476280" cy="46836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635880" y="3321000"/>
            <a:ext cx="1581120" cy="1555920"/>
            <a:chOff x="6635880" y="3321000"/>
            <a:chExt cx="1581120" cy="1555920"/>
          </a:xfrm>
        </p:grpSpPr>
        <p:sp>
          <p:nvSpPr>
            <p:cNvPr id="217" name=""/>
            <p:cNvSpPr/>
            <p:nvPr/>
          </p:nvSpPr>
          <p:spPr>
            <a:xfrm>
              <a:off x="663588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296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220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223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226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649240" y="3106800"/>
            <a:ext cx="997200" cy="966600"/>
            <a:chOff x="2649240" y="3106800"/>
            <a:chExt cx="997200" cy="966600"/>
          </a:xfrm>
        </p:grpSpPr>
        <p:sp>
          <p:nvSpPr>
            <p:cNvPr id="231" name=""/>
            <p:cNvSpPr/>
            <p:nvPr/>
          </p:nvSpPr>
          <p:spPr>
            <a:xfrm flipH="1">
              <a:off x="2901960" y="3106800"/>
              <a:ext cx="7444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&gt; 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649240" y="3605040"/>
              <a:ext cx="476280" cy="46836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374560" y="1765440"/>
            <a:ext cx="5842440" cy="3111480"/>
            <a:chOff x="2374560" y="1765440"/>
            <a:chExt cx="5842440" cy="3111480"/>
          </a:xfrm>
        </p:grpSpPr>
        <p:grpSp>
          <p:nvGrpSpPr>
            <p:cNvPr id="234" name=""/>
            <p:cNvGrpSpPr/>
            <p:nvPr/>
          </p:nvGrpSpPr>
          <p:grpSpPr>
            <a:xfrm>
              <a:off x="6635880" y="3321000"/>
              <a:ext cx="1581120" cy="1555920"/>
              <a:chOff x="6635880" y="3321000"/>
              <a:chExt cx="1581120" cy="1555920"/>
            </a:xfrm>
          </p:grpSpPr>
          <p:sp>
            <p:nvSpPr>
              <p:cNvPr id="235" name=""/>
              <p:cNvSpPr/>
              <p:nvPr/>
            </p:nvSpPr>
            <p:spPr>
              <a:xfrm>
                <a:off x="663588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6296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332320" y="2038320"/>
              <a:ext cx="1581120" cy="1554120"/>
              <a:chOff x="5332320" y="2038320"/>
              <a:chExt cx="1581120" cy="155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5332320" y="2038320"/>
                <a:ext cx="130356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59400" y="3048120"/>
                <a:ext cx="5540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374560" y="3321000"/>
              <a:ext cx="1581480" cy="1555920"/>
              <a:chOff x="2374560" y="3321000"/>
              <a:chExt cx="1581480" cy="155592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26528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37420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956040" y="3321000"/>
              <a:ext cx="1581120" cy="1555920"/>
              <a:chOff x="3956040" y="3321000"/>
              <a:chExt cx="1581120" cy="1555920"/>
            </a:xfrm>
          </p:grpSpPr>
          <p:sp>
            <p:nvSpPr>
              <p:cNvPr id="244" name=""/>
              <p:cNvSpPr/>
              <p:nvPr/>
            </p:nvSpPr>
            <p:spPr>
              <a:xfrm>
                <a:off x="39560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8312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677760" y="2038320"/>
              <a:ext cx="1581480" cy="1554120"/>
              <a:chOff x="3677760" y="2038320"/>
              <a:chExt cx="1581480" cy="1554120"/>
            </a:xfrm>
          </p:grpSpPr>
          <p:sp>
            <p:nvSpPr>
              <p:cNvPr id="247" name=""/>
              <p:cNvSpPr/>
              <p:nvPr/>
            </p:nvSpPr>
            <p:spPr>
              <a:xfrm flipH="1">
                <a:off x="3956040" y="203832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677400" y="3048120"/>
                <a:ext cx="5540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054760" y="176544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6,2,4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374560" y="1765440"/>
            <a:ext cx="5842440" cy="3111480"/>
            <a:chOff x="2374560" y="1765440"/>
            <a:chExt cx="5842440" cy="3111480"/>
          </a:xfrm>
        </p:grpSpPr>
        <p:grpSp>
          <p:nvGrpSpPr>
            <p:cNvPr id="252" name=""/>
            <p:cNvGrpSpPr/>
            <p:nvPr/>
          </p:nvGrpSpPr>
          <p:grpSpPr>
            <a:xfrm>
              <a:off x="6635880" y="3321000"/>
              <a:ext cx="1581120" cy="1555920"/>
              <a:chOff x="6635880" y="3321000"/>
              <a:chExt cx="1581120" cy="1555920"/>
            </a:xfrm>
          </p:grpSpPr>
          <p:sp>
            <p:nvSpPr>
              <p:cNvPr id="253" name=""/>
              <p:cNvSpPr/>
              <p:nvPr/>
            </p:nvSpPr>
            <p:spPr>
              <a:xfrm>
                <a:off x="663588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6296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332320" y="2038320"/>
              <a:ext cx="1581120" cy="1554120"/>
              <a:chOff x="5332320" y="2038320"/>
              <a:chExt cx="1581120" cy="1554120"/>
            </a:xfrm>
          </p:grpSpPr>
          <p:sp>
            <p:nvSpPr>
              <p:cNvPr id="256" name=""/>
              <p:cNvSpPr/>
              <p:nvPr/>
            </p:nvSpPr>
            <p:spPr>
              <a:xfrm>
                <a:off x="5332320" y="2038320"/>
                <a:ext cx="130356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59400" y="3048120"/>
                <a:ext cx="5540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374560" y="3321000"/>
              <a:ext cx="1581480" cy="1555920"/>
              <a:chOff x="2374560" y="3321000"/>
              <a:chExt cx="1581480" cy="155592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26528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37420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956040" y="3321000"/>
              <a:ext cx="1581120" cy="1555920"/>
              <a:chOff x="3956040" y="3321000"/>
              <a:chExt cx="1581120" cy="1555920"/>
            </a:xfrm>
          </p:grpSpPr>
          <p:sp>
            <p:nvSpPr>
              <p:cNvPr id="262" name=""/>
              <p:cNvSpPr/>
              <p:nvPr/>
            </p:nvSpPr>
            <p:spPr>
              <a:xfrm>
                <a:off x="39560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98312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677760" y="2038320"/>
              <a:ext cx="1581480" cy="1554120"/>
              <a:chOff x="3677760" y="2038320"/>
              <a:chExt cx="1581480" cy="155412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956040" y="203832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677400" y="3048120"/>
                <a:ext cx="5540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054760" y="176544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635880" y="3321000"/>
            <a:ext cx="1581120" cy="1555920"/>
            <a:chOff x="6635880" y="3321000"/>
            <a:chExt cx="1581120" cy="1555920"/>
          </a:xfrm>
        </p:grpSpPr>
        <p:sp>
          <p:nvSpPr>
            <p:cNvPr id="270" name=""/>
            <p:cNvSpPr/>
            <p:nvPr/>
          </p:nvSpPr>
          <p:spPr>
            <a:xfrm>
              <a:off x="663588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6296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273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374560" y="3321000"/>
            <a:ext cx="1581480" cy="1555920"/>
            <a:chOff x="2374560" y="3321000"/>
            <a:chExt cx="1581480" cy="1555920"/>
          </a:xfrm>
        </p:grpSpPr>
        <p:sp>
          <p:nvSpPr>
            <p:cNvPr id="276" name=""/>
            <p:cNvSpPr/>
            <p:nvPr/>
          </p:nvSpPr>
          <p:spPr>
            <a:xfrm flipH="1">
              <a:off x="26528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37420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279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024080" y="1752480"/>
            <a:ext cx="969840" cy="968400"/>
            <a:chOff x="4024080" y="1752480"/>
            <a:chExt cx="969840" cy="968400"/>
          </a:xfrm>
        </p:grpSpPr>
        <p:sp>
          <p:nvSpPr>
            <p:cNvPr id="282" name=""/>
            <p:cNvSpPr/>
            <p:nvPr/>
          </p:nvSpPr>
          <p:spPr>
            <a:xfrm flipH="1">
              <a:off x="4269600" y="1752480"/>
              <a:ext cx="723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&gt; 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024080" y="2251080"/>
              <a:ext cx="461880" cy="46980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285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635880" y="3321000"/>
            <a:ext cx="1581120" cy="1555920"/>
            <a:chOff x="6635880" y="3321000"/>
            <a:chExt cx="1581120" cy="1555920"/>
          </a:xfrm>
        </p:grpSpPr>
        <p:sp>
          <p:nvSpPr>
            <p:cNvPr id="290" name=""/>
            <p:cNvSpPr/>
            <p:nvPr/>
          </p:nvSpPr>
          <p:spPr>
            <a:xfrm>
              <a:off x="663588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6296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293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374560" y="3321000"/>
            <a:ext cx="1581480" cy="1555920"/>
            <a:chOff x="2374560" y="3321000"/>
            <a:chExt cx="1581480" cy="1555920"/>
          </a:xfrm>
        </p:grpSpPr>
        <p:sp>
          <p:nvSpPr>
            <p:cNvPr id="296" name=""/>
            <p:cNvSpPr/>
            <p:nvPr/>
          </p:nvSpPr>
          <p:spPr>
            <a:xfrm flipH="1">
              <a:off x="26528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37420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299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40080" y="3035160"/>
            <a:ext cx="970200" cy="966960"/>
            <a:chOff x="4240080" y="3035160"/>
            <a:chExt cx="970200" cy="966960"/>
          </a:xfrm>
        </p:grpSpPr>
        <p:sp>
          <p:nvSpPr>
            <p:cNvPr id="302" name=""/>
            <p:cNvSpPr/>
            <p:nvPr/>
          </p:nvSpPr>
          <p:spPr>
            <a:xfrm>
              <a:off x="4240080" y="3035160"/>
              <a:ext cx="723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 &gt;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46600" y="3533760"/>
              <a:ext cx="463680" cy="46836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305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635880" y="3321000"/>
            <a:ext cx="1581120" cy="1555920"/>
            <a:chOff x="6635880" y="3321000"/>
            <a:chExt cx="1581120" cy="1555920"/>
          </a:xfrm>
        </p:grpSpPr>
        <p:sp>
          <p:nvSpPr>
            <p:cNvPr id="310" name=""/>
            <p:cNvSpPr/>
            <p:nvPr/>
          </p:nvSpPr>
          <p:spPr>
            <a:xfrm>
              <a:off x="663588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296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313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374560" y="3321000"/>
            <a:ext cx="1581480" cy="1555920"/>
            <a:chOff x="2374560" y="3321000"/>
            <a:chExt cx="1581480" cy="1555920"/>
          </a:xfrm>
        </p:grpSpPr>
        <p:sp>
          <p:nvSpPr>
            <p:cNvPr id="316" name=""/>
            <p:cNvSpPr/>
            <p:nvPr/>
          </p:nvSpPr>
          <p:spPr>
            <a:xfrm flipH="1">
              <a:off x="26528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7420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319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020840" y="4319640"/>
            <a:ext cx="969840" cy="965160"/>
            <a:chOff x="4020840" y="4319640"/>
            <a:chExt cx="969840" cy="965160"/>
          </a:xfrm>
        </p:grpSpPr>
        <p:sp>
          <p:nvSpPr>
            <p:cNvPr id="322" name=""/>
            <p:cNvSpPr/>
            <p:nvPr/>
          </p:nvSpPr>
          <p:spPr>
            <a:xfrm flipH="1">
              <a:off x="4266360" y="4319640"/>
              <a:ext cx="723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&gt; 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020840" y="4818240"/>
              <a:ext cx="463320" cy="46656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325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35880" y="3321000"/>
            <a:ext cx="1303200" cy="128268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62960" y="4332240"/>
            <a:ext cx="554040" cy="54468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32320" y="2038320"/>
            <a:ext cx="1303560" cy="128268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59400" y="304812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882600" y="4603680"/>
            <a:ext cx="1305000" cy="128268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606120" y="5614920"/>
            <a:ext cx="554040" cy="54468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652840" y="3321000"/>
            <a:ext cx="1303200" cy="128268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374200" y="4332240"/>
            <a:ext cx="554040" cy="54468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6040" y="3321000"/>
            <a:ext cx="1303200" cy="128268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3120" y="4332240"/>
            <a:ext cx="554040" cy="54468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266360" y="4319640"/>
            <a:ext cx="723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&gt;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020840" y="4818240"/>
            <a:ext cx="463320" cy="466560"/>
          </a:xfrm>
          <a:prstGeom prst="line">
            <a:avLst/>
          </a:prstGeom>
          <a:ln w="2556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956040" y="2038320"/>
            <a:ext cx="1303200" cy="128268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677400" y="304812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374560" y="1765440"/>
            <a:ext cx="5842440" cy="4394160"/>
            <a:chOff x="2374560" y="1765440"/>
            <a:chExt cx="5842440" cy="4394160"/>
          </a:xfrm>
        </p:grpSpPr>
        <p:grpSp>
          <p:nvGrpSpPr>
            <p:cNvPr id="346" name=""/>
            <p:cNvGrpSpPr/>
            <p:nvPr/>
          </p:nvGrpSpPr>
          <p:grpSpPr>
            <a:xfrm>
              <a:off x="6635880" y="3321000"/>
              <a:ext cx="1581120" cy="1555920"/>
              <a:chOff x="6635880" y="3321000"/>
              <a:chExt cx="1581120" cy="1555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63588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66296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5332320" y="2038320"/>
              <a:ext cx="1581120" cy="1554120"/>
              <a:chOff x="5332320" y="2038320"/>
              <a:chExt cx="1581120" cy="1554120"/>
            </a:xfrm>
          </p:grpSpPr>
          <p:sp>
            <p:nvSpPr>
              <p:cNvPr id="350" name=""/>
              <p:cNvSpPr/>
              <p:nvPr/>
            </p:nvSpPr>
            <p:spPr>
              <a:xfrm>
                <a:off x="5332320" y="2038320"/>
                <a:ext cx="130356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57960" y="3048120"/>
                <a:ext cx="55548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606840" y="4603680"/>
              <a:ext cx="1581120" cy="1555920"/>
              <a:chOff x="3606840" y="4603680"/>
              <a:chExt cx="1581120" cy="155592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3884760" y="460368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3606840" y="5614920"/>
                <a:ext cx="5522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2374560" y="3321000"/>
              <a:ext cx="1581480" cy="1555920"/>
              <a:chOff x="2374560" y="3321000"/>
              <a:chExt cx="1581480" cy="1555920"/>
            </a:xfrm>
          </p:grpSpPr>
          <p:sp>
            <p:nvSpPr>
              <p:cNvPr id="356" name=""/>
              <p:cNvSpPr/>
              <p:nvPr/>
            </p:nvSpPr>
            <p:spPr>
              <a:xfrm flipH="1">
                <a:off x="26528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37420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3956040" y="3321000"/>
              <a:ext cx="1581120" cy="1555920"/>
              <a:chOff x="3956040" y="3321000"/>
              <a:chExt cx="1581120" cy="1555920"/>
            </a:xfrm>
          </p:grpSpPr>
          <p:sp>
            <p:nvSpPr>
              <p:cNvPr id="359" name=""/>
              <p:cNvSpPr/>
              <p:nvPr/>
            </p:nvSpPr>
            <p:spPr>
              <a:xfrm>
                <a:off x="39560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8312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678120" y="2038320"/>
              <a:ext cx="1581120" cy="1554120"/>
              <a:chOff x="3678120" y="2038320"/>
              <a:chExt cx="1581120" cy="1554120"/>
            </a:xfrm>
          </p:grpSpPr>
          <p:sp>
            <p:nvSpPr>
              <p:cNvPr id="362" name=""/>
              <p:cNvSpPr/>
              <p:nvPr/>
            </p:nvSpPr>
            <p:spPr>
              <a:xfrm flipH="1">
                <a:off x="3956040" y="203832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3678120" y="3048120"/>
                <a:ext cx="5558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5054760" y="176544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374560" y="1752480"/>
            <a:ext cx="5842440" cy="4407120"/>
            <a:chOff x="2374560" y="1752480"/>
            <a:chExt cx="5842440" cy="4407120"/>
          </a:xfrm>
        </p:grpSpPr>
        <p:grpSp>
          <p:nvGrpSpPr>
            <p:cNvPr id="367" name=""/>
            <p:cNvGrpSpPr/>
            <p:nvPr/>
          </p:nvGrpSpPr>
          <p:grpSpPr>
            <a:xfrm>
              <a:off x="6635880" y="3321000"/>
              <a:ext cx="1581120" cy="1555920"/>
              <a:chOff x="6635880" y="3321000"/>
              <a:chExt cx="1581120" cy="1555920"/>
            </a:xfrm>
          </p:grpSpPr>
          <p:sp>
            <p:nvSpPr>
              <p:cNvPr id="368" name=""/>
              <p:cNvSpPr/>
              <p:nvPr/>
            </p:nvSpPr>
            <p:spPr>
              <a:xfrm>
                <a:off x="6635880" y="3321000"/>
                <a:ext cx="130464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661160" y="4332240"/>
                <a:ext cx="5558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330880" y="2038320"/>
              <a:ext cx="1581120" cy="1554120"/>
              <a:chOff x="5330880" y="2038320"/>
              <a:chExt cx="1581120" cy="1554120"/>
            </a:xfrm>
          </p:grpSpPr>
          <p:sp>
            <p:nvSpPr>
              <p:cNvPr id="371" name=""/>
              <p:cNvSpPr/>
              <p:nvPr/>
            </p:nvSpPr>
            <p:spPr>
              <a:xfrm>
                <a:off x="5330880" y="203832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59400" y="3048120"/>
                <a:ext cx="55260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606840" y="4603680"/>
              <a:ext cx="1580760" cy="1555920"/>
              <a:chOff x="3606840" y="4603680"/>
              <a:chExt cx="1580760" cy="155592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3882600" y="460368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3606840" y="5614920"/>
                <a:ext cx="5522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374560" y="3321000"/>
              <a:ext cx="1581120" cy="1555920"/>
              <a:chOff x="2374560" y="3321000"/>
              <a:chExt cx="1581120" cy="15559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2650680" y="332100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2374200" y="4332240"/>
                <a:ext cx="55548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3956040" y="3321000"/>
              <a:ext cx="1581120" cy="1555920"/>
              <a:chOff x="3956040" y="3321000"/>
              <a:chExt cx="1581120" cy="1555920"/>
            </a:xfrm>
          </p:grpSpPr>
          <p:sp>
            <p:nvSpPr>
              <p:cNvPr id="380" name=""/>
              <p:cNvSpPr/>
              <p:nvPr/>
            </p:nvSpPr>
            <p:spPr>
              <a:xfrm>
                <a:off x="3956040" y="332100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81680" y="4332240"/>
                <a:ext cx="55548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13480" y="1752480"/>
              <a:ext cx="969840" cy="966960"/>
              <a:chOff x="5613480" y="1752480"/>
              <a:chExt cx="969840" cy="966960"/>
            </a:xfrm>
          </p:grpSpPr>
          <p:sp>
            <p:nvSpPr>
              <p:cNvPr id="383" name=""/>
              <p:cNvSpPr/>
              <p:nvPr/>
            </p:nvSpPr>
            <p:spPr>
              <a:xfrm>
                <a:off x="5613480" y="1752480"/>
                <a:ext cx="72396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7</a:t>
                </a: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 &gt;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21440" y="2251080"/>
                <a:ext cx="461880" cy="468360"/>
              </a:xfrm>
              <a:prstGeom prst="line">
                <a:avLst/>
              </a:prstGeom>
              <a:ln w="2556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3679920" y="2038320"/>
              <a:ext cx="1580760" cy="1554120"/>
              <a:chOff x="3679920" y="2038320"/>
              <a:chExt cx="1580760" cy="155412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3955680" y="203832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3679920" y="3048120"/>
                <a:ext cx="5522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054760" y="1765440"/>
              <a:ext cx="55548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374560" y="1765440"/>
            <a:ext cx="5842440" cy="4394160"/>
            <a:chOff x="2374560" y="1765440"/>
            <a:chExt cx="5842440" cy="4394160"/>
          </a:xfrm>
        </p:grpSpPr>
        <p:grpSp>
          <p:nvGrpSpPr>
            <p:cNvPr id="391" name=""/>
            <p:cNvGrpSpPr/>
            <p:nvPr/>
          </p:nvGrpSpPr>
          <p:grpSpPr>
            <a:xfrm>
              <a:off x="6635880" y="3321000"/>
              <a:ext cx="1581120" cy="1555920"/>
              <a:chOff x="6635880" y="3321000"/>
              <a:chExt cx="1581120" cy="1555920"/>
            </a:xfrm>
          </p:grpSpPr>
          <p:sp>
            <p:nvSpPr>
              <p:cNvPr id="392" name=""/>
              <p:cNvSpPr/>
              <p:nvPr/>
            </p:nvSpPr>
            <p:spPr>
              <a:xfrm>
                <a:off x="663588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6296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332320" y="2038320"/>
              <a:ext cx="1581120" cy="1554120"/>
              <a:chOff x="5332320" y="2038320"/>
              <a:chExt cx="1581120" cy="1554120"/>
            </a:xfrm>
          </p:grpSpPr>
          <p:sp>
            <p:nvSpPr>
              <p:cNvPr id="395" name=""/>
              <p:cNvSpPr/>
              <p:nvPr/>
            </p:nvSpPr>
            <p:spPr>
              <a:xfrm>
                <a:off x="5332320" y="2038320"/>
                <a:ext cx="130356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57960" y="3048120"/>
                <a:ext cx="55548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606480" y="4603680"/>
              <a:ext cx="1581480" cy="1555920"/>
              <a:chOff x="3606480" y="4603680"/>
              <a:chExt cx="1581480" cy="1555920"/>
            </a:xfrm>
          </p:grpSpPr>
          <p:sp>
            <p:nvSpPr>
              <p:cNvPr id="398" name=""/>
              <p:cNvSpPr/>
              <p:nvPr/>
            </p:nvSpPr>
            <p:spPr>
              <a:xfrm flipH="1">
                <a:off x="3884760" y="460368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3606120" y="561492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374560" y="3321000"/>
              <a:ext cx="1581480" cy="1555920"/>
              <a:chOff x="2374560" y="3321000"/>
              <a:chExt cx="1581480" cy="1555920"/>
            </a:xfrm>
          </p:grpSpPr>
          <p:sp>
            <p:nvSpPr>
              <p:cNvPr id="401" name=""/>
              <p:cNvSpPr/>
              <p:nvPr/>
            </p:nvSpPr>
            <p:spPr>
              <a:xfrm flipH="1">
                <a:off x="26528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237420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956040" y="3321000"/>
              <a:ext cx="1581120" cy="1555920"/>
              <a:chOff x="3956040" y="3321000"/>
              <a:chExt cx="1581120" cy="1555920"/>
            </a:xfrm>
          </p:grpSpPr>
          <p:sp>
            <p:nvSpPr>
              <p:cNvPr id="404" name=""/>
              <p:cNvSpPr/>
              <p:nvPr/>
            </p:nvSpPr>
            <p:spPr>
              <a:xfrm>
                <a:off x="39560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8312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916680" y="3035160"/>
              <a:ext cx="970200" cy="966960"/>
              <a:chOff x="6916680" y="3035160"/>
              <a:chExt cx="970200" cy="9669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16680" y="3035160"/>
                <a:ext cx="72396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7</a:t>
                </a: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 &gt;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424640" y="3533760"/>
                <a:ext cx="462240" cy="468360"/>
              </a:xfrm>
              <a:prstGeom prst="line">
                <a:avLst/>
              </a:prstGeom>
              <a:ln w="2556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3678120" y="2038320"/>
              <a:ext cx="1581120" cy="1554120"/>
              <a:chOff x="3678120" y="2038320"/>
              <a:chExt cx="1581120" cy="155412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3956040" y="203832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3678120" y="3048120"/>
                <a:ext cx="5558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5054760" y="176544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374560" y="1765440"/>
            <a:ext cx="5842440" cy="4394160"/>
            <a:chOff x="2374560" y="1765440"/>
            <a:chExt cx="5842440" cy="4394160"/>
          </a:xfrm>
        </p:grpSpPr>
        <p:grpSp>
          <p:nvGrpSpPr>
            <p:cNvPr id="415" name=""/>
            <p:cNvGrpSpPr/>
            <p:nvPr/>
          </p:nvGrpSpPr>
          <p:grpSpPr>
            <a:xfrm>
              <a:off x="6635880" y="3321000"/>
              <a:ext cx="1581120" cy="1555920"/>
              <a:chOff x="6635880" y="3321000"/>
              <a:chExt cx="1581120" cy="1555920"/>
            </a:xfrm>
          </p:grpSpPr>
          <p:sp>
            <p:nvSpPr>
              <p:cNvPr id="416" name=""/>
              <p:cNvSpPr/>
              <p:nvPr/>
            </p:nvSpPr>
            <p:spPr>
              <a:xfrm>
                <a:off x="6635880" y="3321000"/>
                <a:ext cx="130464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661160" y="4332240"/>
                <a:ext cx="5558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330880" y="2038320"/>
              <a:ext cx="1581120" cy="1554120"/>
              <a:chOff x="5330880" y="2038320"/>
              <a:chExt cx="1581120" cy="1554120"/>
            </a:xfrm>
          </p:grpSpPr>
          <p:sp>
            <p:nvSpPr>
              <p:cNvPr id="419" name=""/>
              <p:cNvSpPr/>
              <p:nvPr/>
            </p:nvSpPr>
            <p:spPr>
              <a:xfrm>
                <a:off x="5330880" y="203832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359400" y="3048120"/>
                <a:ext cx="55260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3606480" y="4603680"/>
              <a:ext cx="1581120" cy="1555920"/>
              <a:chOff x="3606480" y="4603680"/>
              <a:chExt cx="1581120" cy="1555920"/>
            </a:xfrm>
          </p:grpSpPr>
          <p:sp>
            <p:nvSpPr>
              <p:cNvPr id="422" name=""/>
              <p:cNvSpPr/>
              <p:nvPr/>
            </p:nvSpPr>
            <p:spPr>
              <a:xfrm flipH="1">
                <a:off x="3882600" y="460368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606120" y="561492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374560" y="3321000"/>
              <a:ext cx="1581120" cy="1555920"/>
              <a:chOff x="2374560" y="3321000"/>
              <a:chExt cx="1581120" cy="1555920"/>
            </a:xfrm>
          </p:grpSpPr>
          <p:sp>
            <p:nvSpPr>
              <p:cNvPr id="425" name=""/>
              <p:cNvSpPr/>
              <p:nvPr/>
            </p:nvSpPr>
            <p:spPr>
              <a:xfrm flipH="1">
                <a:off x="2650680" y="332100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2374200" y="4332240"/>
                <a:ext cx="55548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956040" y="3321000"/>
              <a:ext cx="1581120" cy="1555920"/>
              <a:chOff x="3956040" y="3321000"/>
              <a:chExt cx="1581120" cy="1555920"/>
            </a:xfrm>
          </p:grpSpPr>
          <p:sp>
            <p:nvSpPr>
              <p:cNvPr id="428" name=""/>
              <p:cNvSpPr/>
              <p:nvPr/>
            </p:nvSpPr>
            <p:spPr>
              <a:xfrm>
                <a:off x="3956040" y="332100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981680" y="4332240"/>
                <a:ext cx="55548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697440" y="4319640"/>
              <a:ext cx="969840" cy="965160"/>
              <a:chOff x="6697440" y="4319640"/>
              <a:chExt cx="969840" cy="965160"/>
            </a:xfrm>
          </p:grpSpPr>
          <p:sp>
            <p:nvSpPr>
              <p:cNvPr id="431" name=""/>
              <p:cNvSpPr/>
              <p:nvPr/>
            </p:nvSpPr>
            <p:spPr>
              <a:xfrm flipH="1">
                <a:off x="6942960" y="4319640"/>
                <a:ext cx="72396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&gt; </a:t>
                </a: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6697440" y="4818240"/>
                <a:ext cx="461880" cy="466560"/>
              </a:xfrm>
              <a:prstGeom prst="line">
                <a:avLst/>
              </a:prstGeom>
              <a:ln w="2556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679920" y="2038320"/>
              <a:ext cx="1580760" cy="1554120"/>
              <a:chOff x="3679920" y="2038320"/>
              <a:chExt cx="1580760" cy="1554120"/>
            </a:xfrm>
          </p:grpSpPr>
          <p:sp>
            <p:nvSpPr>
              <p:cNvPr id="434" name=""/>
              <p:cNvSpPr/>
              <p:nvPr/>
            </p:nvSpPr>
            <p:spPr>
              <a:xfrm flipH="1">
                <a:off x="3955680" y="2038320"/>
                <a:ext cx="13050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3679920" y="3048120"/>
                <a:ext cx="5522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054760" y="1765440"/>
              <a:ext cx="55548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374560" y="1765440"/>
            <a:ext cx="5842440" cy="4394160"/>
            <a:chOff x="2374560" y="1765440"/>
            <a:chExt cx="5842440" cy="4394160"/>
          </a:xfrm>
        </p:grpSpPr>
        <p:grpSp>
          <p:nvGrpSpPr>
            <p:cNvPr id="439" name=""/>
            <p:cNvGrpSpPr/>
            <p:nvPr/>
          </p:nvGrpSpPr>
          <p:grpSpPr>
            <a:xfrm>
              <a:off x="6357600" y="4603680"/>
              <a:ext cx="1581480" cy="1555920"/>
              <a:chOff x="6357600" y="4603680"/>
              <a:chExt cx="1581480" cy="1555920"/>
            </a:xfrm>
          </p:grpSpPr>
          <p:sp>
            <p:nvSpPr>
              <p:cNvPr id="440" name=""/>
              <p:cNvSpPr/>
              <p:nvPr/>
            </p:nvSpPr>
            <p:spPr>
              <a:xfrm flipH="1">
                <a:off x="6635880" y="460368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357240" y="5614920"/>
                <a:ext cx="55548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635880" y="3321000"/>
              <a:ext cx="1581120" cy="1555920"/>
              <a:chOff x="6635880" y="3321000"/>
              <a:chExt cx="1581120" cy="1555920"/>
            </a:xfrm>
          </p:grpSpPr>
          <p:sp>
            <p:nvSpPr>
              <p:cNvPr id="443" name=""/>
              <p:cNvSpPr/>
              <p:nvPr/>
            </p:nvSpPr>
            <p:spPr>
              <a:xfrm>
                <a:off x="663588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62960" y="4330800"/>
                <a:ext cx="554040" cy="5461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332320" y="2038320"/>
              <a:ext cx="1581120" cy="1555920"/>
              <a:chOff x="5332320" y="2038320"/>
              <a:chExt cx="1581120" cy="1555920"/>
            </a:xfrm>
          </p:grpSpPr>
          <p:sp>
            <p:nvSpPr>
              <p:cNvPr id="446" name=""/>
              <p:cNvSpPr/>
              <p:nvPr/>
            </p:nvSpPr>
            <p:spPr>
              <a:xfrm>
                <a:off x="5332320" y="2038320"/>
                <a:ext cx="130356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57960" y="3048120"/>
                <a:ext cx="555480" cy="5461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606840" y="4603680"/>
              <a:ext cx="1581120" cy="1555920"/>
              <a:chOff x="3606840" y="4603680"/>
              <a:chExt cx="1581120" cy="155592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3884760" y="460368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606840" y="5614920"/>
                <a:ext cx="5522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374560" y="3321000"/>
              <a:ext cx="1581480" cy="1555920"/>
              <a:chOff x="2374560" y="3321000"/>
              <a:chExt cx="1581480" cy="1555920"/>
            </a:xfrm>
          </p:grpSpPr>
          <p:sp>
            <p:nvSpPr>
              <p:cNvPr id="452" name=""/>
              <p:cNvSpPr/>
              <p:nvPr/>
            </p:nvSpPr>
            <p:spPr>
              <a:xfrm flipH="1">
                <a:off x="26528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2374200" y="4330800"/>
                <a:ext cx="554040" cy="5461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956040" y="3321000"/>
              <a:ext cx="1581120" cy="1555920"/>
              <a:chOff x="3956040" y="3321000"/>
              <a:chExt cx="1581120" cy="1555920"/>
            </a:xfrm>
          </p:grpSpPr>
          <p:sp>
            <p:nvSpPr>
              <p:cNvPr id="455" name=""/>
              <p:cNvSpPr/>
              <p:nvPr/>
            </p:nvSpPr>
            <p:spPr>
              <a:xfrm>
                <a:off x="39560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83120" y="4330800"/>
                <a:ext cx="554040" cy="5461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698880" y="4317840"/>
              <a:ext cx="970200" cy="966960"/>
              <a:chOff x="6698880" y="4317840"/>
              <a:chExt cx="970200" cy="96696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6945480" y="4317840"/>
                <a:ext cx="723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&gt; </a:t>
                </a: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6698880" y="4816440"/>
                <a:ext cx="461880" cy="468360"/>
              </a:xfrm>
              <a:prstGeom prst="line">
                <a:avLst/>
              </a:prstGeom>
              <a:ln w="2556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678120" y="2038320"/>
              <a:ext cx="1581120" cy="1555920"/>
              <a:chOff x="3678120" y="2038320"/>
              <a:chExt cx="1581120" cy="15559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3956040" y="203832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678120" y="3048120"/>
                <a:ext cx="555840" cy="5461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054760" y="176544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2,4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562720" y="1752480"/>
            <a:ext cx="969480" cy="968400"/>
            <a:chOff x="5562720" y="1752480"/>
            <a:chExt cx="969480" cy="968400"/>
          </a:xfrm>
        </p:grpSpPr>
        <p:sp>
          <p:nvSpPr>
            <p:cNvPr id="50" name=""/>
            <p:cNvSpPr/>
            <p:nvPr/>
          </p:nvSpPr>
          <p:spPr>
            <a:xfrm>
              <a:off x="5562720" y="1752480"/>
              <a:ext cx="7236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&gt;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68880" y="2251080"/>
              <a:ext cx="463320" cy="46980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374560" y="1765440"/>
            <a:ext cx="5842440" cy="4394160"/>
            <a:chOff x="2374560" y="1765440"/>
            <a:chExt cx="5842440" cy="4394160"/>
          </a:xfrm>
        </p:grpSpPr>
        <p:grpSp>
          <p:nvGrpSpPr>
            <p:cNvPr id="466" name=""/>
            <p:cNvGrpSpPr/>
            <p:nvPr/>
          </p:nvGrpSpPr>
          <p:grpSpPr>
            <a:xfrm>
              <a:off x="6359040" y="4603680"/>
              <a:ext cx="1580040" cy="1555920"/>
              <a:chOff x="6359040" y="4603680"/>
              <a:chExt cx="1580040" cy="1555920"/>
            </a:xfrm>
          </p:grpSpPr>
          <p:sp>
            <p:nvSpPr>
              <p:cNvPr id="467" name=""/>
              <p:cNvSpPr/>
              <p:nvPr/>
            </p:nvSpPr>
            <p:spPr>
              <a:xfrm flipH="1">
                <a:off x="6635880" y="460368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358680" y="561492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635880" y="3321000"/>
              <a:ext cx="1581120" cy="1555920"/>
              <a:chOff x="6635880" y="3321000"/>
              <a:chExt cx="1581120" cy="1555920"/>
            </a:xfrm>
          </p:grpSpPr>
          <p:sp>
            <p:nvSpPr>
              <p:cNvPr id="470" name=""/>
              <p:cNvSpPr/>
              <p:nvPr/>
            </p:nvSpPr>
            <p:spPr>
              <a:xfrm>
                <a:off x="663588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66296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332320" y="2038320"/>
              <a:ext cx="1581120" cy="1554120"/>
              <a:chOff x="5332320" y="2038320"/>
              <a:chExt cx="1581120" cy="1554120"/>
            </a:xfrm>
          </p:grpSpPr>
          <p:sp>
            <p:nvSpPr>
              <p:cNvPr id="473" name=""/>
              <p:cNvSpPr/>
              <p:nvPr/>
            </p:nvSpPr>
            <p:spPr>
              <a:xfrm>
                <a:off x="5332320" y="2038320"/>
                <a:ext cx="130356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59400" y="3048120"/>
                <a:ext cx="5540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2374560" y="3321000"/>
              <a:ext cx="2813040" cy="2838600"/>
              <a:chOff x="2374560" y="3321000"/>
              <a:chExt cx="2813040" cy="28386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3606480" y="4603680"/>
                <a:ext cx="1581120" cy="1555920"/>
                <a:chOff x="3606480" y="4603680"/>
                <a:chExt cx="1581120" cy="1555920"/>
              </a:xfrm>
            </p:grpSpPr>
            <p:sp>
              <p:nvSpPr>
                <p:cNvPr id="477" name=""/>
                <p:cNvSpPr/>
                <p:nvPr/>
              </p:nvSpPr>
              <p:spPr>
                <a:xfrm flipH="1">
                  <a:off x="3882600" y="4603680"/>
                  <a:ext cx="1305000" cy="1282680"/>
                </a:xfrm>
                <a:prstGeom prst="line">
                  <a:avLst/>
                </a:prstGeom>
                <a:ln w="25560">
                  <a:solidFill>
                    <a:srgbClr val="fe9b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3606120" y="5614920"/>
                  <a:ext cx="554040" cy="544680"/>
                </a:xfrm>
                <a:prstGeom prst="ellipse">
                  <a:avLst/>
                </a:prstGeom>
                <a:solidFill>
                  <a:srgbClr val="c8fec8"/>
                </a:solidFill>
                <a:ln w="25560">
                  <a:solidFill>
                    <a:srgbClr val="fe9b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3200" spc="-1" strike="noStrike">
                      <a:solidFill>
                        <a:srgbClr val="fe9b03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374560" y="3321000"/>
                <a:ext cx="1581480" cy="1555920"/>
                <a:chOff x="2374560" y="3321000"/>
                <a:chExt cx="1581480" cy="155592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2652840" y="3321000"/>
                  <a:ext cx="1303200" cy="1282680"/>
                </a:xfrm>
                <a:prstGeom prst="line">
                  <a:avLst/>
                </a:prstGeom>
                <a:ln w="25560">
                  <a:solidFill>
                    <a:srgbClr val="fe9b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2374200" y="4332240"/>
                  <a:ext cx="554040" cy="544680"/>
                </a:xfrm>
                <a:prstGeom prst="ellipse">
                  <a:avLst/>
                </a:prstGeom>
                <a:solidFill>
                  <a:srgbClr val="c8fec8"/>
                </a:solidFill>
                <a:ln w="25560">
                  <a:solidFill>
                    <a:srgbClr val="fe9b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3200" spc="-1" strike="noStrike">
                      <a:solidFill>
                        <a:srgbClr val="fe9b03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"/>
            <p:cNvGrpSpPr/>
            <p:nvPr/>
          </p:nvGrpSpPr>
          <p:grpSpPr>
            <a:xfrm>
              <a:off x="3956040" y="3321000"/>
              <a:ext cx="1581120" cy="1555920"/>
              <a:chOff x="3956040" y="3321000"/>
              <a:chExt cx="1581120" cy="1555920"/>
            </a:xfrm>
          </p:grpSpPr>
          <p:sp>
            <p:nvSpPr>
              <p:cNvPr id="483" name=""/>
              <p:cNvSpPr/>
              <p:nvPr/>
            </p:nvSpPr>
            <p:spPr>
              <a:xfrm>
                <a:off x="3956040" y="332100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83120" y="4332240"/>
                <a:ext cx="554040" cy="54468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3677760" y="2038320"/>
              <a:ext cx="1581480" cy="1554120"/>
              <a:chOff x="3677760" y="2038320"/>
              <a:chExt cx="1581480" cy="1554120"/>
            </a:xfrm>
          </p:grpSpPr>
          <p:sp>
            <p:nvSpPr>
              <p:cNvPr id="486" name=""/>
              <p:cNvSpPr/>
              <p:nvPr/>
            </p:nvSpPr>
            <p:spPr>
              <a:xfrm flipH="1">
                <a:off x="3956040" y="2038320"/>
                <a:ext cx="1303200" cy="1282680"/>
              </a:xfrm>
              <a:prstGeom prst="line">
                <a:avLst/>
              </a:prstGeom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3677400" y="3048120"/>
                <a:ext cx="554040" cy="544320"/>
              </a:xfrm>
              <a:prstGeom prst="ellipse">
                <a:avLst/>
              </a:prstGeom>
              <a:solidFill>
                <a:srgbClr val="c8fec8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e9b0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5054760" y="176544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357600" y="4603680"/>
            <a:ext cx="1581480" cy="1555920"/>
            <a:chOff x="6357600" y="4603680"/>
            <a:chExt cx="1581480" cy="1555920"/>
          </a:xfrm>
        </p:grpSpPr>
        <p:sp>
          <p:nvSpPr>
            <p:cNvPr id="491" name=""/>
            <p:cNvSpPr/>
            <p:nvPr/>
          </p:nvSpPr>
          <p:spPr>
            <a:xfrm flipH="1">
              <a:off x="6635880" y="460368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357240" y="5614920"/>
              <a:ext cx="55548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635880" y="3321000"/>
            <a:ext cx="1581120" cy="1555920"/>
            <a:chOff x="6635880" y="3321000"/>
            <a:chExt cx="1581120" cy="1555920"/>
          </a:xfrm>
        </p:grpSpPr>
        <p:sp>
          <p:nvSpPr>
            <p:cNvPr id="494" name=""/>
            <p:cNvSpPr/>
            <p:nvPr/>
          </p:nvSpPr>
          <p:spPr>
            <a:xfrm>
              <a:off x="663588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6296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497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57960" y="3048120"/>
              <a:ext cx="55548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606840" y="4603680"/>
            <a:ext cx="1581120" cy="1555920"/>
            <a:chOff x="3606840" y="4603680"/>
            <a:chExt cx="1581120" cy="1555920"/>
          </a:xfrm>
        </p:grpSpPr>
        <p:sp>
          <p:nvSpPr>
            <p:cNvPr id="500" name=""/>
            <p:cNvSpPr/>
            <p:nvPr/>
          </p:nvSpPr>
          <p:spPr>
            <a:xfrm flipH="1">
              <a:off x="3884760" y="460368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606840" y="5614920"/>
              <a:ext cx="5522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374560" y="3321000"/>
            <a:ext cx="1581480" cy="1555920"/>
            <a:chOff x="2374560" y="3321000"/>
            <a:chExt cx="1581480" cy="1555920"/>
          </a:xfrm>
        </p:grpSpPr>
        <p:sp>
          <p:nvSpPr>
            <p:cNvPr id="503" name=""/>
            <p:cNvSpPr/>
            <p:nvPr/>
          </p:nvSpPr>
          <p:spPr>
            <a:xfrm flipH="1">
              <a:off x="26528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37420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956040" y="3321000"/>
            <a:ext cx="1581120" cy="1555920"/>
            <a:chOff x="3956040" y="3321000"/>
            <a:chExt cx="1581120" cy="1555920"/>
          </a:xfrm>
        </p:grpSpPr>
        <p:sp>
          <p:nvSpPr>
            <p:cNvPr id="506" name=""/>
            <p:cNvSpPr/>
            <p:nvPr/>
          </p:nvSpPr>
          <p:spPr>
            <a:xfrm>
              <a:off x="3956040" y="332100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83120" y="4332240"/>
              <a:ext cx="554040" cy="54468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678120" y="2038320"/>
            <a:ext cx="1581120" cy="1554120"/>
            <a:chOff x="3678120" y="2038320"/>
            <a:chExt cx="1581120" cy="1554120"/>
          </a:xfrm>
        </p:grpSpPr>
        <p:sp>
          <p:nvSpPr>
            <p:cNvPr id="509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678120" y="3048120"/>
              <a:ext cx="5558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9980000">
            <a:off x="2187720" y="3141720"/>
            <a:ext cx="5945040" cy="105876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4800" spc="-1" strike="noStrike">
                <a:solidFill>
                  <a:srgbClr val="00ff00"/>
                </a:solidFill>
                <a:latin typeface="Arial"/>
                <a:cs typeface="David"/>
              </a:rPr>
              <a:t>בניית עץ החיפוש הושלמה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2,4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2320" y="2038320"/>
            <a:ext cx="1303560" cy="128268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9400" y="304812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549760" y="1752480"/>
            <a:ext cx="970200" cy="968400"/>
            <a:chOff x="5549760" y="1752480"/>
            <a:chExt cx="970200" cy="968400"/>
          </a:xfrm>
        </p:grpSpPr>
        <p:sp>
          <p:nvSpPr>
            <p:cNvPr id="57" name=""/>
            <p:cNvSpPr/>
            <p:nvPr/>
          </p:nvSpPr>
          <p:spPr>
            <a:xfrm>
              <a:off x="5549760" y="1752480"/>
              <a:ext cx="723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 &gt;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56280" y="2251080"/>
              <a:ext cx="463680" cy="46980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2,4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2320" y="2038320"/>
            <a:ext cx="1303560" cy="128268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59400" y="304812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4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2320" y="2038320"/>
            <a:ext cx="1303560" cy="128268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59400" y="304812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027320" y="1752480"/>
            <a:ext cx="969840" cy="968400"/>
            <a:chOff x="4027320" y="1752480"/>
            <a:chExt cx="969840" cy="968400"/>
          </a:xfrm>
        </p:grpSpPr>
        <p:sp>
          <p:nvSpPr>
            <p:cNvPr id="68" name=""/>
            <p:cNvSpPr/>
            <p:nvPr/>
          </p:nvSpPr>
          <p:spPr>
            <a:xfrm flipH="1">
              <a:off x="4271400" y="1752480"/>
              <a:ext cx="725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&gt; 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027320" y="2251080"/>
              <a:ext cx="462240" cy="46980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4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72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027320" y="1752480"/>
            <a:ext cx="969840" cy="968400"/>
            <a:chOff x="4027320" y="1752480"/>
            <a:chExt cx="969840" cy="968400"/>
          </a:xfrm>
        </p:grpSpPr>
        <p:sp>
          <p:nvSpPr>
            <p:cNvPr id="75" name=""/>
            <p:cNvSpPr/>
            <p:nvPr/>
          </p:nvSpPr>
          <p:spPr>
            <a:xfrm flipH="1">
              <a:off x="4271400" y="1752480"/>
              <a:ext cx="725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&gt; 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4027320" y="2251080"/>
              <a:ext cx="462240" cy="46980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78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4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83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86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133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47474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e9b03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,8,1,3,7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2320" y="2038320"/>
            <a:ext cx="1581120" cy="1554120"/>
            <a:chOff x="5332320" y="2038320"/>
            <a:chExt cx="1581120" cy="1554120"/>
          </a:xfrm>
        </p:grpSpPr>
        <p:sp>
          <p:nvSpPr>
            <p:cNvPr id="91" name=""/>
            <p:cNvSpPr/>
            <p:nvPr/>
          </p:nvSpPr>
          <p:spPr>
            <a:xfrm>
              <a:off x="5332320" y="2038320"/>
              <a:ext cx="130356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59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027320" y="1752480"/>
            <a:ext cx="969840" cy="968400"/>
            <a:chOff x="4027320" y="1752480"/>
            <a:chExt cx="969840" cy="968400"/>
          </a:xfrm>
        </p:grpSpPr>
        <p:sp>
          <p:nvSpPr>
            <p:cNvPr id="94" name=""/>
            <p:cNvSpPr/>
            <p:nvPr/>
          </p:nvSpPr>
          <p:spPr>
            <a:xfrm flipH="1">
              <a:off x="4271400" y="1752480"/>
              <a:ext cx="725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&gt; </a:t>
              </a: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027320" y="2251080"/>
              <a:ext cx="462240" cy="46980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677760" y="2038320"/>
            <a:ext cx="1581480" cy="1554120"/>
            <a:chOff x="3677760" y="2038320"/>
            <a:chExt cx="1581480" cy="1554120"/>
          </a:xfrm>
        </p:grpSpPr>
        <p:sp>
          <p:nvSpPr>
            <p:cNvPr id="97" name=""/>
            <p:cNvSpPr/>
            <p:nvPr/>
          </p:nvSpPr>
          <p:spPr>
            <a:xfrm flipH="1">
              <a:off x="3956040" y="2038320"/>
              <a:ext cx="1303200" cy="128268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677400" y="3048120"/>
              <a:ext cx="554040" cy="544320"/>
            </a:xfrm>
            <a:prstGeom prst="ellipse">
              <a:avLst/>
            </a:prstGeom>
            <a:solidFill>
              <a:srgbClr val="c8fec8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e9b0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054760" y="1765440"/>
            <a:ext cx="554040" cy="544320"/>
          </a:xfrm>
          <a:prstGeom prst="ellipse">
            <a:avLst/>
          </a:prstGeom>
          <a:solidFill>
            <a:srgbClr val="c8fec8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1T19:20:52Z</dcterms:created>
  <dc:creator>MicroSoft Office</dc:creator>
  <dc:description/>
  <dc:language>en-US</dc:language>
  <cp:lastModifiedBy>Tal</cp:lastModifiedBy>
  <dcterms:modified xsi:type="dcterms:W3CDTF">2004-07-24T16:17:44Z</dcterms:modified>
  <cp:revision>9</cp:revision>
  <dc:subject/>
  <dc:title>שקופית 1</dc:title>
</cp:coreProperties>
</file>