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dfca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00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25560">
            <a:solidFill>
              <a:srgbClr val="d98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8640" y="6407280"/>
            <a:ext cx="8302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cf4ea"/>
                </a:solidFill>
                <a:latin typeface="Arial"/>
                <a:cs typeface="David"/>
              </a:rPr>
              <a:t>מצגות בעיצוב תכנה - המרכז להוראת המדעים, האונ’ העברית בי-ם - תשנ”ז         שקף מס' </a:t>
            </a:r>
            <a:fld id="{B9BED34F-C942-4FD2-A194-B1D01CE2B474}" type="slidenum">
              <a:rPr b="0" lang="en-US" sz="1400" spc="-1" strike="noStrike">
                <a:solidFill>
                  <a:srgbClr val="8cf4ea"/>
                </a:solidFill>
                <a:latin typeface="Arial"/>
                <a:ea typeface="David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2280"/>
            <a:ext cx="18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עץ בינר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3400" y="533520"/>
            <a:ext cx="74772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dfca"/>
                </a:solidFill>
                <a:latin typeface="Arial"/>
                <a:cs typeface="David"/>
              </a:rPr>
              <a:t>סריקה בסדר תחילי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1512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67400" y="28195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38800" y="28195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05640" y="358128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05440" y="32004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05640" y="32004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520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569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8652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38800" y="37339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10200" y="37339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77040" y="44956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76840" y="41148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77040" y="41148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60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8652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38800" y="37339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0200" y="37339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77040" y="449568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76840" y="41148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477040" y="41148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691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75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805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8652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38800" y="37339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10200" y="37339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77040" y="44956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76840" y="41148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77040" y="41148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842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8652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238800" y="37339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010200" y="37339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77040" y="449568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876840" y="41148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477040" y="41148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927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98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1027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162840" y="26668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315120" y="34290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86520" y="34290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553000" y="4191120"/>
              <a:ext cx="2295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952800" y="380988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53000" y="3809880"/>
              <a:ext cx="2295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063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13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215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1272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8652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38800" y="37339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10200" y="37339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477040" y="44956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76840" y="41148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77040" y="41148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1512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67400" y="28195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28195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05640" y="358128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05440" y="32004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05640" y="32004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30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08652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0" y="37339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010200" y="37339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477040" y="449568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876840" y="41148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7040" y="41148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402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00ff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00ff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43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1453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8800" y="23623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391440" y="312408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162840" y="31240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29320" y="38862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029120" y="35053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629320" y="350532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488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53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555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590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22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1623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162840" y="26668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15120" y="34290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086520" y="34290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553000" y="4191120"/>
              <a:ext cx="2295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952800" y="380988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53000" y="3809880"/>
              <a:ext cx="2295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,C,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65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,C,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727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743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,C,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795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1844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08652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38800" y="37339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010200" y="37339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477040" y="44956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876840" y="41148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477040" y="41148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86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,C,F,H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881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e-IL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89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08652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38800" y="37339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010200" y="37339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477040" y="449568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3876840" y="41148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477040" y="41148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27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00ff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00ff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rot="20040000">
            <a:off x="101520" y="2997000"/>
            <a:ext cx="3683160" cy="71100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e9b03"/>
                </a:solidFill>
                <a:latin typeface="Arial"/>
                <a:cs typeface="David"/>
              </a:rPr>
              <a:t>העץ נסרק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,E,G,C,F,H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61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178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38800" y="23623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91440" y="312408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62840" y="31240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29320" y="38862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29120" y="35053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29320" y="350532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213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00ff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00ff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264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315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348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62840" y="26668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15120" y="34290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86520" y="34290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53000" y="4191120"/>
              <a:ext cx="2295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52800" y="380988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53000" y="3809880"/>
              <a:ext cx="2295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384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,B,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452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1512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67400" y="281952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38800" y="28195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05640" y="358128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05440" y="320040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05640" y="3200400"/>
              <a:ext cx="229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חי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238800" y="2362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391440" y="31240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62840" y="31240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29320" y="388620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29120" y="35053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29320" y="3505320"/>
            <a:ext cx="2295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62840" y="2666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15120" y="34290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86520" y="34290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3000" y="419112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0" y="380988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553000" y="3809880"/>
            <a:ext cx="229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חי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1T14:50:08Z</dcterms:created>
  <dc:creator>MicroSoft Office</dc:creator>
  <dc:description/>
  <dc:language>en-US</dc:language>
  <cp:lastModifiedBy>Tal</cp:lastModifiedBy>
  <dcterms:modified xsi:type="dcterms:W3CDTF">2004-07-24T16:12:15Z</dcterms:modified>
  <cp:revision>19</cp:revision>
  <dc:subject/>
  <dc:title>שקופית 1</dc:title>
</cp:coreProperties>
</file>