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084-2AB9-40EC-B4A6-4B09B32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101-6877-4928-9B53-158447E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225-A027-4A6E-9F66-72322A8C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F6E-FA03-4B3B-B1B9-FC7CFEC4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71F-FA59-4923-BC22-B7C382C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E43-D778-4AA5-9513-AD7B251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711-F86C-4423-ACA3-2A923A7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C16-31E3-4766-B072-CAB6C5A6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49C-8AF3-44CE-B7CD-FAF51D49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A04-23B8-4E47-9C62-12DD0A4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E88-9CA0-46FC-BED5-806DF2DC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BD1-229F-47CB-8743-3C5DDEB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C7788426-6DE4-4F27-AFA9-E8679A979B4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76600" y="699480"/>
            <a:ext cx="38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תור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988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6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הכנס נתונים לתור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6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הוצא נתונים מתור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63640" y="4365720"/>
            <a:ext cx="6140520" cy="1110600"/>
            <a:chOff x="1763640" y="4365720"/>
            <a:chExt cx="6140520" cy="11106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763640" y="4914720"/>
              <a:ext cx="863640" cy="51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2698920" y="4365720"/>
              <a:ext cx="5205240" cy="1110600"/>
              <a:chOff x="2698920" y="4365720"/>
              <a:chExt cx="5205240" cy="1110600"/>
            </a:xfrm>
          </p:grpSpPr>
          <p:pic>
            <p:nvPicPr>
              <p:cNvPr id="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1080" y="436572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360" y="450972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8920" y="458136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7F0-91A8-4D9C-9415-F44AE5060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71640" y="981000"/>
            <a:ext cx="7200720" cy="5256360"/>
            <a:chOff x="971640" y="981000"/>
            <a:chExt cx="7200720" cy="5256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971640" y="981000"/>
              <a:ext cx="72007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614240" y="1317960"/>
              <a:ext cx="5915160" cy="45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6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כנס נתונים</a:t>
              </a:r>
              <a:r>
                <a:rPr b="1" i="1" lang="en-US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לתור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דרת ערכים, תור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כנסה לתור לפי הסדר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כנס-נתונים-לתור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Q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 הסדרה בצע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 next_element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780-ACE9-4153-838C-998C8C997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00000" y="692280"/>
            <a:ext cx="7704360" cy="5400720"/>
            <a:chOff x="900000" y="692280"/>
            <a:chExt cx="7704360" cy="54007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00000" y="692280"/>
              <a:ext cx="770436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587600" y="1038240"/>
              <a:ext cx="6328800" cy="47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6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וצא נתונים מתור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תור מאותחל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וצאת הערכים מהתור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וצא-נתונים-מתור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Q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תור-ריק?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תור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Q)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56A-E2F2-4DB3-A09B-C2A264F1EA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averbuch haim</dc:creator>
  <dc:description/>
  <dc:language>en-US</dc:language>
  <cp:lastModifiedBy>Tal</cp:lastModifiedBy>
  <dcterms:modified xsi:type="dcterms:W3CDTF">2004-07-21T17:31:09Z</dcterms:modified>
  <cp:revision>53</cp:revision>
  <dc:subject/>
  <dc:title>תבניות בעיצוב תכנה</dc:title>
</cp:coreProperties>
</file>