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193-0460-4C45-AEAF-CE057AF7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C59-CE06-46EC-AA55-4E9B4AB6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A3E-DBA6-48BC-8D0E-4189E8F8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392-BC40-47B0-881C-5A8F471A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127-FD85-4462-A066-CEE37884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5A9-B0C3-47CE-BA38-3D3DF258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751-3648-4B0B-A61D-5E18CFE3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8AE-BF55-4928-87EF-3C903E61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E8C-334A-4844-B684-57EA8B0C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4F1-0A4B-4AB4-8523-EE52A14F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B18-720C-4480-988E-31ED816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F8E-76F2-46EB-9D2C-EEECAF1D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בניות בעיצוב תכנה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4680" y="645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קבוצת מדעי המחשב – אוניברסיטת תל-אביב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960" y="6451560"/>
            <a:ext cx="18320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קופית מספר: </a:t>
            </a:r>
            <a:fld id="{5934482E-E5B9-4000-9EA0-ED14E8E1442B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11280" y="70920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00"/>
                </a:solidFill>
                <a:latin typeface="Times New Roman"/>
                <a:cs typeface="David Transparent"/>
              </a:rPr>
              <a:t>מחלקת מחסנית</a:t>
            </a:r>
            <a:r>
              <a:rPr b="0" lang="he-IL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2071080"/>
            <a:ext cx="640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1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כנס נתונים למחסנית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2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cs typeface="David"/>
              </a:rPr>
              <a:t>העבר למחסנית שנייה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3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</a:t>
            </a:r>
            <a:r>
              <a:rPr b="0" lang="he-IL" sz="4000" spc="-1" strike="noStrike">
                <a:solidFill>
                  <a:srgbClr val="000000"/>
                </a:solidFill>
                <a:latin typeface="Times New Roman (Hebrew)"/>
                <a:cs typeface="David"/>
              </a:rPr>
              <a:t>הוצא נתונים ממחסנית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4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הכנס למקום נבחר במחסנית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5.5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 - איסוף בקיזוז 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26920" y="1125360"/>
            <a:ext cx="921240" cy="2757960"/>
            <a:chOff x="826920" y="1125360"/>
            <a:chExt cx="921240" cy="2757960"/>
          </a:xfrm>
        </p:grpSpPr>
        <p:sp>
          <p:nvSpPr>
            <p:cNvPr id="45" name=""/>
            <p:cNvSpPr/>
            <p:nvPr/>
          </p:nvSpPr>
          <p:spPr>
            <a:xfrm>
              <a:off x="826920" y="1125360"/>
              <a:ext cx="360" cy="27576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26920" y="388296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47800" y="1125360"/>
              <a:ext cx="360" cy="27576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6920" y="342360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6920" y="284868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6920" y="169956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6920" y="2274120"/>
              <a:ext cx="920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3CD-03C1-4CED-A479-9943C8A00D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68360" y="549360"/>
            <a:ext cx="8351640" cy="5472000"/>
            <a:chOff x="468360" y="549360"/>
            <a:chExt cx="8351640" cy="54720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468360" y="549360"/>
              <a:ext cx="835164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213920" y="900000"/>
              <a:ext cx="6860520" cy="47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5.1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–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cs typeface="David Transparent"/>
                </a:rPr>
                <a:t>הכנס נתונים</a:t>
              </a:r>
              <a:r>
                <a:rPr b="1" i="1" lang="he-IL" sz="36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ל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cs typeface="David Transparent"/>
                </a:rPr>
                <a:t>מחסנית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וצ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מחסנית מאותחלת, סדרת ערכים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הכנסת הערכים למחסנית, לפי סדר הגעתם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כנס-נתונים-למחסנית 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יבר ראשון בסדר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סוף הסדרה בצע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דחוף-למחסנית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S,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איבר הבא בסדרה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החזר את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000-4D42-486A-9BAE-9318320DBF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68360" y="620640"/>
            <a:ext cx="8351640" cy="5688000"/>
            <a:chOff x="468360" y="620640"/>
            <a:chExt cx="8351640" cy="56880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468360" y="620640"/>
              <a:ext cx="8351640" cy="56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13920" y="984960"/>
              <a:ext cx="6860520" cy="49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5.2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– העבר למחסנית שניה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 מוצא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שתי מחסניות מאותחלות,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ו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2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העברת הנתונים מהמחסנית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למחסנית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2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 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עבר-למחסנית-שניה 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(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1, S2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מחסנית-ריקה?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S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בצע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דחוף-למחסנית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(</a:t>
              </a: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שלוף-ממחסנית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1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,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S2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177-DE65-4663-88A1-E15129A8F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50920" y="620640"/>
            <a:ext cx="8569080" cy="5545080"/>
            <a:chOff x="250920" y="620640"/>
            <a:chExt cx="8569080" cy="55450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50920" y="620640"/>
              <a:ext cx="856908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15920" y="975960"/>
              <a:ext cx="7039080" cy="48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5.3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– הוצא נתונים ממחסנית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נקודת מוצא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חסנית לא ריקה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טרה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הוצאת הערכים מהמחסנית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אלגוריתם:    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cs typeface="Times New Roman"/>
                </a:rPr>
                <a:t>הוצא-נתונים-ממחסנית</a:t>
              </a:r>
              <a:r>
                <a:rPr b="1" lang="he-I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S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)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Davi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1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כל עוד לא</a:t>
              </a:r>
              <a:r>
                <a:rPr b="1" lang="he-IL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מחסנית-ריקה?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)</a:t>
              </a:r>
              <a:r>
                <a:rPr b="0" lang="he-IL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בצע </a:t>
              </a:r>
              <a:endParaRPr b="0" lang="en-US" sz="21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	</a:t>
              </a:r>
              <a:r>
                <a:rPr b="1" lang="he-IL" sz="2100" spc="-1" strike="noStrike">
                  <a:solidFill>
                    <a:srgbClr val="000000"/>
                  </a:solidFill>
                  <a:latin typeface="Times New Roman"/>
                  <a:cs typeface="Guttman Yad"/>
                </a:rPr>
                <a:t>שלוף-ממחסנית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el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(S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just" rtl="1"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1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158-30AF-4123-8C8A-68107EFF4F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395280" y="476280"/>
            <a:ext cx="8497800" cy="5761080"/>
            <a:chOff x="395280" y="476280"/>
            <a:chExt cx="8497800" cy="576108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395280" y="476280"/>
              <a:ext cx="8497800" cy="57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153800" y="845280"/>
              <a:ext cx="6980400" cy="50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5.4</a:t>
              </a:r>
              <a:r>
                <a:rPr b="1" i="1" lang="he-IL" sz="32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 </a:t>
              </a:r>
              <a:r>
                <a:rPr b="1" i="1" lang="he-IL" sz="4000" spc="-1" strike="noStrike">
                  <a:solidFill>
                    <a:srgbClr val="008080"/>
                  </a:solidFill>
                  <a:latin typeface="Times New Roman"/>
                  <a:ea typeface="David Transparent"/>
                </a:rPr>
                <a:t>– הכנס למקום נבחר במחסנית</a:t>
              </a:r>
              <a:endParaRPr b="0" lang="en-US" sz="4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lvl="1" marL="45720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נקודת מוצא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מחסנית מאותחלת, איבר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x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.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מטרה: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 (Hebrew)"/>
                  <a:ea typeface="Arial"/>
                </a:rPr>
                <a:t> </a:t>
              </a:r>
              <a:r>
                <a:rPr b="0" lang="he-IL" sz="20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הכנסת נתון למקומו המתאים המחסנית.</a:t>
              </a:r>
              <a:endParaRPr b="0" lang="en-US" sz="20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Times New Roman (Hebrew)"/>
                  <a:cs typeface="Arial"/>
                </a:rPr>
                <a:t>אלגוריתם: </a:t>
              </a:r>
              <a:r>
                <a:rPr b="1" lang="he-IL" sz="2400" spc="-1" strike="noStrike" u="sng">
                  <a:solidFill>
                    <a:srgbClr val="000000"/>
                  </a:solidFill>
                  <a:uFillTx/>
                  <a:latin typeface="Times New Roman (Hebrew)"/>
                  <a:cs typeface="Arial"/>
                </a:rPr>
                <a:t>הכנס-למקום-נבחר-במחסנית 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 (Hebrew)"/>
                  <a:ea typeface="Arial"/>
                </a:rPr>
                <a:t>(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 (Hebrew)"/>
                  <a:ea typeface="Arial"/>
                </a:rPr>
                <a:t>S, x</a:t>
              </a:r>
              <a:r>
                <a:rPr b="0" lang="he-IL" sz="2400" spc="-1" strike="noStrike" u="sng">
                  <a:solidFill>
                    <a:srgbClr val="000000"/>
                  </a:solidFill>
                  <a:uFillTx/>
                  <a:latin typeface="Times New Roman (Hebrew)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אתחל-מחסנית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_help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כל עוד לא 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מחסנית-ריקה?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 וגם 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הצץ-למחסנית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 &gt;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x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בצע 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	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	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דחוף-למחסנית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(</a:t>
              </a: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שלוף-ממחסנית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_ help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דחוף-למחסנית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x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,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	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	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 (Hebrew)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 (Hebrew)"/>
                  <a:cs typeface="Guttman Yad"/>
                </a:rPr>
                <a:t>העבר-למחסנית-שניה 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S_help, S</a:t>
              </a:r>
              <a:r>
                <a:rPr b="0" lang="he-IL" sz="1800" spc="-1" strike="noStrike">
                  <a:solidFill>
                    <a:srgbClr val="000000"/>
                  </a:solidFill>
                  <a:latin typeface="Times New Roman (Hebrew)"/>
                  <a:ea typeface="Guttman Ya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(Hebrew)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Guttman Yad"/>
                </a:rPr>
                <a:t>   </a:t>
              </a:r>
              <a:endParaRPr b="0" lang="en-US" sz="21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680-95D5-4F16-AD29-5AB49EBBB6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723924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981000"/>
            <a:ext cx="7056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ea typeface="David Transparent"/>
              </a:rPr>
              <a:t>5.5</a:t>
            </a:r>
            <a:r>
              <a:rPr b="1" lang="he-IL" sz="4000" spc="-1" strike="noStrike">
                <a:solidFill>
                  <a:srgbClr val="008080"/>
                </a:solidFill>
                <a:latin typeface="Times New Roman"/>
                <a:ea typeface="Guttman Adii"/>
              </a:rPr>
              <a:t> - 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cs typeface="David Transparent"/>
              </a:rPr>
              <a:t>איסוף</a:t>
            </a:r>
            <a:r>
              <a:rPr b="1" lang="he-IL" sz="4000" spc="-1" strike="noStrike">
                <a:solidFill>
                  <a:srgbClr val="008080"/>
                </a:solidFill>
                <a:latin typeface="Times New Roman"/>
                <a:ea typeface="Guttman Adii"/>
              </a:rPr>
              <a:t> 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cs typeface="David Transparent"/>
              </a:rPr>
              <a:t>בקיזוז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נקודת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וצא:</a:t>
            </a:r>
            <a:r>
              <a:rPr b="0" lang="he-IL" sz="1600" spc="-1" strike="noStrike">
                <a:solidFill>
                  <a:srgbClr val="000000"/>
                </a:solidFill>
                <a:latin typeface="Times New Roman"/>
                <a:ea typeface="Guttman Adii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סדרה של מספרים.  תנאי נתון.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טרה: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אזן המספרים בסדרה, בהתאם לתנאי.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לגוריתם: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imes New Roman (Hebrew)"/>
                <a:cs typeface="Arial"/>
              </a:rPr>
              <a:t>איסוף בקיזוז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 (Hebrew)"/>
                <a:cs typeface="Guttman Yad"/>
              </a:rPr>
              <a:t>אתחל-מחסנית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  <a:ea typeface="Guttman Ya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36F-B081-4056-A011-7EE0F4ED0C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7239240" cy="5410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981000"/>
            <a:ext cx="7056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ea typeface="David Transparent"/>
              </a:rPr>
              <a:t>5.5</a:t>
            </a:r>
            <a:r>
              <a:rPr b="1" lang="he-IL" sz="4000" spc="-1" strike="noStrike">
                <a:solidFill>
                  <a:srgbClr val="008080"/>
                </a:solidFill>
                <a:latin typeface="Times New Roman"/>
                <a:ea typeface="Guttman Adii"/>
              </a:rPr>
              <a:t> - 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cs typeface="David Transparent"/>
              </a:rPr>
              <a:t>איסוף</a:t>
            </a:r>
            <a:r>
              <a:rPr b="1" lang="he-IL" sz="4000" spc="-1" strike="noStrike">
                <a:solidFill>
                  <a:srgbClr val="008080"/>
                </a:solidFill>
                <a:latin typeface="Times New Roman"/>
                <a:ea typeface="Guttman Adii"/>
              </a:rPr>
              <a:t> </a:t>
            </a:r>
            <a:r>
              <a:rPr b="1" i="1" lang="he-IL" sz="4000" spc="-1" strike="noStrike">
                <a:solidFill>
                  <a:srgbClr val="008080"/>
                </a:solidFill>
                <a:latin typeface="Times New Roman"/>
                <a:cs typeface="David Transparent"/>
              </a:rPr>
              <a:t>בקיזוז</a:t>
            </a:r>
            <a:endParaRPr b="0" lang="en-US" sz="4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כל עוד לא סוף סדרת הקלט בצע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יבר הבא בסדרה </a:t>
            </a:r>
            <a:r>
              <a:rPr b="0" lang="he-IL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(Hebrew)"/>
              </a:rPr>
              <a:t>next_element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next_element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מקיים תנאי  אזי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דחוף-למחסני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S, next_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חרת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 (Hebrew)"/>
                <a:ea typeface="Arial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ם מחסנית_ריקה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)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, אזי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החזר 'שקר'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חרת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שלוף_ממחסני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tem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(S)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א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temp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אינו מקיים תנאי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2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 אזי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Guttman Yad"/>
              </a:rPr>
              <a:t>	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החזר 'שקר'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lvl="1" marL="457200"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Guttman Yad"/>
              </a:rPr>
              <a:t>החזר 'אמת'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117-2DB5-404B-9DB9-8C88508DE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9:16:12Z</dcterms:created>
  <dc:creator>hila</dc:creator>
  <dc:description/>
  <dc:language>en-US</dc:language>
  <cp:lastModifiedBy>Tal</cp:lastModifiedBy>
  <dcterms:modified xsi:type="dcterms:W3CDTF">2004-07-21T10:25:33Z</dcterms:modified>
  <cp:revision>56</cp:revision>
  <dc:subject/>
  <dc:title>תבניות בעיצוב תכנה</dc:title>
</cp:coreProperties>
</file>