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9925-D9CE-407E-AB07-2A64FC164BF2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A78E-916B-43C0-83B7-82B8B3E69E1A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F2DF-5EC8-430D-B3A2-1D57AB488C9B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6DDE-3E97-448D-9CAE-3A6DC22BBAC1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3E2-C165-4908-882E-8C52CD03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840-B261-46C9-A4E9-B6534320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7BCF-760D-4534-B39D-4D3D9A1E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4AF-4E9D-4D64-A107-26A80FE3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E916-BA96-4A29-AA22-47A269B0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CB6-28D4-4521-B91E-D2E349E1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1DF-D7C4-4022-A06D-1283DB8A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BC0-FEA1-4A4B-8830-536FFF4D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4FE6-E1AA-4B03-9EF5-1F81A6A3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8D0D-16A7-437D-BDEF-54948621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3B7C-6C2C-4637-9E8B-0804DB20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7C72-6F23-4FA7-863B-1BA9709A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r>
              <a: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תבניות בעיצוב תכנ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4680" y="6459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קבוצת מדעי המחשב – אוניברסיטת תל-אבי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2960" y="6451560"/>
            <a:ext cx="18320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קופית מספר: </a:t>
            </a:r>
            <a:fld id="{827EEB3B-1CCE-402D-BBD9-738E186243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7621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600" spc="-1" strike="noStrike">
                <a:solidFill>
                  <a:srgbClr val="ff3300"/>
                </a:solidFill>
                <a:latin typeface="Arial"/>
                <a:cs typeface="David"/>
              </a:rPr>
              <a:t>עץ בינארי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Arial"/>
                <a:cs typeface="David"/>
              </a:rPr>
              <a:t>מה מותר ומה אסו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המצגת מכילה שני תרחישי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ובסופה תרגיל מסכ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243828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DA5-408F-4426-A024-0E9BF74DA10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45720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 u="sng">
                <a:solidFill>
                  <a:srgbClr val="000000"/>
                </a:solidFill>
                <a:uFillTx/>
                <a:latin typeface="Arial"/>
                <a:cs typeface="David"/>
              </a:rPr>
              <a:t>תרחיש א' (אלגוריתם שגוי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3520" y="2438280"/>
            <a:ext cx="2971800" cy="1968480"/>
            <a:chOff x="533520" y="2438280"/>
            <a:chExt cx="2971800" cy="1968480"/>
          </a:xfrm>
        </p:grpSpPr>
        <p:sp>
          <p:nvSpPr>
            <p:cNvPr id="54" name=""/>
            <p:cNvSpPr/>
            <p:nvPr/>
          </p:nvSpPr>
          <p:spPr>
            <a:xfrm>
              <a:off x="533520" y="2438280"/>
              <a:ext cx="2971800" cy="19684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9640" y="2625120"/>
              <a:ext cx="2598840" cy="159444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יתכן ש-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T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הינו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עץ ריק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362320"/>
            <a:ext cx="3886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cs typeface="Arial"/>
              </a:rPr>
              <a:t>אם עלה?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 ...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886200"/>
            <a:ext cx="4876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cs typeface="Arial"/>
              </a:rPr>
              <a:t>תיקון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cs typeface="Arial"/>
              </a:rPr>
              <a:t>אם לא עץ-ריק?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) אז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cs typeface="Arial"/>
              </a:rPr>
              <a:t>אם עלה?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...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0C3D-DD71-4161-B798-03EE231ACC54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 u="sng">
                <a:solidFill>
                  <a:srgbClr val="000000"/>
                </a:solidFill>
                <a:uFillTx/>
                <a:latin typeface="Arial"/>
                <a:cs typeface="David"/>
              </a:rPr>
              <a:t>תרחיש ב' (אלגוריתם שגוי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57200" y="3276720"/>
            <a:ext cx="3276720" cy="1968480"/>
            <a:chOff x="457200" y="3276720"/>
            <a:chExt cx="3276720" cy="1968480"/>
          </a:xfrm>
        </p:grpSpPr>
        <p:sp>
          <p:nvSpPr>
            <p:cNvPr id="61" name=""/>
            <p:cNvSpPr/>
            <p:nvPr/>
          </p:nvSpPr>
          <p:spPr>
            <a:xfrm>
              <a:off x="457200" y="3276720"/>
              <a:ext cx="3276720" cy="19684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2400" y="3463560"/>
              <a:ext cx="2865600" cy="159444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עדיין יתכן שהב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שמאלי הינו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עץ ריק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160020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cs typeface="Arial"/>
              </a:rPr>
              <a:t>אם לא עץ-ריק? (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T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) אז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   אחזר-שורש(תת-עץ-שמאלי(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T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)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79920" y="4416480"/>
            <a:ext cx="7014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תיקו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cs typeface="Arial"/>
              </a:rPr>
              <a:t>אם לא עץ-ריק?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אז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cs typeface="Arial"/>
              </a:rPr>
              <a:t>אם לא עץ-ריק?(תת-עץ-שמאלי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) אז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cs typeface="Arial"/>
              </a:rPr>
              <a:t>אחזר-שורש(תת-עץ-שמאלי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EC66-DF24-49DC-AEC4-FF15932DCC2E}" type="slidenum">
              <a:t>3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3T08:10:50Z</dcterms:created>
  <dc:creator>חיים אברבוך</dc:creator>
  <dc:description/>
  <dc:language>en-US</dc:language>
  <cp:lastModifiedBy>Adi</cp:lastModifiedBy>
  <dcterms:modified xsi:type="dcterms:W3CDTF">2004-07-20T15:19:57Z</dcterms:modified>
  <cp:revision>68</cp:revision>
  <dc:subject/>
  <dc:title>עולמנו המופלא</dc:title>
</cp:coreProperties>
</file>