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D1D4-D648-4904-858C-F502A8F01777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ECEB-C2F6-4358-BA6B-6564A1735517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5FD0-4663-49E1-88F3-3701F8BE5CC2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CBE9-8A93-41BA-B63C-94F9919912B4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046F-B2A3-48B6-AF68-F99C39F7CD48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5FAE-A130-498C-B14E-1FD0787DD407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A73A-8DA0-4D33-8233-21E6CB65B423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453-059F-4074-B2C8-54526D77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3D17-95CF-4147-9986-A0E11A23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41B-4BFE-4852-891A-A36A1F47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5E6-11EE-4FCC-ABC2-405F63AA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F38-A0DE-4B6B-8677-BBCBF95E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B9E-656E-471C-8780-92BE5003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2FA-3C45-4324-840F-4E0CB00F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F32-9A7E-4AFE-B518-5DF64E04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93E-1CF8-402A-84CC-2C4EC8B0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F95-A0D7-4C50-8B6B-94F9DF2B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BD8-7E85-4E93-A9A6-9E625710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E4E-885E-4D2B-AD56-50FA0D72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7847A4CF-5FB9-4267-A61E-46A4900A2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3352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 u="sng">
                <a:solidFill>
                  <a:srgbClr val="ff3300"/>
                </a:solidFill>
                <a:uFillTx/>
                <a:latin typeface="Arial"/>
                <a:cs typeface="David"/>
              </a:rPr>
              <a:t>פעולות ממשק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David"/>
              </a:rPr>
              <a:t> (חלקיות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24382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5029200" y="16765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  <a:hlinkClick r:id="rId2" action="ppaction://hlinksldjump"/>
              </a:rPr>
              <a:t>אתחל-ע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4591800" y="2398680"/>
            <a:ext cx="38656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  <a:hlinkClick r:id="rId4" action="ppaction://hlinksldjump"/>
              </a:rPr>
              <a:t>עץ-ריק?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5" action="ppaction://hlinksldjump"/>
              </a:rPr>
              <a:t>(T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26640" y="4267080"/>
            <a:ext cx="4806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  <a:hlinkClick r:id="rId6" action="ppaction://hlinksldjump"/>
              </a:rPr>
              <a:t>תת-עץ-ימני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7" action="ppaction://hlinksldjump"/>
              </a:rPr>
              <a:t>(T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2733120" y="3352680"/>
            <a:ext cx="58118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  <a:hlinkClick r:id="rId9" action="ppaction://hlinksldjump"/>
              </a:rPr>
              <a:t>תת-עץ-שמאלי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10" action="ppaction://hlinksldjump"/>
              </a:rPr>
              <a:t>(T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47800" y="5257800"/>
            <a:ext cx="49219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  <a:hlinkClick r:id="rId11" action="ppaction://hlinksldjump"/>
              </a:rPr>
              <a:t>אחזר-שורש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  <a:hlinkClick r:id="rId12" action="ppaction://hlinksldjump"/>
              </a:rPr>
              <a:t>(T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F64-02B3-47E9-AC5E-8DB75D6A64F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45720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Arial"/>
                <a:cs typeface="David"/>
              </a:rPr>
              <a:t>אתחל-ע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2070000"/>
            <a:ext cx="3644640" cy="2806560"/>
            <a:chOff x="609480" y="2070000"/>
            <a:chExt cx="3644640" cy="2806560"/>
          </a:xfrm>
        </p:grpSpPr>
        <p:sp>
          <p:nvSpPr>
            <p:cNvPr id="61" name=""/>
            <p:cNvSpPr/>
            <p:nvPr/>
          </p:nvSpPr>
          <p:spPr>
            <a:xfrm>
              <a:off x="609480" y="207000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8080" y="233676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מוחזר עץ רי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743200"/>
            <a:ext cx="99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4419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954760" y="4343040"/>
            <a:ext cx="712800" cy="609840"/>
            <a:chOff x="5954760" y="4343040"/>
            <a:chExt cx="712800" cy="609840"/>
          </a:xfrm>
        </p:grpSpPr>
        <p:sp>
          <p:nvSpPr>
            <p:cNvPr id="67" name=""/>
            <p:cNvSpPr/>
            <p:nvPr/>
          </p:nvSpPr>
          <p:spPr>
            <a:xfrm>
              <a:off x="5954760" y="4952880"/>
              <a:ext cx="7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324480" y="43430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632-0C50-4339-AA42-52DC4975680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80880"/>
            <a:ext cx="373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עץ-ריק? (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David"/>
              </a:rPr>
              <a:t>T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1600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מצ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26208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ערך מוחז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688000" y="1676160"/>
            <a:ext cx="712800" cy="609840"/>
            <a:chOff x="5688000" y="1676160"/>
            <a:chExt cx="712800" cy="609840"/>
          </a:xfrm>
        </p:grpSpPr>
        <p:sp>
          <p:nvSpPr>
            <p:cNvPr id="74" name=""/>
            <p:cNvSpPr/>
            <p:nvPr/>
          </p:nvSpPr>
          <p:spPr>
            <a:xfrm>
              <a:off x="5688000" y="2286000"/>
              <a:ext cx="7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057720" y="16761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257800" y="2590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מ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3611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מצ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5715000"/>
            <a:ext cx="21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ערך מוחז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8320" y="3772080"/>
            <a:ext cx="3233520" cy="1662480"/>
            <a:chOff x="4648320" y="3772080"/>
            <a:chExt cx="3233520" cy="1662480"/>
          </a:xfrm>
        </p:grpSpPr>
        <p:sp>
          <p:nvSpPr>
            <p:cNvPr id="80" name=""/>
            <p:cNvSpPr/>
            <p:nvPr/>
          </p:nvSpPr>
          <p:spPr>
            <a:xfrm>
              <a:off x="5867280" y="3772080"/>
              <a:ext cx="68544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8320" y="4686480"/>
              <a:ext cx="68544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238720" y="4362480"/>
              <a:ext cx="685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6537960" y="4313520"/>
              <a:ext cx="1343880" cy="1121040"/>
              <a:chOff x="6537960" y="4313520"/>
              <a:chExt cx="1343880" cy="1121040"/>
            </a:xfrm>
          </p:grpSpPr>
          <p:sp>
            <p:nvSpPr>
              <p:cNvPr id="84" name=""/>
              <p:cNvSpPr/>
              <p:nvPr/>
            </p:nvSpPr>
            <p:spPr>
              <a:xfrm rot="15158400">
                <a:off x="7109280" y="4662000"/>
                <a:ext cx="685800" cy="6854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37960" y="4313520"/>
                <a:ext cx="640800" cy="51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5105520" y="5745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שק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69800" y="1917720"/>
            <a:ext cx="3644640" cy="2806560"/>
            <a:chOff x="469800" y="1917720"/>
            <a:chExt cx="3644640" cy="2806560"/>
          </a:xfrm>
        </p:grpSpPr>
        <p:sp>
          <p:nvSpPr>
            <p:cNvPr id="88" name=""/>
            <p:cNvSpPr/>
            <p:nvPr/>
          </p:nvSpPr>
          <p:spPr>
            <a:xfrm>
              <a:off x="469800" y="191772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8400" y="218448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נחה: העץ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T</a:t>
              </a: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מאותח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1AE-2C7A-4B19-B783-F775D601DF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5335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תת-עץ-שמאלי</a:t>
            </a:r>
            <a:r>
              <a:rPr b="1" lang="en-US" sz="60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(T) 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3520" y="2362320"/>
            <a:ext cx="3644640" cy="2806560"/>
            <a:chOff x="533520" y="2362320"/>
            <a:chExt cx="3644640" cy="2806560"/>
          </a:xfrm>
        </p:grpSpPr>
        <p:sp>
          <p:nvSpPr>
            <p:cNvPr id="93" name=""/>
            <p:cNvSpPr/>
            <p:nvPr/>
          </p:nvSpPr>
          <p:spPr>
            <a:xfrm>
              <a:off x="533520" y="236232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262908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עברנו לבן שמאל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2743200"/>
            <a:ext cx="99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43800" y="4419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514600"/>
            <a:ext cx="685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429000"/>
            <a:ext cx="685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7621400">
            <a:off x="6096600" y="1827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466960" y="31050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4419720"/>
            <a:ext cx="685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5334120"/>
            <a:ext cx="685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466960" y="5010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7621400">
            <a:off x="4896360" y="457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766920" y="3056760"/>
            <a:ext cx="1343880" cy="1121040"/>
            <a:chOff x="6766920" y="3056760"/>
            <a:chExt cx="1343880" cy="1121040"/>
          </a:xfrm>
        </p:grpSpPr>
        <p:sp>
          <p:nvSpPr>
            <p:cNvPr id="107" name=""/>
            <p:cNvSpPr/>
            <p:nvPr/>
          </p:nvSpPr>
          <p:spPr>
            <a:xfrm rot="15158400">
              <a:off x="7338240" y="3405240"/>
              <a:ext cx="685800" cy="685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66920" y="3056760"/>
              <a:ext cx="640800" cy="51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766920" y="4980240"/>
            <a:ext cx="1343880" cy="1121040"/>
            <a:chOff x="6766920" y="4980240"/>
            <a:chExt cx="1343880" cy="1121040"/>
          </a:xfrm>
        </p:grpSpPr>
        <p:sp>
          <p:nvSpPr>
            <p:cNvPr id="110" name=""/>
            <p:cNvSpPr/>
            <p:nvPr/>
          </p:nvSpPr>
          <p:spPr>
            <a:xfrm rot="15158400">
              <a:off x="7338240" y="5328720"/>
              <a:ext cx="685800" cy="685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66920" y="4980240"/>
              <a:ext cx="640800" cy="51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293-37DE-420C-93D8-E5CF3CB13EC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57200" y="2286000"/>
            <a:ext cx="3644640" cy="2806560"/>
            <a:chOff x="457200" y="2286000"/>
            <a:chExt cx="3644640" cy="2806560"/>
          </a:xfrm>
        </p:grpSpPr>
        <p:sp>
          <p:nvSpPr>
            <p:cNvPr id="114" name=""/>
            <p:cNvSpPr/>
            <p:nvPr/>
          </p:nvSpPr>
          <p:spPr>
            <a:xfrm>
              <a:off x="457200" y="228600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" y="255276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עברנו לבן ימנ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90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4419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2514600"/>
            <a:ext cx="685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3429000"/>
            <a:ext cx="685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7621400">
            <a:off x="6096600" y="1827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66960" y="31050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4419720"/>
            <a:ext cx="685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5334120"/>
            <a:ext cx="685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466960" y="5010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7621400">
            <a:off x="7620480" y="4799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66920" y="3056760"/>
            <a:ext cx="1343880" cy="1121040"/>
            <a:chOff x="6766920" y="3056760"/>
            <a:chExt cx="1343880" cy="1121040"/>
          </a:xfrm>
        </p:grpSpPr>
        <p:sp>
          <p:nvSpPr>
            <p:cNvPr id="128" name=""/>
            <p:cNvSpPr/>
            <p:nvPr/>
          </p:nvSpPr>
          <p:spPr>
            <a:xfrm rot="15158400">
              <a:off x="7338240" y="3405240"/>
              <a:ext cx="685800" cy="685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66920" y="3056760"/>
              <a:ext cx="640800" cy="51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766920" y="4980240"/>
            <a:ext cx="1343880" cy="1121040"/>
            <a:chOff x="6766920" y="4980240"/>
            <a:chExt cx="1343880" cy="1121040"/>
          </a:xfrm>
        </p:grpSpPr>
        <p:sp>
          <p:nvSpPr>
            <p:cNvPr id="131" name=""/>
            <p:cNvSpPr/>
            <p:nvPr/>
          </p:nvSpPr>
          <p:spPr>
            <a:xfrm rot="15158400">
              <a:off x="7338240" y="5328720"/>
              <a:ext cx="685800" cy="685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66920" y="4980240"/>
              <a:ext cx="640800" cy="51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447920" y="5335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תת-עץ-ימני</a:t>
            </a:r>
            <a:r>
              <a:rPr b="1" lang="en-US" sz="60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(T) 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8E0-B2C7-4A24-A22E-BC8BCF6079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אחזר-שורש</a:t>
            </a:r>
            <a:r>
              <a:rPr b="1" lang="en-US" sz="60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(T) 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" y="2057400"/>
            <a:ext cx="3644640" cy="2806560"/>
            <a:chOff x="457200" y="2057400"/>
            <a:chExt cx="3644640" cy="2806560"/>
          </a:xfrm>
        </p:grpSpPr>
        <p:sp>
          <p:nvSpPr>
            <p:cNvPr id="137" name=""/>
            <p:cNvSpPr/>
            <p:nvPr/>
          </p:nvSpPr>
          <p:spPr>
            <a:xfrm>
              <a:off x="457200" y="205740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5800" y="232416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לקחנו אינפורמצי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315200" y="243828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72000" y="2019240"/>
            <a:ext cx="2610000" cy="1847520"/>
            <a:chOff x="4572000" y="2019240"/>
            <a:chExt cx="2610000" cy="1847520"/>
          </a:xfrm>
        </p:grpSpPr>
        <p:sp>
          <p:nvSpPr>
            <p:cNvPr id="141" name=""/>
            <p:cNvSpPr/>
            <p:nvPr/>
          </p:nvSpPr>
          <p:spPr>
            <a:xfrm>
              <a:off x="5543640" y="201924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312408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029200" y="2576520"/>
              <a:ext cx="57168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172200" y="2590920"/>
              <a:ext cx="1009800" cy="1275840"/>
              <a:chOff x="6172200" y="2590920"/>
              <a:chExt cx="1009800" cy="1275840"/>
            </a:xfrm>
          </p:grpSpPr>
          <p:sp>
            <p:nvSpPr>
              <p:cNvPr id="145" name=""/>
              <p:cNvSpPr/>
              <p:nvPr/>
            </p:nvSpPr>
            <p:spPr>
              <a:xfrm rot="16200000">
                <a:off x="6496200" y="3180960"/>
                <a:ext cx="685800" cy="685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172200" y="2590920"/>
                <a:ext cx="45720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5638680" y="5257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: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7621400">
            <a:off x="5868000" y="1370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525-343C-4977-9196-98BE28FA7D0A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Tal</cp:lastModifiedBy>
  <dcterms:modified xsi:type="dcterms:W3CDTF">2004-07-22T11:24:57Z</dcterms:modified>
  <cp:revision>76</cp:revision>
  <dc:subject/>
  <dc:title>עולמנו המופלא</dc:title>
</cp:coreProperties>
</file>