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673C-2FC0-4BAC-80D2-4F776C54A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D929-EAD4-4213-AEC9-1CC908764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0331-F110-43E0-BFFD-A6285C93D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246F-C453-4E53-9F45-7E560A273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E319-720D-4C52-BA5E-FC4B1FE27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C8E5-08F7-469D-86F0-C063B4835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EECC-605E-46B1-A539-9E4272F68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2022-770E-45EA-BA0E-1166E9B74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65D7-E88D-4DE3-9296-8AFFE8B3A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0BA8-763C-41BA-B237-7DD0281A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E718-5D6D-43F5-8233-1DDC6032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0CD8-E190-4B8F-B7FC-5C1B6AAD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43860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r>
              <a:rPr b="0" lang="hi-IN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תבניות בעיצוב תכנ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74680" y="642096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קבוצת מדעי המחשב – אוניברסיטת תל-אבי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2960" y="6413400"/>
            <a:ext cx="183204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i-IN" sz="1400" spc="-1" strike="noStrike">
                <a:solidFill>
                  <a:srgbClr val="000000"/>
                </a:solidFill>
                <a:latin typeface="Times New Roman"/>
                <a:cs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שקופית מספר: </a:t>
            </a:r>
            <a:fld id="{F9F4E13A-AABE-45D4-A1A7-F8C2BA9BE1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NewZiland.wav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NewZiland.wav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41280" y="-30600"/>
            <a:ext cx="691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3300"/>
                </a:solidFill>
                <a:latin typeface="Times New Roman"/>
                <a:cs typeface="Times New Roman"/>
              </a:rPr>
              <a:t>טיפוס נתונים מופשט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36440"/>
            <a:ext cx="83311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rial"/>
              </a:rPr>
              <a:t>טיפוס נתונים מופשט הוא טיפוס נתונים כלשהו, אליו מוצמד אוסף של פעולות, אשר רק באמצעותן ניתן לפעול על משתנים מטיפוס זה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rial"/>
              </a:rPr>
              <a:t>אוסף פעולות זה מגדיר את הטיפוס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624852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E362-FD7F-4F8A-A47C-CCA6B320EEF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398840" y="2268360"/>
            <a:ext cx="663840" cy="663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55880" y="2219400"/>
            <a:ext cx="663480" cy="663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65560" y="3565440"/>
            <a:ext cx="665280" cy="663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05240" y="3565440"/>
            <a:ext cx="663480" cy="663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33760" y="2608200"/>
            <a:ext cx="1776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3168360" y="3895560"/>
            <a:ext cx="996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085920" y="2881440"/>
            <a:ext cx="1485720" cy="83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02120" y="1828800"/>
            <a:ext cx="664920" cy="663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590920" y="2216160"/>
            <a:ext cx="511200" cy="14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49760" y="2200320"/>
            <a:ext cx="757080" cy="14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895120" y="2438280"/>
            <a:ext cx="38124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4572000" y="28954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280280" y="3043080"/>
            <a:ext cx="663480" cy="663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047000" y="4340160"/>
            <a:ext cx="663480" cy="663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3102120" y="4089240"/>
            <a:ext cx="3944880" cy="58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4718160" y="2743200"/>
            <a:ext cx="1301760" cy="88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983200" y="2209680"/>
            <a:ext cx="663840" cy="663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624720" y="2600280"/>
            <a:ext cx="842760" cy="44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451640" y="3657600"/>
            <a:ext cx="92160" cy="71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45080" y="2828880"/>
            <a:ext cx="621000" cy="170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828800"/>
            <a:ext cx="663840" cy="663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55680" y="2200320"/>
            <a:ext cx="758880" cy="14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624852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6910-4461-4392-8F65-146AB4B4FBC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8600" y="624852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24720" y="1420920"/>
            <a:ext cx="771840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  <a:cs typeface="Arial"/>
              </a:rPr>
              <a:t>ייצוג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cs typeface="Arial"/>
              </a:rPr>
              <a:t>ייצוג מערכת הכבישים יתבצע באמצעו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cs typeface="Arial"/>
              </a:rPr>
              <a:t>מטריצה בוליאנית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– יש כביש בין שתי ערים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– אין כביש בין שתי ערים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600" spc="-1" strike="noStrike">
                <a:solidFill>
                  <a:srgbClr val="000000"/>
                </a:solidFill>
                <a:latin typeface="Arial"/>
                <a:cs typeface="Arial"/>
              </a:rPr>
              <a:t>אינדקס המטריצה יהיה כמספר הערים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12560" y="152280"/>
            <a:ext cx="192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 u="sng">
                <a:solidFill>
                  <a:srgbClr val="ff3300"/>
                </a:solidFill>
                <a:uFillTx/>
                <a:latin typeface="Arial"/>
                <a:cs typeface="Arial"/>
              </a:rPr>
              <a:t>פתרו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BA8E-E7E7-4C4F-8147-22A141F2014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28600" y="624852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-215280" y="1143000"/>
            <a:ext cx="9384120" cy="50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  <a:cs typeface="Arial"/>
              </a:rPr>
              <a:t>ממשק עברי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cs typeface="Arial"/>
              </a:rPr>
              <a:t>אתחל-מערך-כבישים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Arial"/>
              </a:rPr>
              <a:t>(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Arial"/>
              </a:rPr>
              <a:t>M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Arial"/>
              </a:rPr>
              <a:t>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– פעולה המאתחל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cs typeface="Arial"/>
              </a:rPr>
              <a:t>את מטריצת הכבישי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cs typeface="Arial"/>
              </a:rPr>
              <a:t>האם-קיים-כביש?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Arial"/>
              </a:rPr>
              <a:t>(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Arial"/>
              </a:rPr>
              <a:t>M, cityA, cityB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Arial"/>
              </a:rPr>
              <a:t>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– פעולה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cs typeface="Arial"/>
              </a:rPr>
              <a:t>המחזירה "אמת" אם קיים כביש בין עיר א' לעיר ב'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cs typeface="Arial"/>
              </a:rPr>
              <a:t>ו"שקר" אחרת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012560" y="152280"/>
            <a:ext cx="192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 u="sng">
                <a:solidFill>
                  <a:srgbClr val="ff3300"/>
                </a:solidFill>
                <a:uFillTx/>
                <a:latin typeface="Arial"/>
                <a:cs typeface="Arial"/>
              </a:rPr>
              <a:t>פתרו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2559-D4EE-4361-B774-FAB87ABD6BC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8600" y="624852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-487800" y="1143000"/>
            <a:ext cx="9932760" cy="50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  <a:cs typeface="Arial"/>
              </a:rPr>
              <a:t>ממשק עברי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cs typeface="Arial"/>
              </a:rPr>
              <a:t>הוסף-כביש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Arial"/>
              </a:rPr>
              <a:t>(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Arial"/>
              </a:rPr>
              <a:t>M, cityA, cityB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Arial"/>
              </a:rPr>
              <a:t>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– פעולה המוסיפ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cs typeface="Arial"/>
              </a:rPr>
              <a:t>כביש בין עיר א' לעיר ב'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cs typeface="Arial"/>
              </a:rPr>
              <a:t>הסר-כביש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Arial"/>
              </a:rPr>
              <a:t>(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Arial"/>
              </a:rPr>
              <a:t>M, cityA, cityB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Arial"/>
              </a:rPr>
              <a:t>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– פעולה  הסוגר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cs typeface="Arial"/>
              </a:rPr>
              <a:t>את הכביש בין עיר א' לעיר ב' (לרגל שיפוצים, למשל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012560" y="152280"/>
            <a:ext cx="192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 u="sng">
                <a:solidFill>
                  <a:srgbClr val="ff3300"/>
                </a:solidFill>
                <a:uFillTx/>
                <a:latin typeface="Arial"/>
                <a:cs typeface="Arial"/>
              </a:rPr>
              <a:t>פתרו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83BC-8A3C-4C48-B887-672671C9043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411280" y="-38520"/>
            <a:ext cx="424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3300"/>
                </a:solidFill>
                <a:latin typeface="Times New Roman"/>
                <a:cs typeface="Times New Roman"/>
              </a:rPr>
              <a:t>ממשק עברי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600" y="1828440"/>
            <a:ext cx="79549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 (Hebrew)"/>
                <a:cs typeface="Arial"/>
              </a:rPr>
              <a:t>ממשק עברי מכיל תיאור מפורט של אוסף הפעולות  הבסיסיות בעזרתן ניתן לבצע כל פעולה הקשורה לטיפוס הנתונים המופשט.</a:t>
            </a:r>
            <a:r>
              <a:rPr b="0" lang="en-US" sz="2800" spc="-1" strike="noStrike">
                <a:solidFill>
                  <a:srgbClr val="000000"/>
                </a:solidFill>
                <a:latin typeface="Times New Roman (Hebrew)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624852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4C1C-BA99-4342-80F0-302EDCF8D7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411280" y="-38520"/>
            <a:ext cx="424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3300"/>
                </a:solidFill>
                <a:latin typeface="Times New Roman"/>
                <a:cs typeface="Times New Roman"/>
              </a:rPr>
              <a:t>ממשק עברי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26960" y="2163600"/>
            <a:ext cx="81075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 (Hebrew)"/>
                <a:cs typeface="Arial"/>
              </a:rPr>
              <a:t>הממשק נבנה כטבלה כאשר בצד ימין ירשמו הפעולות והפרמטרים  ובצד שמאל תיאור הפעולה-טענת כניסה, טענת יציאה והנחות.</a:t>
            </a:r>
            <a:r>
              <a:rPr b="0" lang="en-US" sz="2800" spc="-1" strike="noStrike">
                <a:solidFill>
                  <a:srgbClr val="000000"/>
                </a:solidFill>
                <a:latin typeface="Times New Roman (Hebrew)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624852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2E85-73C9-4C03-9BB0-6AD6447EA2A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00000" y="60480"/>
            <a:ext cx="7559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600" spc="-1" strike="noStrike">
                <a:solidFill>
                  <a:srgbClr val="ff3300"/>
                </a:solidFill>
                <a:latin typeface="Times New Roman"/>
                <a:cs typeface="Times New Roman"/>
              </a:rPr>
              <a:t>דוגמה: קופסת תכשיטים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533520" y="3886200"/>
          <a:ext cx="7924680" cy="2057400"/>
        </p:xfrm>
        <a:graphic>
          <a:graphicData uri="http://schemas.openxmlformats.org/drawingml/2006/table">
            <a:tbl>
              <a:tblPr/>
              <a:tblGrid>
                <a:gridCol w="4267080"/>
                <a:gridCol w="3657600"/>
              </a:tblGrid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פעולה המחזירה קופסה מאותחלת וריקה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אתחל-קופסה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228600" y="624852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23880" y="1903320"/>
            <a:ext cx="310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  <a:ea typeface="Arial"/>
              </a:rPr>
              <a:t>     תכשיט = רשומ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  <a:ea typeface="Arial"/>
              </a:rPr>
              <a:t> צבע תכשי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  <a:ea typeface="Arial"/>
              </a:rPr>
              <a:t> סוג תכשי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8BCB-A02B-415E-A85C-FD60674D503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00000" y="608760"/>
            <a:ext cx="755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3300"/>
                </a:solidFill>
                <a:latin typeface="Times New Roman"/>
                <a:cs typeface="Times New Roman"/>
              </a:rPr>
              <a:t>קופסת תכשיטים (המשך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533520" y="1828800"/>
          <a:ext cx="7924680" cy="4273560"/>
        </p:xfrm>
        <a:graphic>
          <a:graphicData uri="http://schemas.openxmlformats.org/drawingml/2006/table">
            <a:tbl>
              <a:tblPr/>
              <a:tblGrid>
                <a:gridCol w="4419360"/>
                <a:gridCol w="3505320"/>
              </a:tblGrid>
              <a:tr h="263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פעולה המחזירה "אמת" אם הקופסה ריקה ו"שקר" אחרת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הנחה: הקופסה מאותחלת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32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קופסה-ריקה?</a:t>
                      </a:r>
                      <a:r>
                        <a:rPr b="0" lang="he-IL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br>
                        <a:rPr sz="3200"/>
                      </a:br>
                      <a:r>
                        <a:rPr b="0" lang="he-IL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r>
                        <a:rPr b="0" lang="he-IL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r>
                        <a:rPr b="0" lang="he-IL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0" i="1" lang="he-IL" sz="32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קופסה</a:t>
                      </a:r>
                      <a:r>
                        <a:rPr b="0" lang="he-IL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פעולה המחזירה "אמת" אם יש מקום לעוד תכשיט בקופסה ו"שקר" אחרת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הנחה: הקופסה מאותחלת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32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מקום -פנוי?</a:t>
                      </a:r>
                      <a:r>
                        <a:rPr b="0" lang="he-IL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br>
                        <a:rPr sz="3200"/>
                      </a:br>
                      <a:r>
                        <a:rPr b="0" lang="he-IL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r>
                        <a:rPr b="0" lang="he-IL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r>
                        <a:rPr b="0" lang="he-IL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0" i="1" lang="he-IL" sz="32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קופסה</a:t>
                      </a:r>
                      <a:r>
                        <a:rPr b="0" lang="he-IL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228600" y="624852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08D7-EB75-4A70-B934-A815FEDF6F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85800" y="1828800"/>
          <a:ext cx="7924680" cy="4114800"/>
        </p:xfrm>
        <a:graphic>
          <a:graphicData uri="http://schemas.openxmlformats.org/drawingml/2006/table">
            <a:tbl>
              <a:tblPr/>
              <a:tblGrid>
                <a:gridCol w="4419720"/>
                <a:gridCol w="3504960"/>
              </a:tblGrid>
              <a:tr h="253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32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פעולה המחזירה  את פרטי כל התכשיטים הנמצאים בקופסה. </a:t>
                      </a:r>
                      <a:br>
                        <a:rPr sz="3200"/>
                      </a:br>
                      <a:r>
                        <a:rPr b="0" lang="he-IL" sz="32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הנחה: הקופסה מאותחלת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תוכן-קופסה</a:t>
                      </a:r>
                      <a:r>
                        <a:rPr b="0" lang="he-I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br>
                        <a:rPr sz="2800"/>
                      </a:b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r>
                        <a:rPr b="0" lang="he-I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0" i="1" lang="he-IL" sz="28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קופסה</a:t>
                      </a:r>
                      <a:r>
                        <a:rPr b="0" lang="he-I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32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פעולה המחזירה אמת אם ה"תכשיט" נמצא בקופסא ושקר אחרת.</a:t>
                      </a:r>
                      <a:br>
                        <a:rPr sz="3200"/>
                      </a:br>
                      <a:r>
                        <a:rPr b="0" lang="he-IL" sz="32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הנחה: הקופסה מאותחלת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האם-קיים?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br>
                        <a:rPr sz="2800"/>
                      </a:br>
                      <a:r>
                        <a:rPr b="0" lang="he-I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r>
                        <a:rPr b="0" lang="he-I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0" i="1" lang="he-IL" sz="28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קופסה</a:t>
                      </a:r>
                      <a:r>
                        <a:rPr b="0" lang="he-I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</a:t>
                      </a:r>
                      <a:r>
                        <a:rPr b="0" i="1" lang="he-IL" sz="28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תכשיט</a:t>
                      </a:r>
                      <a:r>
                        <a:rPr b="0" lang="he-I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>
            <a:off x="900000" y="608760"/>
            <a:ext cx="755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3300"/>
                </a:solidFill>
                <a:latin typeface="Times New Roman"/>
                <a:cs typeface="Times New Roman"/>
              </a:rPr>
              <a:t>קופסת תכשיטים (המשך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624852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9929-1105-4BB8-A91F-1D7EF892AA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685800" y="1523880"/>
          <a:ext cx="7924680" cy="4761000"/>
        </p:xfrm>
        <a:graphic>
          <a:graphicData uri="http://schemas.openxmlformats.org/drawingml/2006/table">
            <a:tbl>
              <a:tblPr/>
              <a:tblGrid>
                <a:gridCol w="4495680"/>
                <a:gridCol w="3429000"/>
              </a:tblGrid>
              <a:tr h="204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32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פעולה המוסיפה את ה"תכשיט" לקופסה. </a:t>
                      </a:r>
                      <a:br>
                        <a:rPr sz="3200"/>
                      </a:br>
                      <a:r>
                        <a:rPr b="0" lang="he-IL" sz="32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הנחה: הקופסה מאותחלת ואינה מלאה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הכנס-לקופסה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br>
                        <a:rPr sz="2800"/>
                      </a:br>
                      <a:r>
                        <a:rPr b="0" lang="he-I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r>
                        <a:rPr b="0" lang="he-I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0" i="1" lang="he-IL" sz="28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קופסה</a:t>
                      </a:r>
                      <a:r>
                        <a:rPr b="0" lang="he-I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</a:t>
                      </a:r>
                      <a:r>
                        <a:rPr b="0" i="1" lang="he-IL" sz="28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תכשיט</a:t>
                      </a:r>
                      <a:r>
                        <a:rPr b="0" lang="he-I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פעולה המוציאה את ה"תכשיט" מהקופסה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הנחה: הקופסה מאותחלת ומכילה את ה"תכשיט"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הוצא-מקופסה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br>
                        <a:rPr sz="2800"/>
                      </a:b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r>
                        <a:rPr b="0" lang="he-I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0" i="1" lang="he-IL" sz="28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קופסה</a:t>
                      </a:r>
                      <a:r>
                        <a:rPr b="0" lang="he-I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</a:t>
                      </a:r>
                      <a:r>
                        <a:rPr b="0" i="1" lang="he-IL" sz="28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תכשיט</a:t>
                      </a:r>
                      <a:r>
                        <a:rPr b="0" lang="he-I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900000" y="608760"/>
            <a:ext cx="755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3300"/>
                </a:solidFill>
                <a:latin typeface="Times New Roman"/>
                <a:cs typeface="Times New Roman"/>
              </a:rPr>
              <a:t>קופסת תכשיטים (המשך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624852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D807-5D87-4857-977F-EC04DF62DE6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>
            <a:hlinkClick r:id="rId1"/>
          </p:cNvPr>
          <p:cNvSpPr/>
          <p:nvPr/>
        </p:nvSpPr>
        <p:spPr>
          <a:xfrm>
            <a:off x="5075280" y="4668840"/>
            <a:ext cx="1076400" cy="1141560"/>
          </a:xfrm>
          <a:custGeom>
            <a:avLst/>
            <a:gdLst/>
            <a:ahLst/>
            <a:rect l="l" t="t" r="r" b="b"/>
            <a:pathLst>
              <a:path w="678" h="719">
                <a:moveTo>
                  <a:pt x="400" y="10"/>
                </a:moveTo>
                <a:cubicBezTo>
                  <a:pt x="383" y="13"/>
                  <a:pt x="249" y="20"/>
                  <a:pt x="212" y="57"/>
                </a:cubicBezTo>
                <a:cubicBezTo>
                  <a:pt x="189" y="80"/>
                  <a:pt x="176" y="152"/>
                  <a:pt x="165" y="174"/>
                </a:cubicBezTo>
                <a:cubicBezTo>
                  <a:pt x="145" y="215"/>
                  <a:pt x="115" y="251"/>
                  <a:pt x="94" y="292"/>
                </a:cubicBezTo>
                <a:cubicBezTo>
                  <a:pt x="86" y="323"/>
                  <a:pt x="84" y="356"/>
                  <a:pt x="71" y="386"/>
                </a:cubicBezTo>
                <a:cubicBezTo>
                  <a:pt x="60" y="412"/>
                  <a:pt x="37" y="431"/>
                  <a:pt x="24" y="456"/>
                </a:cubicBezTo>
                <a:cubicBezTo>
                  <a:pt x="13" y="478"/>
                  <a:pt x="8" y="503"/>
                  <a:pt x="0" y="527"/>
                </a:cubicBezTo>
                <a:cubicBezTo>
                  <a:pt x="8" y="574"/>
                  <a:pt x="0" y="627"/>
                  <a:pt x="24" y="668"/>
                </a:cubicBezTo>
                <a:cubicBezTo>
                  <a:pt x="54" y="719"/>
                  <a:pt x="198" y="670"/>
                  <a:pt x="212" y="668"/>
                </a:cubicBezTo>
                <a:cubicBezTo>
                  <a:pt x="306" y="657"/>
                  <a:pt x="400" y="652"/>
                  <a:pt x="494" y="644"/>
                </a:cubicBezTo>
                <a:cubicBezTo>
                  <a:pt x="510" y="636"/>
                  <a:pt x="529" y="633"/>
                  <a:pt x="541" y="621"/>
                </a:cubicBezTo>
                <a:cubicBezTo>
                  <a:pt x="581" y="582"/>
                  <a:pt x="579" y="455"/>
                  <a:pt x="588" y="433"/>
                </a:cubicBezTo>
                <a:cubicBezTo>
                  <a:pt x="595" y="417"/>
                  <a:pt x="619" y="417"/>
                  <a:pt x="635" y="409"/>
                </a:cubicBezTo>
                <a:cubicBezTo>
                  <a:pt x="643" y="393"/>
                  <a:pt x="659" y="380"/>
                  <a:pt x="659" y="362"/>
                </a:cubicBezTo>
                <a:cubicBezTo>
                  <a:pt x="659" y="260"/>
                  <a:pt x="678" y="149"/>
                  <a:pt x="635" y="57"/>
                </a:cubicBezTo>
                <a:cubicBezTo>
                  <a:pt x="608" y="0"/>
                  <a:pt x="452" y="10"/>
                  <a:pt x="400" y="1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04920"/>
            <a:ext cx="914400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סיפור </a:t>
            </a:r>
            <a:r>
              <a:rPr b="1" lang="en-US" sz="4800" spc="-1" strike="noStrike">
                <a:solidFill>
                  <a:srgbClr val="ff3300"/>
                </a:solidFill>
                <a:latin typeface="Symbol"/>
                <a:ea typeface="Symbol"/>
              </a:rPr>
              <a:t>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 יצוג </a:t>
            </a:r>
            <a:r>
              <a:rPr b="1" lang="en-US" sz="4800" spc="-1" strike="noStrike">
                <a:solidFill>
                  <a:srgbClr val="ff3300"/>
                </a:solidFill>
                <a:latin typeface="Symbol"/>
                <a:ea typeface="Symbol"/>
              </a:rPr>
              <a:t>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 ממש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cs typeface="Arial"/>
              </a:rPr>
              <a:t>יוסי הגר בעיר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 מעונין לנסוע לעיר האורות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. לשם כך לקח לידיו את המפה המכילה את שתי הערים,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ו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.  לתדהמתו נתוני המפה הראו שמרחק כל כביש המקשר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ערים הינו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ק"מ. כמובן שיוסי מעונין לבחור את המסלול הקצר ביותר על מנת להגיע ל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624852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03BF-FAC2-40FA-9277-34704B709E5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>
            <a:hlinkClick r:id="rId1"/>
          </p:cNvPr>
          <p:cNvSpPr/>
          <p:nvPr/>
        </p:nvSpPr>
        <p:spPr>
          <a:xfrm>
            <a:off x="5075280" y="4668840"/>
            <a:ext cx="1076400" cy="1141560"/>
          </a:xfrm>
          <a:custGeom>
            <a:avLst/>
            <a:gdLst/>
            <a:ahLst/>
            <a:rect l="l" t="t" r="r" b="b"/>
            <a:pathLst>
              <a:path w="678" h="719">
                <a:moveTo>
                  <a:pt x="400" y="10"/>
                </a:moveTo>
                <a:cubicBezTo>
                  <a:pt x="383" y="13"/>
                  <a:pt x="249" y="20"/>
                  <a:pt x="212" y="57"/>
                </a:cubicBezTo>
                <a:cubicBezTo>
                  <a:pt x="189" y="80"/>
                  <a:pt x="176" y="152"/>
                  <a:pt x="165" y="174"/>
                </a:cubicBezTo>
                <a:cubicBezTo>
                  <a:pt x="145" y="215"/>
                  <a:pt x="115" y="251"/>
                  <a:pt x="94" y="292"/>
                </a:cubicBezTo>
                <a:cubicBezTo>
                  <a:pt x="86" y="323"/>
                  <a:pt x="84" y="356"/>
                  <a:pt x="71" y="386"/>
                </a:cubicBezTo>
                <a:cubicBezTo>
                  <a:pt x="60" y="412"/>
                  <a:pt x="37" y="431"/>
                  <a:pt x="24" y="456"/>
                </a:cubicBezTo>
                <a:cubicBezTo>
                  <a:pt x="13" y="478"/>
                  <a:pt x="8" y="503"/>
                  <a:pt x="0" y="527"/>
                </a:cubicBezTo>
                <a:cubicBezTo>
                  <a:pt x="8" y="574"/>
                  <a:pt x="0" y="627"/>
                  <a:pt x="24" y="668"/>
                </a:cubicBezTo>
                <a:cubicBezTo>
                  <a:pt x="54" y="719"/>
                  <a:pt x="198" y="670"/>
                  <a:pt x="212" y="668"/>
                </a:cubicBezTo>
                <a:cubicBezTo>
                  <a:pt x="306" y="657"/>
                  <a:pt x="400" y="652"/>
                  <a:pt x="494" y="644"/>
                </a:cubicBezTo>
                <a:cubicBezTo>
                  <a:pt x="510" y="636"/>
                  <a:pt x="529" y="633"/>
                  <a:pt x="541" y="621"/>
                </a:cubicBezTo>
                <a:cubicBezTo>
                  <a:pt x="581" y="582"/>
                  <a:pt x="579" y="455"/>
                  <a:pt x="588" y="433"/>
                </a:cubicBezTo>
                <a:cubicBezTo>
                  <a:pt x="595" y="417"/>
                  <a:pt x="619" y="417"/>
                  <a:pt x="635" y="409"/>
                </a:cubicBezTo>
                <a:cubicBezTo>
                  <a:pt x="643" y="393"/>
                  <a:pt x="659" y="380"/>
                  <a:pt x="659" y="362"/>
                </a:cubicBezTo>
                <a:cubicBezTo>
                  <a:pt x="659" y="260"/>
                  <a:pt x="678" y="149"/>
                  <a:pt x="635" y="57"/>
                </a:cubicBezTo>
                <a:cubicBezTo>
                  <a:pt x="608" y="0"/>
                  <a:pt x="452" y="10"/>
                  <a:pt x="400" y="1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15560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cs typeface="Arial"/>
              </a:rPr>
              <a:t>הצע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 ייצוג למידע על הערים, הדרכים ביניהם והמרחקים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cs typeface="Arial"/>
              </a:rPr>
              <a:t>כתוב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 ממשק עברי לטיפוס הנתונים "מפת דרכים"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cs typeface="Arial"/>
              </a:rPr>
              <a:t>פתח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 אלגוריתם אשר ייתן את המרחק הקצר ביותר בין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 ל-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624852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B35C-2ADE-4777-9C59-AFABD770B2C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3T08:10:50Z</dcterms:created>
  <dc:creator>חיים אברבוך</dc:creator>
  <dc:description/>
  <dc:language>en-US</dc:language>
  <cp:lastModifiedBy>hila</cp:lastModifiedBy>
  <dcterms:modified xsi:type="dcterms:W3CDTF">2004-07-29T11:31:36Z</dcterms:modified>
  <cp:revision>78</cp:revision>
  <dc:subject/>
  <dc:title>עולמנו המופלא</dc:title>
</cp:coreProperties>
</file>