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AA0-637A-4E15-B92A-F5EC22C1B96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959-B2BD-4E03-89D0-38FE4CC3547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903D-22FA-4D45-8CC7-670B49D0E87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7AC3-9020-4AD1-8016-E887421A6BD4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6F2A-6D35-4E09-898A-444BB1C02D3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970-8760-4BC8-BDD9-1768A4A0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98E-3BBF-4D44-9610-6157193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BF2-FCEB-47E2-A1B4-F92ED0B6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468-1C82-47A8-90F0-983B60F0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90A-DDEC-4A55-91EF-4F4BAD5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4B0-B1F3-45EF-8B85-238BCC4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29C-C56C-4186-909B-F20A8F64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29E-12E2-413B-90FD-D885BC7D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CE6-861F-407C-A711-F825959D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280-6ADB-4106-9D67-6C9FB045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3CE-5689-45A4-91ED-BB0D99A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74A-31C8-4BC0-BBF9-E9B546D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5BB46699-00E1-451B-B563-415A1BAC6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78483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600" spc="-1" strike="noStrike">
                <a:solidFill>
                  <a:srgbClr val="ff3300"/>
                </a:solidFill>
                <a:latin typeface="Arial"/>
                <a:cs typeface="David"/>
              </a:rPr>
              <a:t>רשימה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David"/>
              </a:rPr>
              <a:t>מה מותר ומה אסו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מצגת מכילה מספר תרחיש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C91-70A1-43B7-850C-92520D7561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א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br>
              <a:rPr sz="60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David"/>
              </a:rPr>
              <a:t>אחזור מהעוג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2971800"/>
            <a:ext cx="3644640" cy="2666880"/>
            <a:chOff x="304920" y="2971800"/>
            <a:chExt cx="3644640" cy="2666880"/>
          </a:xfrm>
        </p:grpSpPr>
        <p:sp>
          <p:nvSpPr>
            <p:cNvPr id="54" name=""/>
            <p:cNvSpPr/>
            <p:nvPr/>
          </p:nvSpPr>
          <p:spPr>
            <a:xfrm>
              <a:off x="304920" y="2971800"/>
              <a:ext cx="3644640" cy="2666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3520" y="3225240"/>
              <a:ext cx="3187440" cy="21600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לא קיים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רך לאחזור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בעוגן רשימ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1600200"/>
            <a:ext cx="6096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עוגן-רשימה 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L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) </a:t>
            </a:r>
            <a:r>
              <a:rPr b="1" lang="he-IL" sz="36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אחזר-מרשימה 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L, p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) </a:t>
            </a:r>
            <a:r>
              <a:rPr b="1" lang="he-IL" sz="36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he-I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3962520"/>
            <a:ext cx="7010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he-I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אחזור האבר הראשון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עוגן-רשימה (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he-IL" sz="39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עוקב-ברשימה (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he-IL" sz="39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חזר-מרשימה (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, p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he-IL" sz="39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A77-4465-41E1-913B-EE76A484A09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ב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br>
              <a:rPr sz="60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David"/>
              </a:rPr>
              <a:t>הכנסת איבר אחרי סוף הרשימ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2603520"/>
            <a:ext cx="3644640" cy="2806560"/>
            <a:chOff x="0" y="2603520"/>
            <a:chExt cx="3644640" cy="2806560"/>
          </a:xfrm>
        </p:grpSpPr>
        <p:sp>
          <p:nvSpPr>
            <p:cNvPr id="61" name=""/>
            <p:cNvSpPr/>
            <p:nvPr/>
          </p:nvSpPr>
          <p:spPr>
            <a:xfrm>
              <a:off x="0" y="260352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287028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סור להכניס איב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חרי </a:t>
              </a:r>
              <a:br>
                <a:rPr sz="3200"/>
              </a:b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סוף הרשימ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676520"/>
            <a:ext cx="4496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סוף-רשימה 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L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) </a:t>
            </a:r>
            <a:r>
              <a:rPr b="1" lang="he-IL" sz="36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הכנס-לרשימה 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L, p, x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962520"/>
            <a:ext cx="7010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he-I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הכנסת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בסוף הרשימה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סוף-רשימה (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he-IL" sz="39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ודם-ברשימה (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he-IL" sz="39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כנס-לרשימה (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, p, x</a:t>
            </a:r>
            <a:r>
              <a:rPr b="1" lang="he-IL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19F-F67B-4BEB-B6A5-DD6CBB2BDAB7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וצאה מרשימה אינה מחזירה ער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2286000"/>
            <a:ext cx="3644640" cy="2806560"/>
            <a:chOff x="228600" y="2286000"/>
            <a:chExt cx="3644640" cy="2806560"/>
          </a:xfrm>
        </p:grpSpPr>
        <p:sp>
          <p:nvSpPr>
            <p:cNvPr id="68" name=""/>
            <p:cNvSpPr/>
            <p:nvPr/>
          </p:nvSpPr>
          <p:spPr>
            <a:xfrm>
              <a:off x="228600" y="228600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255276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פעולה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וצא-מרשימה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אינה מחזירה ער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809880" y="236232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3600" spc="-1" strike="noStrike">
                <a:solidFill>
                  <a:srgbClr val="ff3300"/>
                </a:solidFill>
                <a:latin typeface="Times New Roman"/>
                <a:cs typeface="Arial"/>
              </a:rPr>
              <a:t>הוצא-מרשימה 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L, p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) </a:t>
            </a:r>
            <a:r>
              <a:rPr b="1" lang="he-IL" sz="36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he-I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41972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אחזר מרשימה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, p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הוצא מרשימה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, p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C67-5154-4A94-B729-B794CAFA3E80}" type="slidenum">
              <a:t>4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Adi</cp:lastModifiedBy>
  <dcterms:modified xsi:type="dcterms:W3CDTF">2004-07-22T07:10:10Z</dcterms:modified>
  <cp:revision>67</cp:revision>
  <dc:subject/>
  <dc:title>עולמנו המופלא</dc:title>
</cp:coreProperties>
</file>