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gif" ContentType="image/gi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128-F12C-4517-98D8-2ACFD416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1F3C-85B7-491B-B8D7-04F7A347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A2D-03D5-4EF9-89C2-DD3A0453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5846-056B-4B02-B12E-4F384B9E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D15E-244E-48AD-AC7D-44069032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A571-3326-421C-9DD9-B10D328E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6DB-F504-439A-B140-517AB882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B3C-70E3-46E6-A3D0-3F71E02F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F2F6-1B64-4EB3-A2B1-BDAE4478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5DC3-B241-49C1-BC44-EC8B7B64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1B3-57B0-471C-8818-1E6C1B7B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1BCE-40CD-4DC8-B826-586A7680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F110-C177-4751-A13D-138D81007699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gi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56880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08080"/>
                </a:solidFill>
                <a:latin typeface="Arial"/>
                <a:cs typeface="David Transparent"/>
              </a:rPr>
              <a:t>תבניות בעיצוב תכנה</a:t>
            </a:r>
            <a:r>
              <a:rPr b="1" lang="he-IL" sz="5400" spc="-1" strike="noStrike">
                <a:solidFill>
                  <a:srgbClr val="008080"/>
                </a:solidFill>
                <a:latin typeface="Arial"/>
                <a:ea typeface="Guttman Adi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2" name=""/>
          <p:cNvSpPr/>
          <p:nvPr/>
        </p:nvSpPr>
        <p:spPr>
          <a:xfrm>
            <a:off x="1258920" y="1722960"/>
            <a:ext cx="640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  <a:ea typeface="David"/>
              </a:rPr>
              <a:t> מחלקת רקורסיה</a:t>
            </a:r>
            <a:endParaRPr b="0" lang="en-US" sz="48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  <a:ea typeface="David"/>
              </a:rPr>
              <a:t> מחלקת רשימה</a:t>
            </a:r>
            <a:endParaRPr b="0" lang="en-US" sz="48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  <a:ea typeface="David"/>
              </a:rPr>
              <a:t> מחלקת מחסנית</a:t>
            </a:r>
            <a:endParaRPr b="0" lang="en-US" sz="48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  <a:ea typeface="David"/>
              </a:rPr>
              <a:t> מחלקת תור</a:t>
            </a:r>
            <a:endParaRPr b="0" lang="en-US" sz="48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  <a:ea typeface="David"/>
              </a:rPr>
              <a:t> מחלקת עצים בינאריים</a:t>
            </a:r>
            <a:endParaRPr b="0" lang="en-US" sz="48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611280" y="692280"/>
            <a:ext cx="7777080" cy="5689440"/>
            <a:chOff x="611280" y="692280"/>
            <a:chExt cx="7777080" cy="5689440"/>
          </a:xfrm>
        </p:grpSpPr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611280" y="692280"/>
              <a:ext cx="7777080" cy="56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900000" y="836640"/>
              <a:ext cx="7128000" cy="49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4.2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שרשור רשימות</a:t>
              </a:r>
              <a:r>
                <a:rPr b="1" i="1" lang="he-IL" sz="2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369720" algn="r" rtl="1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שתי רשימות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369720" algn="r" rtl="1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שרשור הרשימה השנייה לסופה של הרשימה הראשונה</a:t>
              </a:r>
              <a:br>
                <a:rPr sz="2000"/>
              </a:b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מבלי לקלקל את הרשימה המשורשרת)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369720" algn="r" rtl="1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שרשר-רשימות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L1, L2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369720" algn="r" rtl="1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369720" algn="r" rtl="1">
                <a:lnSpc>
                  <a:spcPct val="12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קודם-ברשימה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(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סוף-רשימה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p1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(L1, (L1)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369720" algn="r" rtl="1">
                <a:lnSpc>
                  <a:spcPct val="12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(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גן-רשימה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p2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(L2, (L2)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369720" algn="r" rtl="1">
                <a:lnSpc>
                  <a:spcPct val="12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he-IL" sz="21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כל עוד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2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(Hebrew)"/>
                  <a:ea typeface="Times New Roman"/>
                </a:rPr>
                <a:t>≠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Times New Roman"/>
                </a:rPr>
                <a:t> 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סוף-רשימה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בצע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369720" algn="r" rtl="1">
                <a:lnSpc>
                  <a:spcPct val="12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זר-מרשימה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x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(L2, p2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369720" algn="r" rtl="1">
                <a:lnSpc>
                  <a:spcPct val="12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כנס-לרשימה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1, p1, 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369720" algn="r" rtl="1">
                <a:lnSpc>
                  <a:spcPct val="12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p1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(L1, p1)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369720" algn="r" rtl="1">
                <a:lnSpc>
                  <a:spcPct val="12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p2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(L2, p2)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611280" y="692280"/>
            <a:ext cx="7993080" cy="5689440"/>
            <a:chOff x="611280" y="692280"/>
            <a:chExt cx="7993080" cy="5689440"/>
          </a:xfrm>
        </p:grpSpPr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611280" y="692280"/>
              <a:ext cx="7993080" cy="56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971640" y="1057320"/>
              <a:ext cx="6918120" cy="49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1085760"/>
                  <a:tab algn="l" pos="2171880"/>
                  <a:tab algn="l" pos="3257640"/>
                  <a:tab algn="l" pos="4343400"/>
                  <a:tab algn="l" pos="5429160"/>
                  <a:tab algn="l" pos="6515280"/>
                  <a:tab algn="l" pos="7601040"/>
                  <a:tab algn="l" pos="8686800"/>
                  <a:tab algn="l" pos="9772560"/>
                  <a:tab algn="l" pos="1085868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4.3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נמצא ברשימה?</a:t>
              </a:r>
              <a:r>
                <a:rPr b="1" i="1" lang="he-IL" sz="2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1085760"/>
                  <a:tab algn="l" pos="2171880"/>
                  <a:tab algn="l" pos="3257640"/>
                  <a:tab algn="l" pos="4343400"/>
                  <a:tab algn="l" pos="5429160"/>
                  <a:tab algn="l" pos="6515280"/>
                  <a:tab algn="l" pos="7601040"/>
                  <a:tab algn="l" pos="8686800"/>
                  <a:tab algn="l" pos="9772560"/>
                  <a:tab algn="l" pos="1085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1085760"/>
                  <a:tab algn="l" pos="2171880"/>
                  <a:tab algn="l" pos="3257640"/>
                  <a:tab algn="l" pos="4343400"/>
                  <a:tab algn="l" pos="5429160"/>
                  <a:tab algn="l" pos="6515280"/>
                  <a:tab algn="l" pos="7601040"/>
                  <a:tab algn="l" pos="8686800"/>
                  <a:tab algn="l" pos="9772560"/>
                  <a:tab algn="l" pos="1085868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רשימה מאותחלת, ערך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x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1085760"/>
                  <a:tab algn="l" pos="2171880"/>
                  <a:tab algn="l" pos="3257640"/>
                  <a:tab algn="l" pos="4343400"/>
                  <a:tab algn="l" pos="5429160"/>
                  <a:tab algn="l" pos="6515280"/>
                  <a:tab algn="l" pos="7601040"/>
                  <a:tab algn="l" pos="8686800"/>
                  <a:tab algn="l" pos="9772560"/>
                  <a:tab algn="l" pos="1085868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פעולה בוליאנית הבודקת האם האיבר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מצא ברשימה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L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1085760"/>
                  <a:tab algn="l" pos="2171880"/>
                  <a:tab algn="l" pos="3257640"/>
                  <a:tab algn="l" pos="4343400"/>
                  <a:tab algn="l" pos="5429160"/>
                  <a:tab algn="l" pos="6515280"/>
                  <a:tab algn="l" pos="7601040"/>
                  <a:tab algn="l" pos="8686800"/>
                  <a:tab algn="l" pos="9772560"/>
                  <a:tab algn="l" pos="1085868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 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נמצא-ברשימה?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L, y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1085760"/>
                  <a:tab algn="l" pos="2171880"/>
                  <a:tab algn="l" pos="3257640"/>
                  <a:tab algn="l" pos="4343400"/>
                  <a:tab algn="l" pos="5429160"/>
                  <a:tab algn="l" pos="6515280"/>
                  <a:tab algn="l" pos="7601040"/>
                  <a:tab algn="l" pos="8686800"/>
                  <a:tab algn="l" pos="9772560"/>
                  <a:tab algn="l" pos="10858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1085760"/>
                  <a:tab algn="l" pos="2171880"/>
                  <a:tab algn="l" pos="3257640"/>
                  <a:tab algn="l" pos="4343400"/>
                  <a:tab algn="l" pos="5429160"/>
                  <a:tab algn="l" pos="6515280"/>
                  <a:tab algn="l" pos="7601040"/>
                  <a:tab algn="l" pos="8686800"/>
                  <a:tab algn="l" pos="9772560"/>
                  <a:tab algn="l" pos="1085868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גן-רשימה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, (L)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Davi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br>
                <a:rPr sz="2000"/>
              </a:b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כל עוד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</a:rPr>
                <a:t>p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</a:rPr>
                <a:t>≠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סוף-רשימה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)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בצע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1085760"/>
                  <a:tab algn="l" pos="2171880"/>
                  <a:tab algn="l" pos="3257640"/>
                  <a:tab algn="l" pos="4343400"/>
                  <a:tab algn="l" pos="5429160"/>
                  <a:tab algn="l" pos="6515280"/>
                  <a:tab algn="l" pos="7601040"/>
                  <a:tab algn="l" pos="8686800"/>
                  <a:tab algn="l" pos="9772560"/>
                  <a:tab algn="l" pos="10858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זר-מרשימה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x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(L, p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Davi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y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אז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   החזר "אמת"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p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(L, p)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br>
                <a:rPr sz="2000"/>
              </a:b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חזר "שקר"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636480" y="476280"/>
            <a:ext cx="7680600" cy="5759280"/>
            <a:chOff x="636480" y="476280"/>
            <a:chExt cx="7680600" cy="5759280"/>
          </a:xfrm>
        </p:grpSpPr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636480" y="476280"/>
              <a:ext cx="7680600" cy="57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900000" y="846000"/>
              <a:ext cx="6742080" cy="50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4.4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מקום ברשימה</a:t>
              </a:r>
              <a:endParaRPr b="0" lang="en-US" sz="4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רשימה מאותחלת, ערך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ציאת מקומו של האיבר הראשון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ברשימה אשר בו נמצא ערך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המקיים תנאי ביחס לערך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שניתן כפרמטר</a:t>
              </a:r>
              <a:br>
                <a:rPr sz="2000"/>
              </a:b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מקום-ברשימה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L, x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גן-רשימה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,(L) 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p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2000" spc="-1" strike="noStrike">
                  <a:solidFill>
                    <a:srgbClr val="000000"/>
                  </a:solidFill>
                  <a:latin typeface="Arial"/>
                  <a:ea typeface="Davi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</a:t>
              </a:r>
              <a:br>
                <a:rPr sz="2000"/>
              </a:b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כל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ד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p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</a:rPr>
                <a:t>≠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סוף-רשימה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)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בצע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זר-מרשימ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 (Hebrew)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</a:rPr>
                <a:t>y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</a:rPr>
                <a:t>  (L, p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Davi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מקיים-תנאי-לבדיקה ביחס ל-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x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אז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   החזר את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L, p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)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</a:t>
              </a:r>
              <a:br>
                <a:rPr sz="2000"/>
              </a:b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חזר את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755640" y="333360"/>
            <a:ext cx="7776720" cy="6048360"/>
            <a:chOff x="755640" y="333360"/>
            <a:chExt cx="7776720" cy="6048360"/>
          </a:xfrm>
        </p:grpSpPr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798480" y="333360"/>
              <a:ext cx="7733880" cy="59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55640" y="622440"/>
              <a:ext cx="7440480" cy="57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4.5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</a:t>
              </a:r>
              <a:r>
                <a:rPr b="1" i="1" lang="he-IL" sz="3600" spc="-1" strike="noStrike">
                  <a:solidFill>
                    <a:srgbClr val="008080"/>
                  </a:solidFill>
                  <a:latin typeface="Times New Roman"/>
                  <a:cs typeface="David Transparent"/>
                </a:rPr>
                <a:t>מחיקת איברים מרשימה </a:t>
              </a:r>
              <a:endParaRPr b="0" lang="en-US" sz="36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 מוצא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רשימה מאותחלת 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מחיקת כל המופעים של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ברשימה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: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מחק-מרשימה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L, x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9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(</a:t>
              </a:r>
              <a:r>
                <a:rPr b="1" lang="he-IL" sz="19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גן-רשימה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L,(L)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p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  </a:t>
              </a:r>
              <a:br>
                <a:rPr sz="2400"/>
              </a:br>
              <a:r>
                <a:rPr b="0" lang="he-IL" sz="19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כל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he-IL" sz="19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ד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p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≠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1" lang="he-IL" sz="19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סוף-רשימה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)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he-IL" sz="19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בצע</a:t>
              </a:r>
              <a:endParaRPr b="0" lang="en-US" sz="19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19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 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x</a:t>
              </a:r>
              <a:r>
                <a:rPr b="0" lang="he-IL" sz="19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0" lang="he-IL" sz="19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1" lang="he-IL" sz="19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זר-מרשימה 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L, p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)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19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אזי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0" lang="he-IL" sz="19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   </a:t>
              </a:r>
              <a:r>
                <a:rPr b="1" lang="he-IL" sz="19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וצא-מרשימה </a:t>
              </a:r>
              <a:r>
                <a:rPr b="0" lang="he-IL" sz="19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, 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</a:t>
              </a:r>
              <a:br>
                <a:rPr sz="1900"/>
              </a:b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19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רת </a:t>
              </a:r>
              <a:br>
                <a:rPr sz="1900"/>
              </a:b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19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 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L, p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)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p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395280" y="333360"/>
            <a:ext cx="8424720" cy="6120000"/>
            <a:chOff x="395280" y="333360"/>
            <a:chExt cx="8424720" cy="6120000"/>
          </a:xfrm>
        </p:grpSpPr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395280" y="333360"/>
              <a:ext cx="8424720" cy="61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1147320" y="725400"/>
              <a:ext cx="6920280" cy="53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4.6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העברות ברשימה </a:t>
              </a:r>
              <a:endParaRPr b="0" lang="en-US" sz="4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רשימה מאותחלת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br>
                <a:rPr sz="1800"/>
              </a:b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העברת כל המספרים המקיימים תנאי לתחילת הרשימה תוך שמירה על הסדר המקורי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סידור-רשימה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L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גן-רשימה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)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pos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br>
                <a:rPr sz="1700"/>
              </a:b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, pos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p</a:t>
              </a:r>
              <a:br>
                <a:rPr sz="1700"/>
              </a:br>
              <a:r>
                <a:rPr b="0" lang="he-IL" sz="17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כל עוד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Dav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Davi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(Hebrew)"/>
                  <a:ea typeface="David"/>
                </a:rPr>
                <a:t>≠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David"/>
                </a:rPr>
                <a:t> 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סוף-רשימה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)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בצע</a:t>
              </a:r>
              <a:endParaRPr b="0" lang="en-US" sz="17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זר-מרשימה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, p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x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David"/>
                </a:rPr>
                <a:t>	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x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מקיים תנאי הבדיקה אזי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וצא-מרשימה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, 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כנס לרשימה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, pos, 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 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, pos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br>
                <a:rPr sz="1800"/>
              </a:b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רת </a:t>
              </a:r>
              <a:br>
                <a:rPr sz="17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 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</a:rPr>
                <a:t>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, p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539640" y="476280"/>
            <a:ext cx="7777440" cy="5761080"/>
            <a:chOff x="539640" y="476280"/>
            <a:chExt cx="7777440" cy="5761080"/>
          </a:xfrm>
        </p:grpSpPr>
        <p:pic>
          <p:nvPicPr>
            <p:cNvPr id="212" name="" descr=""/>
            <p:cNvPicPr/>
            <p:nvPr/>
          </p:nvPicPr>
          <p:blipFill>
            <a:blip r:embed="rId2"/>
            <a:stretch/>
          </p:blipFill>
          <p:spPr>
            <a:xfrm>
              <a:off x="539640" y="476280"/>
              <a:ext cx="7777440" cy="57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234080" y="845280"/>
              <a:ext cx="6388560" cy="50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4.7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היפוך רשימה </a:t>
              </a:r>
              <a:endParaRPr b="0" lang="en-US" sz="4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רשימה מאותחלת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הפיכת סדר איברי הרשימה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היפוך-רשימה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L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גן-רשימה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)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p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2000" spc="-1" strike="noStrike">
                  <a:solidFill>
                    <a:srgbClr val="000000"/>
                  </a:solidFill>
                  <a:latin typeface="Arial"/>
                  <a:ea typeface="David"/>
                </a:rPr>
                <a:t> 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L, 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)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p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br>
                <a:rPr sz="2000"/>
              </a:b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כל עוד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p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≠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סוף-רשימה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)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בצע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זר-מרשימה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x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(L, p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וצא-מרשימה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, 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כנס-לרשימה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,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גן-רשימה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, (L)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חזר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411280" y="709200"/>
            <a:ext cx="54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3300"/>
                </a:solidFill>
                <a:latin typeface="Times New Roman"/>
                <a:cs typeface="David Transparent"/>
              </a:rPr>
              <a:t>מחלקת מחסנית</a:t>
            </a:r>
            <a:r>
              <a:rPr b="0" lang="he-IL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15" name=""/>
          <p:cNvSpPr/>
          <p:nvPr/>
        </p:nvSpPr>
        <p:spPr>
          <a:xfrm>
            <a:off x="1692360" y="2071080"/>
            <a:ext cx="640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5.1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הכנס נתונים למחסנית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5.2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</a:t>
            </a:r>
            <a:r>
              <a:rPr b="0" lang="he-IL" sz="4000" spc="-1" strike="noStrike">
                <a:solidFill>
                  <a:srgbClr val="000000"/>
                </a:solidFill>
                <a:latin typeface="Times New Roman (Hebrew)"/>
                <a:cs typeface="David"/>
              </a:rPr>
              <a:t>העבר למחסנית שנייה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5.3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</a:t>
            </a:r>
            <a:r>
              <a:rPr b="0" lang="he-IL" sz="4000" spc="-1" strike="noStrike">
                <a:solidFill>
                  <a:srgbClr val="000000"/>
                </a:solidFill>
                <a:latin typeface="Times New Roman (Hebrew)"/>
                <a:cs typeface="David"/>
              </a:rPr>
              <a:t>הוצא נתונים ממחסנית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5.4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הכנס למקום נבחר במחסנית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5.5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איסוף בקיזוז 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26920" y="1125360"/>
            <a:ext cx="921240" cy="2757960"/>
            <a:chOff x="826920" y="1125360"/>
            <a:chExt cx="921240" cy="2757960"/>
          </a:xfrm>
        </p:grpSpPr>
        <p:sp>
          <p:nvSpPr>
            <p:cNvPr id="217" name=""/>
            <p:cNvSpPr/>
            <p:nvPr/>
          </p:nvSpPr>
          <p:spPr>
            <a:xfrm>
              <a:off x="826920" y="1125360"/>
              <a:ext cx="360" cy="27576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26920" y="3882960"/>
              <a:ext cx="9208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47800" y="1125360"/>
              <a:ext cx="360" cy="27576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6920" y="3423600"/>
              <a:ext cx="9208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6920" y="2848680"/>
              <a:ext cx="9208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6920" y="1699560"/>
              <a:ext cx="9208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6920" y="2274120"/>
              <a:ext cx="9208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468360" y="549360"/>
            <a:ext cx="8351640" cy="5472000"/>
            <a:chOff x="468360" y="549360"/>
            <a:chExt cx="8351640" cy="5472000"/>
          </a:xfrm>
        </p:grpSpPr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468360" y="549360"/>
              <a:ext cx="835164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1213920" y="900000"/>
              <a:ext cx="6860520" cy="47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5.1</a:t>
              </a:r>
              <a:r>
                <a:rPr b="1" i="1" lang="he-IL" sz="36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– 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cs typeface="David Transparent"/>
                </a:rPr>
                <a:t>הכנס נתונים</a:t>
              </a:r>
              <a:r>
                <a:rPr b="1" i="1" lang="he-IL" sz="36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ל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cs typeface="David Transparent"/>
                </a:rPr>
                <a:t>מחסנית</a:t>
              </a:r>
              <a:endParaRPr b="0" lang="en-US" sz="4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מחסנית מאותחלת, סדרת ערכים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הכנסת הערכים למחסנית, לפי סדר הגעתם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  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הכנס-נתונים-למחסנית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S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יבר ראשון בסדרה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element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כל עוד ל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סוף הסדרה בצע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דחוף-למחסנית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S,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elemen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יבר הבא בסדרה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element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חזר את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468360" y="620640"/>
            <a:ext cx="8351640" cy="5688000"/>
            <a:chOff x="468360" y="620640"/>
            <a:chExt cx="8351640" cy="568800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468360" y="620640"/>
              <a:ext cx="8351640" cy="56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213920" y="984960"/>
              <a:ext cx="6860520" cy="49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5.2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– העבר למחסנית שניה</a:t>
              </a:r>
              <a:endParaRPr b="0" lang="en-US" sz="4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 מוצא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שתי מחסניות מאותחלות,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1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ו-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2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העברת הנתונים מהמחסנית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1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למחסנית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2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:   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העבר-למחסנית-שניה </a:t>
              </a:r>
              <a:r>
                <a:rPr b="0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(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S1, S2</a:t>
              </a:r>
              <a:r>
                <a:rPr b="0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כל עוד ל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מחסנית-ריקה?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S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בצע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דחוף-למחסנית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(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שלוף-ממחסנית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1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,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S2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4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250920" y="620640"/>
            <a:ext cx="8569080" cy="5545080"/>
            <a:chOff x="250920" y="620640"/>
            <a:chExt cx="8569080" cy="5545080"/>
          </a:xfrm>
        </p:grpSpPr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250920" y="620640"/>
              <a:ext cx="8569080" cy="55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015920" y="975960"/>
              <a:ext cx="7039080" cy="48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5.3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– הוצא נתונים ממחסנית</a:t>
              </a:r>
              <a:endParaRPr b="0" lang="en-US" sz="4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 מוצא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חסנית לא ריקה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הוצאת הערכים מהמחסנית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:   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הוצא-נתונים-ממחסנית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S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)</a:t>
              </a:r>
              <a:r>
                <a:rPr b="0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1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כל עוד לא</a:t>
              </a:r>
              <a:r>
                <a:rPr b="1" lang="he-IL" sz="21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מחסנית-ריקה?</a:t>
              </a: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</a:t>
              </a:r>
              <a:r>
                <a:rPr b="0" lang="he-IL" sz="21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בצע </a:t>
              </a:r>
              <a:endParaRPr b="0" lang="en-US" sz="21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1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שלוף-ממחסנית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el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(Hebrew)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S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(Hebrew)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4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</a:t>
              </a:r>
              <a:endParaRPr b="0" lang="en-US" sz="21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40000" y="764640"/>
            <a:ext cx="52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3300"/>
                </a:solidFill>
                <a:latin typeface="Arial"/>
                <a:cs typeface="David Transparent"/>
              </a:rPr>
              <a:t>מחלקת רקורסיה</a:t>
            </a:r>
            <a:r>
              <a:rPr b="1" lang="he-IL" sz="4000" spc="-1" strike="noStrike">
                <a:solidFill>
                  <a:srgbClr val="008080"/>
                </a:solidFill>
                <a:latin typeface="Arial"/>
                <a:ea typeface="Guttman Adi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1917000"/>
            <a:ext cx="554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1.1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- רקורסיה תחילה</a:t>
            </a: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1.2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 - רקורסיה בסוף</a:t>
            </a: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1.3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 - רקורסיה כפולה</a:t>
            </a: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1.4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 - הפרד ומשול </a:t>
            </a: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1.5 -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  <a:cs typeface="David"/>
              </a:rPr>
              <a:t>דו-ממדית (העשרה)</a:t>
            </a: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45" name="NA00826_" descr=""/>
          <p:cNvPicPr/>
          <p:nvPr/>
        </p:nvPicPr>
        <p:blipFill>
          <a:blip r:embed="rId2"/>
          <a:stretch/>
        </p:blipFill>
        <p:spPr>
          <a:xfrm rot="1244400">
            <a:off x="610920" y="3284640"/>
            <a:ext cx="19746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395280" y="476280"/>
            <a:ext cx="8497800" cy="5761080"/>
            <a:chOff x="395280" y="476280"/>
            <a:chExt cx="8497800" cy="576108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395280" y="476280"/>
              <a:ext cx="8497800" cy="57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1153800" y="845280"/>
              <a:ext cx="6980400" cy="50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5.4</a:t>
              </a:r>
              <a:r>
                <a:rPr b="1" i="1" lang="he-IL" sz="32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– הכנס למקום נבחר במחסנית</a:t>
              </a:r>
              <a:endParaRPr b="0" lang="en-US" sz="4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 (Hebrew)"/>
                  <a:cs typeface="Arial"/>
                </a:rPr>
                <a:t>נקודת מוצא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cs typeface="Arial"/>
                </a:rPr>
                <a:t>מחסנית מאותחלת, איבר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x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.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 (Hebrew)"/>
                  <a:cs typeface="Arial"/>
                </a:rPr>
                <a:t>מטרה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cs typeface="Arial"/>
                </a:rPr>
                <a:t>הכנסת נתון למקומו המתאים המחסנית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 (Hebrew)"/>
                  <a:cs typeface="Arial"/>
                </a:rPr>
                <a:t>אלגוריתם: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 (Hebrew)"/>
                  <a:cs typeface="Arial"/>
                </a:rPr>
                <a:t>הכנס-למקום-נבחר-במחסנית </a:t>
              </a:r>
              <a:r>
                <a:rPr b="0" lang="he-IL" sz="2400" spc="-1" strike="noStrike" u="sng">
                  <a:solidFill>
                    <a:srgbClr val="000000"/>
                  </a:solidFill>
                  <a:uFillTx/>
                  <a:latin typeface="Times New Roman (Hebrew)"/>
                  <a:ea typeface="Arial"/>
                </a:rPr>
                <a:t>(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 (Hebrew)"/>
                  <a:ea typeface="Arial"/>
                </a:rPr>
                <a:t>S, x</a:t>
              </a:r>
              <a:r>
                <a:rPr b="0" lang="he-IL" sz="2400" spc="-1" strike="noStrike" u="sng">
                  <a:solidFill>
                    <a:srgbClr val="000000"/>
                  </a:solidFill>
                  <a:uFillTx/>
                  <a:latin typeface="Times New Roman (Hebrew)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אתחל-מחסנית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S_help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כל עוד לא </a:t>
              </a:r>
              <a:r>
                <a:rPr b="1" lang="he-IL" sz="18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מחסנית-ריקה?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S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) וגם </a:t>
              </a:r>
              <a:r>
                <a:rPr b="1" lang="he-IL" sz="18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הצץ-למחסנית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S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) &gt;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x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בצע </a:t>
              </a:r>
              <a:r>
                <a:rPr b="1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	</a:t>
              </a:r>
              <a:r>
                <a:rPr b="1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	</a:t>
              </a:r>
              <a:r>
                <a:rPr b="1" lang="he-IL" sz="18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דחוף-למחסנית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(</a:t>
              </a:r>
              <a:r>
                <a:rPr b="1" lang="he-IL" sz="18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שלוף-ממחסנית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S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),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S_ help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דחוף-למחסנית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x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,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S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)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	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	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העבר-למחסנית-שניה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S_help, S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(Hebrew)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</a:t>
              </a:r>
              <a:endParaRPr b="0" lang="en-US" sz="21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826920" y="836640"/>
            <a:ext cx="7239240" cy="5410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900000" y="981000"/>
            <a:ext cx="7056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000" spc="-1" strike="noStrike">
                <a:solidFill>
                  <a:srgbClr val="008080"/>
                </a:solidFill>
                <a:latin typeface="Times New Roman"/>
                <a:ea typeface="David Transparent"/>
              </a:rPr>
              <a:t>5.5</a:t>
            </a:r>
            <a:r>
              <a:rPr b="1" lang="he-IL" sz="4000" spc="-1" strike="noStrike">
                <a:solidFill>
                  <a:srgbClr val="008080"/>
                </a:solidFill>
                <a:latin typeface="Times New Roman"/>
                <a:ea typeface="Guttman Adii"/>
              </a:rPr>
              <a:t> - </a:t>
            </a:r>
            <a:r>
              <a:rPr b="1" i="1" lang="he-IL" sz="4000" spc="-1" strike="noStrike">
                <a:solidFill>
                  <a:srgbClr val="008080"/>
                </a:solidFill>
                <a:latin typeface="Times New Roman"/>
                <a:cs typeface="David Transparent"/>
              </a:rPr>
              <a:t>איסוף</a:t>
            </a:r>
            <a:r>
              <a:rPr b="1" lang="he-IL" sz="4000" spc="-1" strike="noStrike">
                <a:solidFill>
                  <a:srgbClr val="008080"/>
                </a:solidFill>
                <a:latin typeface="Times New Roman"/>
                <a:ea typeface="Guttman Adii"/>
              </a:rPr>
              <a:t> </a:t>
            </a:r>
            <a:r>
              <a:rPr b="1" i="1" lang="he-IL" sz="4000" spc="-1" strike="noStrike">
                <a:solidFill>
                  <a:srgbClr val="008080"/>
                </a:solidFill>
                <a:latin typeface="Times New Roman"/>
                <a:cs typeface="David Transparent"/>
              </a:rPr>
              <a:t>בקיזוז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 (Hebrew)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נקודת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מוצא:</a:t>
            </a:r>
            <a:r>
              <a:rPr b="0" lang="he-IL" sz="1600" spc="-1" strike="noStrike">
                <a:solidFill>
                  <a:srgbClr val="000000"/>
                </a:solidFill>
                <a:latin typeface="Times New Roman"/>
                <a:ea typeface="Guttman Adii"/>
              </a:rPr>
              <a:t>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סדרה של מספרים.  תנאי נתון.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מטרה: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מאזן המספרים בסדרה, בהתאם לתנאי.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לגוריתם: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Times New Roman (Hebrew)"/>
                <a:cs typeface="Arial"/>
              </a:rPr>
              <a:t>איסוף בקיזוז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תחל-מחסנית</a:t>
            </a: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26920" y="836640"/>
            <a:ext cx="7239240" cy="54100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900000" y="981000"/>
            <a:ext cx="7056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000" spc="-1" strike="noStrike">
                <a:solidFill>
                  <a:srgbClr val="008080"/>
                </a:solidFill>
                <a:latin typeface="Times New Roman"/>
                <a:ea typeface="David Transparent"/>
              </a:rPr>
              <a:t>5.5</a:t>
            </a:r>
            <a:r>
              <a:rPr b="1" lang="he-IL" sz="4000" spc="-1" strike="noStrike">
                <a:solidFill>
                  <a:srgbClr val="008080"/>
                </a:solidFill>
                <a:latin typeface="Times New Roman"/>
                <a:ea typeface="Guttman Adii"/>
              </a:rPr>
              <a:t> - </a:t>
            </a:r>
            <a:r>
              <a:rPr b="1" i="1" lang="he-IL" sz="4000" spc="-1" strike="noStrike">
                <a:solidFill>
                  <a:srgbClr val="008080"/>
                </a:solidFill>
                <a:latin typeface="Times New Roman"/>
                <a:cs typeface="David Transparent"/>
              </a:rPr>
              <a:t>איסוף</a:t>
            </a:r>
            <a:r>
              <a:rPr b="1" lang="he-IL" sz="4000" spc="-1" strike="noStrike">
                <a:solidFill>
                  <a:srgbClr val="008080"/>
                </a:solidFill>
                <a:latin typeface="Times New Roman"/>
                <a:ea typeface="Guttman Adii"/>
              </a:rPr>
              <a:t> </a:t>
            </a:r>
            <a:r>
              <a:rPr b="1" i="1" lang="he-IL" sz="4000" spc="-1" strike="noStrike">
                <a:solidFill>
                  <a:srgbClr val="008080"/>
                </a:solidFill>
                <a:latin typeface="Times New Roman"/>
                <a:cs typeface="David Transparent"/>
              </a:rPr>
              <a:t>בקיזוז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Guttman Yad"/>
              </a:rPr>
              <a:t>כל עוד לא סוף סדרת הקלט בצע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Guttman Yad"/>
              </a:rPr>
              <a:t>איבר הבא בסדרה </a:t>
            </a:r>
            <a:r>
              <a:rPr b="0" lang="he-IL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</a:rPr>
              <a:t>next_element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Guttman Yad"/>
              </a:rPr>
              <a:t>אם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next_element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 מקיים תנאי  אזי 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Guttman Yad"/>
              </a:rPr>
              <a:t>דחוף-למחסנית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S, next_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Guttman Yad"/>
              </a:rPr>
              <a:t>אחרת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Arial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Arial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Guttman Yad"/>
              </a:rPr>
              <a:t>אם מחסנית_ריקה?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)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, אזי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Guttman Yad"/>
              </a:rPr>
              <a:t>החזר 'שקר'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Guttman Yad"/>
              </a:rPr>
              <a:t>אחרת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Guttman Yad"/>
              </a:rPr>
              <a:t>שלוף_ממחסנית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tem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 (S)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Guttman Yad"/>
              </a:rPr>
              <a:t>אם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temp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 אינו מקיים תנאי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2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 אזי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Guttman Yad"/>
              </a:rPr>
              <a:t>החזר 'שקר'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Guttman Yad"/>
              </a:rPr>
              <a:t>החזר 'אמת'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676600" y="699480"/>
            <a:ext cx="387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3300"/>
                </a:solidFill>
                <a:latin typeface="Times New Roman"/>
                <a:cs typeface="David Transparent"/>
              </a:rPr>
              <a:t>מחלקת תור</a:t>
            </a:r>
            <a:r>
              <a:rPr b="0" lang="he-IL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41" name=""/>
          <p:cNvSpPr/>
          <p:nvPr/>
        </p:nvSpPr>
        <p:spPr>
          <a:xfrm>
            <a:off x="1763640" y="198828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6.1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-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הכנס נתונים לתור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6.2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הוצא נתונים מתור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763640" y="4365720"/>
            <a:ext cx="6140520" cy="1110600"/>
            <a:chOff x="1763640" y="4365720"/>
            <a:chExt cx="6140520" cy="1110600"/>
          </a:xfrm>
        </p:grpSpPr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1763640" y="4914720"/>
              <a:ext cx="863640" cy="51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" name=""/>
            <p:cNvGrpSpPr/>
            <p:nvPr/>
          </p:nvGrpSpPr>
          <p:grpSpPr>
            <a:xfrm>
              <a:off x="2698920" y="4365720"/>
              <a:ext cx="5205240" cy="1110600"/>
              <a:chOff x="2698920" y="4365720"/>
              <a:chExt cx="5205240" cy="1110600"/>
            </a:xfrm>
          </p:grpSpPr>
          <p:pic>
            <p:nvPicPr>
              <p:cNvPr id="2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61080" y="4365720"/>
                <a:ext cx="2143080" cy="89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8360" y="4509720"/>
                <a:ext cx="2143080" cy="89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698920" y="4581360"/>
                <a:ext cx="2143080" cy="89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971640" y="981000"/>
            <a:ext cx="7200720" cy="5256360"/>
            <a:chOff x="971640" y="981000"/>
            <a:chExt cx="7200720" cy="5256360"/>
          </a:xfrm>
        </p:grpSpPr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971640" y="981000"/>
              <a:ext cx="72007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614240" y="1317960"/>
              <a:ext cx="5915160" cy="45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6.1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הכנס נתונים</a:t>
              </a:r>
              <a:r>
                <a:rPr b="1" i="1" lang="en-US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cs typeface="David Transparent"/>
                </a:rPr>
                <a:t>לתור</a:t>
              </a:r>
              <a:endParaRPr b="0" lang="en-US" sz="4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סדרת ערכים, תור מאותחל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</a:t>
              </a:r>
              <a:br>
                <a:rPr sz="2000"/>
              </a:b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הכנסה לתור לפי הסדר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הכנס-נתונים-לתור 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Arial"/>
                </a:rPr>
                <a:t>Q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0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כל עוד לא</a:t>
              </a:r>
              <a:r>
                <a:rPr b="1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סוף הסדרה בצע 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כנס-לתור 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Q, next_element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 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חזר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Q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900000" y="692280"/>
            <a:ext cx="7704360" cy="5400720"/>
            <a:chOff x="900000" y="692280"/>
            <a:chExt cx="7704360" cy="540072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900000" y="692280"/>
              <a:ext cx="770436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587600" y="1038240"/>
              <a:ext cx="6328800" cy="47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6.2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הוצא נתונים מתור</a:t>
              </a:r>
              <a:endParaRPr b="0" lang="en-US" sz="4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תור מאותחל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הוצאת הערכים מהתור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הוצא-נתונים-מתור 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Arial"/>
                </a:rPr>
                <a:t>Q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)</a:t>
              </a:r>
              <a:r>
                <a:rPr b="0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כל עוד לא</a:t>
              </a:r>
              <a:r>
                <a:rPr b="1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תור-ריק? 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Q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)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בצע 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וצא-מתור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elemen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 (Hebrew)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Q)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חזר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Q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539640" y="69156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3300"/>
                </a:solidFill>
                <a:latin typeface="Times New Roman"/>
                <a:cs typeface="David Transparent"/>
              </a:rPr>
              <a:t>מחלקת עצים בינאריים</a:t>
            </a: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55" name=""/>
          <p:cNvSpPr/>
          <p:nvPr/>
        </p:nvSpPr>
        <p:spPr>
          <a:xfrm>
            <a:off x="1692360" y="1971360"/>
            <a:ext cx="619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8.1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- בנית עץ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8.2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סריקה בסדר תחילי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8.3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סריקה </a:t>
            </a:r>
            <a:r>
              <a:rPr b="0" lang="he-IL" sz="4000" spc="-1" strike="noStrike">
                <a:solidFill>
                  <a:srgbClr val="000000"/>
                </a:solidFill>
                <a:latin typeface="Times New Roman (Hebrew)"/>
                <a:cs typeface="David"/>
              </a:rPr>
              <a:t>בסדר</a:t>
            </a:r>
            <a:r>
              <a:rPr b="0" lang="he-IL" sz="4000" spc="-1" strike="noStrike">
                <a:solidFill>
                  <a:srgbClr val="000000"/>
                </a:solidFill>
                <a:latin typeface="Times New Roman (Hebrew)"/>
                <a:ea typeface="David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cs typeface="David"/>
              </a:rPr>
              <a:t>תוכי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8.4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סריקה </a:t>
            </a:r>
            <a:r>
              <a:rPr b="0" lang="he-IL" sz="4000" spc="-1" strike="noStrike">
                <a:solidFill>
                  <a:srgbClr val="000000"/>
                </a:solidFill>
                <a:latin typeface="Times New Roman (Hebrew)"/>
                <a:cs typeface="David"/>
              </a:rPr>
              <a:t>בסדר</a:t>
            </a:r>
            <a:r>
              <a:rPr b="0" lang="he-IL" sz="4000" spc="-1" strike="noStrike">
                <a:solidFill>
                  <a:srgbClr val="000000"/>
                </a:solidFill>
                <a:latin typeface="Times New Roman (Hebrew)"/>
                <a:ea typeface="David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cs typeface="David"/>
              </a:rPr>
              <a:t>סופי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8.5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סריקה לרוחב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(בעזרת תור)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50920" y="1989000"/>
            <a:ext cx="2970000" cy="2159280"/>
            <a:chOff x="250920" y="1989000"/>
            <a:chExt cx="2970000" cy="2159280"/>
          </a:xfrm>
        </p:grpSpPr>
        <p:sp>
          <p:nvSpPr>
            <p:cNvPr id="257" name=""/>
            <p:cNvSpPr/>
            <p:nvPr/>
          </p:nvSpPr>
          <p:spPr>
            <a:xfrm>
              <a:off x="1260360" y="3223080"/>
              <a:ext cx="33912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47200" y="3216240"/>
              <a:ext cx="35316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465640" y="3223080"/>
              <a:ext cx="33912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85520" y="2760480"/>
              <a:ext cx="594000" cy="5137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70520" y="3634560"/>
              <a:ext cx="594000" cy="5137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26920" y="2709000"/>
              <a:ext cx="594000" cy="5137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19760" y="3634560"/>
              <a:ext cx="594000" cy="5137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0920" y="3634560"/>
              <a:ext cx="594000" cy="5137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17120" y="1989000"/>
              <a:ext cx="594000" cy="5137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200600" y="2349720"/>
              <a:ext cx="415800" cy="41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11120" y="2349720"/>
              <a:ext cx="415440" cy="41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7920000" cy="54007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84360" y="836640"/>
            <a:ext cx="777528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000" spc="-1" strike="noStrike">
                <a:solidFill>
                  <a:srgbClr val="008080"/>
                </a:solidFill>
                <a:latin typeface="Times New Roman (Hebrew)"/>
                <a:ea typeface="David Transparent"/>
              </a:rPr>
              <a:t>8.1</a:t>
            </a:r>
            <a:r>
              <a:rPr b="1" i="1" lang="he-IL" sz="4000" spc="-1" strike="noStrike">
                <a:solidFill>
                  <a:srgbClr val="008080"/>
                </a:solidFill>
                <a:latin typeface="Times New Roman (Hebrew)"/>
                <a:ea typeface="David Transparent"/>
              </a:rPr>
              <a:t> - בנית עץ</a:t>
            </a:r>
            <a:r>
              <a:rPr b="1" i="1" lang="he-IL" sz="4000" spc="-1" strike="noStrike">
                <a:solidFill>
                  <a:srgbClr val="000000"/>
                </a:solidFill>
                <a:latin typeface="Times New Roman (Hebrew)"/>
                <a:ea typeface="David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נקודת מוצא: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סדרת נתונים.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מטרה: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החזרת עץ בינארי ששומר את סדרת הנתונים. בחירת הבנים של צומת במהלך הבניה נעשית בצורה אקראית. </a:t>
            </a:r>
            <a:br>
              <a:rPr sz="2000"/>
            </a:br>
            <a:r>
              <a:rPr b="1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לגוריתם: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בנה-עץ</a:t>
            </a: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  <a:ea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תחל-עץ </a:t>
            </a:r>
            <a:r>
              <a:rPr b="0" lang="he-IL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T</a:t>
            </a:r>
            <a:br>
              <a:rPr sz="2000"/>
            </a:b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יבר-הבא-בסדרה </a:t>
            </a:r>
            <a:r>
              <a:rPr b="0" lang="he-IL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x</a:t>
            </a:r>
            <a:br>
              <a:rPr sz="2000"/>
            </a:b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כל עוד לא סוף הסדרה בצע</a:t>
            </a:r>
            <a:br>
              <a:rPr sz="2000"/>
            </a:b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1" lang="he-IL" sz="20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הכנס-באופן-אקראי</a:t>
            </a: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T, x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)</a:t>
            </a:r>
            <a:br>
              <a:rPr sz="2000"/>
            </a:b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יבר-הבא-בסדרה </a:t>
            </a:r>
            <a:r>
              <a:rPr b="0" lang="he-IL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x</a:t>
            </a:r>
            <a:br>
              <a:rPr sz="2000"/>
            </a:b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החזר את 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7920000" cy="54007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050920" y="112392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000" spc="-1" strike="noStrike">
                <a:solidFill>
                  <a:srgbClr val="008080"/>
                </a:solidFill>
                <a:latin typeface="Times New Roman (Hebrew)"/>
                <a:ea typeface="David Transparent"/>
              </a:rPr>
              <a:t>8.1</a:t>
            </a:r>
            <a:r>
              <a:rPr b="1" i="1" lang="he-IL" sz="4000" spc="-1" strike="noStrike">
                <a:solidFill>
                  <a:srgbClr val="008080"/>
                </a:solidFill>
                <a:latin typeface="Times New Roman (Hebrew)"/>
                <a:ea typeface="David Transparent"/>
              </a:rPr>
              <a:t> - בנית עץ (המשך)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72" name=""/>
          <p:cNvSpPr/>
          <p:nvPr/>
        </p:nvSpPr>
        <p:spPr>
          <a:xfrm>
            <a:off x="1619280" y="2635200"/>
            <a:ext cx="5977080" cy="25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</a:rPr>
              <a:t> </a:t>
            </a:r>
            <a:r>
              <a:rPr b="1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לגוריתם</a:t>
            </a:r>
            <a:r>
              <a:rPr b="1" lang="he-IL" sz="2400" spc="-1" strike="noStrike">
                <a:solidFill>
                  <a:srgbClr val="000000"/>
                </a:solidFill>
                <a:latin typeface="Times New Roman (Hebrew)"/>
              </a:rPr>
              <a:t>:    </a:t>
            </a:r>
            <a:r>
              <a:rPr b="1" lang="he-IL" sz="2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אתחל-עץ-צומת </a:t>
            </a:r>
            <a:r>
              <a:rPr b="0" lang="he-I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he-I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br>
              <a:rPr sz="2000"/>
            </a:br>
            <a:r>
              <a:rPr b="1" lang="he-IL" sz="2400" spc="-1" strike="noStrike">
                <a:solidFill>
                  <a:srgbClr val="000000"/>
                </a:solidFill>
                <a:latin typeface="Times New Roman (Hebrew)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תחל-עץ </a:t>
            </a:r>
            <a:r>
              <a:rPr b="0" lang="he-IL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ltree</a:t>
            </a:r>
            <a:br>
              <a:rPr sz="2000"/>
            </a:b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תחל-עץ </a:t>
            </a:r>
            <a:r>
              <a:rPr b="0" lang="he-IL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rtree</a:t>
            </a:r>
            <a:br>
              <a:rPr sz="2000"/>
            </a:b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בנה-עץ  (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ltree, rtree, x</a:t>
            </a: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) </a:t>
            </a:r>
            <a:r>
              <a:rPr b="0" lang="he-IL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T</a:t>
            </a:r>
            <a:br>
              <a:rPr sz="2000"/>
            </a:b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החזר את 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T</a:t>
            </a: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7920000" cy="56894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84360" y="765000"/>
            <a:ext cx="7775280" cy="55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r" pos="355680"/>
                <a:tab algn="r" pos="901800"/>
                <a:tab algn="r" pos="1434960"/>
                <a:tab algn="r" pos="1968480"/>
                <a:tab algn="r" pos="25146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Times New Roman (Hebrew)"/>
                <a:ea typeface="Arial"/>
              </a:rPr>
              <a:t>	</a:t>
            </a:r>
            <a:r>
              <a:rPr b="1" i="1" lang="he-IL" sz="4000" spc="-1" strike="noStrike">
                <a:solidFill>
                  <a:srgbClr val="008080"/>
                </a:solidFill>
                <a:latin typeface="Times New Roman (Hebrew)"/>
                <a:ea typeface="David Transparent"/>
              </a:rPr>
              <a:t>8.1</a:t>
            </a:r>
            <a:r>
              <a:rPr b="1" i="1" lang="he-IL" sz="4000" spc="-1" strike="noStrike">
                <a:solidFill>
                  <a:srgbClr val="008080"/>
                </a:solidFill>
                <a:latin typeface="Times New Roman (Hebrew)"/>
                <a:ea typeface="David Transparent"/>
              </a:rPr>
              <a:t> - בנית עץ (המשך)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355680"/>
                <a:tab algn="r" pos="901800"/>
                <a:tab algn="r" pos="1434960"/>
                <a:tab algn="r" pos="1968480"/>
                <a:tab algn="r" pos="25146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לגוריתם:    </a:t>
            </a:r>
            <a:r>
              <a:rPr b="1" lang="he-IL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הכנס-באופן-אקראי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, x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tabLst>
                <a:tab algn="l" pos="0"/>
                <a:tab algn="r" pos="355680"/>
                <a:tab algn="r" pos="901800"/>
                <a:tab algn="r" pos="1434960"/>
                <a:tab algn="r" pos="1968480"/>
                <a:tab algn="r" pos="25146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 (Hebrew)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ם </a:t>
            </a:r>
            <a:r>
              <a:rPr b="1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עץ-ריק?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) 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זי   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5000"/>
              </a:lnSpc>
              <a:tabLst>
                <a:tab algn="l" pos="0"/>
                <a:tab algn="r" pos="355680"/>
                <a:tab algn="r" pos="901800"/>
                <a:tab algn="r" pos="1434960"/>
                <a:tab algn="r" pos="1968480"/>
                <a:tab algn="r" pos="25146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1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תחל-עץ-צומת 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x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) </a:t>
            </a:r>
            <a:r>
              <a:rPr b="0" lang="he-IL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T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חרת 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קבע-כיוון-אקראי </a:t>
            </a:r>
            <a:r>
              <a:rPr b="0" lang="he-IL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d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   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( 0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תת-עץ שמאלי, 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1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תת-עץ ימני }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ם  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d = 0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 אזי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ם לא </a:t>
            </a:r>
            <a:r>
              <a:rPr b="1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עץ-ריק?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(</a:t>
            </a:r>
            <a:r>
              <a:rPr b="1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תת-עץ-שמאלי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אזי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1" lang="he-IL" sz="1600" spc="-1" strike="noStrike">
                <a:solidFill>
                  <a:srgbClr val="000000"/>
                </a:solidFill>
                <a:latin typeface="Times New Roman (Hebrew)"/>
                <a:cs typeface="Times New Roman"/>
              </a:rPr>
              <a:t>הכנס-באופן-אקראי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x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, </a:t>
            </a:r>
            <a:r>
              <a:rPr b="1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תת-עץ-שמאלי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 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חרת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1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תחל-עץ-צומת 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x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) </a:t>
            </a:r>
            <a:r>
              <a:rPr b="0" lang="he-IL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T1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1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החלף-תת-עץ-שמאלי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, T1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חרת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ם לא </a:t>
            </a:r>
            <a:r>
              <a:rPr b="1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עץ-ריק?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(</a:t>
            </a:r>
            <a:r>
              <a:rPr b="1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תת-עץ-ימני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T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)), אזי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1" lang="he-IL" sz="1600" spc="-1" strike="noStrike">
                <a:solidFill>
                  <a:srgbClr val="000000"/>
                </a:solidFill>
                <a:latin typeface="Times New Roman (Hebrew)"/>
                <a:cs typeface="Times New Roman"/>
              </a:rPr>
              <a:t>הכנס-באופן-אקראי 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Times New Roman"/>
              </a:rPr>
              <a:t>(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x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, </a:t>
            </a:r>
            <a:r>
              <a:rPr b="1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תת-עץ-ימני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חרת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1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תחל-עץ-צומת 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T1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1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החלף-תת-עץ-ימני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, T1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br>
              <a:rPr sz="1600"/>
            </a:b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015920" y="353880"/>
            <a:ext cx="7039080" cy="6216840"/>
            <a:chOff x="1015920" y="353880"/>
            <a:chExt cx="7039080" cy="6216840"/>
          </a:xfrm>
        </p:grpSpPr>
        <p:grpSp>
          <p:nvGrpSpPr>
            <p:cNvPr id="47" name=""/>
            <p:cNvGrpSpPr/>
            <p:nvPr/>
          </p:nvGrpSpPr>
          <p:grpSpPr>
            <a:xfrm>
              <a:off x="1015920" y="353880"/>
              <a:ext cx="7039080" cy="6216840"/>
              <a:chOff x="1015920" y="353880"/>
              <a:chExt cx="7039080" cy="6216840"/>
            </a:xfrm>
          </p:grpSpPr>
          <p:sp>
            <p:nvSpPr>
              <p:cNvPr id="48" name=""/>
              <p:cNvSpPr/>
              <p:nvPr/>
            </p:nvSpPr>
            <p:spPr>
              <a:xfrm>
                <a:off x="1050840" y="398520"/>
                <a:ext cx="6969240" cy="3063960"/>
              </a:xfrm>
              <a:custGeom>
                <a:avLst/>
                <a:gdLst/>
                <a:ahLst/>
                <a:rect l="l" t="t" r="r" b="b"/>
                <a:pathLst>
                  <a:path w="7869" h="2489">
                    <a:moveTo>
                      <a:pt x="0" y="2489"/>
                    </a:moveTo>
                    <a:lnTo>
                      <a:pt x="0" y="0"/>
                    </a:lnTo>
                    <a:lnTo>
                      <a:pt x="7869" y="0"/>
                    </a:lnTo>
                    <a:lnTo>
                      <a:pt x="7869" y="2489"/>
                    </a:lnTo>
                    <a:lnTo>
                      <a:pt x="7784" y="2489"/>
                    </a:lnTo>
                    <a:lnTo>
                      <a:pt x="7784" y="85"/>
                    </a:lnTo>
                    <a:lnTo>
                      <a:pt x="85" y="85"/>
                    </a:lnTo>
                    <a:lnTo>
                      <a:pt x="85" y="2489"/>
                    </a:lnTo>
                    <a:lnTo>
                      <a:pt x="0" y="2489"/>
                    </a:lnTo>
                    <a:close/>
                  </a:path>
                </a:pathLst>
              </a:custGeom>
              <a:solidFill>
                <a:srgbClr val="d9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050840" y="3462480"/>
                <a:ext cx="74520" cy="44280"/>
              </a:xfrm>
              <a:prstGeom prst="rect">
                <a:avLst/>
              </a:prstGeom>
              <a:solidFill>
                <a:srgbClr val="d9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45560" y="3462480"/>
                <a:ext cx="74520" cy="44280"/>
              </a:xfrm>
              <a:prstGeom prst="rect">
                <a:avLst/>
              </a:prstGeom>
              <a:solidFill>
                <a:srgbClr val="d9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15920" y="3538440"/>
                <a:ext cx="6969240" cy="3021120"/>
              </a:xfrm>
              <a:custGeom>
                <a:avLst/>
                <a:gdLst/>
                <a:ahLst/>
                <a:rect l="l" t="t" r="r" b="b"/>
                <a:pathLst>
                  <a:path w="7869" h="2453">
                    <a:moveTo>
                      <a:pt x="0" y="0"/>
                    </a:moveTo>
                    <a:lnTo>
                      <a:pt x="0" y="2453"/>
                    </a:lnTo>
                    <a:lnTo>
                      <a:pt x="7869" y="2453"/>
                    </a:lnTo>
                    <a:lnTo>
                      <a:pt x="7869" y="0"/>
                    </a:lnTo>
                    <a:lnTo>
                      <a:pt x="7784" y="0"/>
                    </a:lnTo>
                    <a:lnTo>
                      <a:pt x="7784" y="2368"/>
                    </a:lnTo>
                    <a:lnTo>
                      <a:pt x="85" y="2368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50840" y="398520"/>
                <a:ext cx="6969240" cy="6127560"/>
              </a:xfrm>
              <a:prstGeom prst="rect">
                <a:avLst/>
              </a:pr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125360" y="503280"/>
                <a:ext cx="6820200" cy="5918040"/>
              </a:xfrm>
              <a:prstGeom prst="rect">
                <a:avLst/>
              </a:pr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15920" y="5359320"/>
                <a:ext cx="951120" cy="12114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984"/>
                    </a:moveTo>
                    <a:lnTo>
                      <a:pt x="0" y="0"/>
                    </a:lnTo>
                    <a:lnTo>
                      <a:pt x="1073" y="984"/>
                    </a:lnTo>
                    <a:lnTo>
                      <a:pt x="0" y="984"/>
                    </a:lnTo>
                    <a:close/>
                  </a:path>
                </a:pathLst>
              </a:custGeom>
              <a:solidFill>
                <a:srgbClr val="99a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15920" y="5359320"/>
                <a:ext cx="951120" cy="12114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984"/>
                    </a:moveTo>
                    <a:lnTo>
                      <a:pt x="0" y="0"/>
                    </a:lnTo>
                    <a:lnTo>
                      <a:pt x="1073" y="984"/>
                    </a:lnTo>
                    <a:lnTo>
                      <a:pt x="0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04240" y="5359320"/>
                <a:ext cx="950760" cy="12114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984"/>
                    </a:moveTo>
                    <a:lnTo>
                      <a:pt x="1073" y="0"/>
                    </a:lnTo>
                    <a:lnTo>
                      <a:pt x="0" y="984"/>
                    </a:lnTo>
                    <a:lnTo>
                      <a:pt x="1073" y="984"/>
                    </a:lnTo>
                    <a:close/>
                  </a:path>
                </a:pathLst>
              </a:custGeom>
              <a:solidFill>
                <a:srgbClr val="99a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04240" y="5359320"/>
                <a:ext cx="950760" cy="12114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984"/>
                    </a:moveTo>
                    <a:lnTo>
                      <a:pt x="1073" y="0"/>
                    </a:lnTo>
                    <a:lnTo>
                      <a:pt x="0" y="984"/>
                    </a:lnTo>
                    <a:lnTo>
                      <a:pt x="1073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15920" y="353880"/>
                <a:ext cx="951120" cy="12114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0"/>
                    </a:moveTo>
                    <a:lnTo>
                      <a:pt x="0" y="984"/>
                    </a:lnTo>
                    <a:lnTo>
                      <a:pt x="10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a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15920" y="353880"/>
                <a:ext cx="951120" cy="12114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0"/>
                    </a:moveTo>
                    <a:lnTo>
                      <a:pt x="0" y="984"/>
                    </a:lnTo>
                    <a:lnTo>
                      <a:pt x="107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104240" y="353880"/>
                <a:ext cx="950760" cy="12114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0"/>
                    </a:moveTo>
                    <a:lnTo>
                      <a:pt x="1073" y="984"/>
                    </a:lnTo>
                    <a:lnTo>
                      <a:pt x="0" y="0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99a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04240" y="353880"/>
                <a:ext cx="950760" cy="12114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0"/>
                    </a:moveTo>
                    <a:lnTo>
                      <a:pt x="1073" y="984"/>
                    </a:lnTo>
                    <a:lnTo>
                      <a:pt x="0" y="0"/>
                    </a:lnTo>
                    <a:lnTo>
                      <a:pt x="1073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050840" y="5454720"/>
                <a:ext cx="839880" cy="1071360"/>
              </a:xfrm>
              <a:custGeom>
                <a:avLst/>
                <a:gdLst/>
                <a:ahLst/>
                <a:rect l="l" t="t" r="r" b="b"/>
                <a:pathLst>
                  <a:path w="949" h="870">
                    <a:moveTo>
                      <a:pt x="0" y="870"/>
                    </a:moveTo>
                    <a:lnTo>
                      <a:pt x="0" y="0"/>
                    </a:lnTo>
                    <a:lnTo>
                      <a:pt x="949" y="870"/>
                    </a:lnTo>
                    <a:lnTo>
                      <a:pt x="0" y="87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180200" y="5454720"/>
                <a:ext cx="839880" cy="1071360"/>
              </a:xfrm>
              <a:custGeom>
                <a:avLst/>
                <a:gdLst/>
                <a:ahLst/>
                <a:rect l="l" t="t" r="r" b="b"/>
                <a:pathLst>
                  <a:path w="949" h="870">
                    <a:moveTo>
                      <a:pt x="949" y="870"/>
                    </a:moveTo>
                    <a:lnTo>
                      <a:pt x="949" y="0"/>
                    </a:lnTo>
                    <a:lnTo>
                      <a:pt x="0" y="870"/>
                    </a:lnTo>
                    <a:lnTo>
                      <a:pt x="949" y="87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050840" y="398520"/>
                <a:ext cx="839880" cy="1071360"/>
              </a:xfrm>
              <a:custGeom>
                <a:avLst/>
                <a:gdLst/>
                <a:ahLst/>
                <a:rect l="l" t="t" r="r" b="b"/>
                <a:pathLst>
                  <a:path w="949" h="870">
                    <a:moveTo>
                      <a:pt x="0" y="0"/>
                    </a:moveTo>
                    <a:lnTo>
                      <a:pt x="0" y="870"/>
                    </a:lnTo>
                    <a:lnTo>
                      <a:pt x="949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180200" y="398520"/>
                <a:ext cx="839880" cy="1071360"/>
              </a:xfrm>
              <a:custGeom>
                <a:avLst/>
                <a:gdLst/>
                <a:ahLst/>
                <a:rect l="l" t="t" r="r" b="b"/>
                <a:pathLst>
                  <a:path w="949" h="870">
                    <a:moveTo>
                      <a:pt x="949" y="0"/>
                    </a:moveTo>
                    <a:lnTo>
                      <a:pt x="949" y="870"/>
                    </a:lnTo>
                    <a:lnTo>
                      <a:pt x="0" y="0"/>
                    </a:lnTo>
                    <a:lnTo>
                      <a:pt x="949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015920" y="5359320"/>
                <a:ext cx="34920" cy="121140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0" y="984"/>
                    </a:moveTo>
                    <a:lnTo>
                      <a:pt x="39" y="948"/>
                    </a:lnTo>
                    <a:lnTo>
                      <a:pt x="39" y="78"/>
                    </a:lnTo>
                    <a:lnTo>
                      <a:pt x="0" y="0"/>
                    </a:lnTo>
                    <a:lnTo>
                      <a:pt x="0" y="984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015920" y="5359320"/>
                <a:ext cx="34920" cy="121140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0" y="984"/>
                    </a:moveTo>
                    <a:lnTo>
                      <a:pt x="39" y="948"/>
                    </a:lnTo>
                    <a:lnTo>
                      <a:pt x="39" y="78"/>
                    </a:lnTo>
                    <a:lnTo>
                      <a:pt x="0" y="0"/>
                    </a:lnTo>
                    <a:lnTo>
                      <a:pt x="0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020080" y="5359320"/>
                <a:ext cx="34920" cy="121140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39" y="984"/>
                    </a:moveTo>
                    <a:lnTo>
                      <a:pt x="0" y="948"/>
                    </a:lnTo>
                    <a:lnTo>
                      <a:pt x="0" y="78"/>
                    </a:lnTo>
                    <a:lnTo>
                      <a:pt x="39" y="0"/>
                    </a:lnTo>
                    <a:lnTo>
                      <a:pt x="39" y="984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020080" y="5359320"/>
                <a:ext cx="34920" cy="121140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39" y="984"/>
                    </a:moveTo>
                    <a:lnTo>
                      <a:pt x="0" y="948"/>
                    </a:lnTo>
                    <a:lnTo>
                      <a:pt x="0" y="78"/>
                    </a:lnTo>
                    <a:lnTo>
                      <a:pt x="39" y="0"/>
                    </a:lnTo>
                    <a:lnTo>
                      <a:pt x="39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015920" y="353880"/>
                <a:ext cx="34920" cy="121140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0" y="0"/>
                    </a:moveTo>
                    <a:lnTo>
                      <a:pt x="39" y="36"/>
                    </a:lnTo>
                    <a:lnTo>
                      <a:pt x="39" y="906"/>
                    </a:lnTo>
                    <a:lnTo>
                      <a:pt x="0" y="9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015920" y="353880"/>
                <a:ext cx="34920" cy="121140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0" y="0"/>
                    </a:moveTo>
                    <a:lnTo>
                      <a:pt x="39" y="36"/>
                    </a:lnTo>
                    <a:lnTo>
                      <a:pt x="39" y="906"/>
                    </a:lnTo>
                    <a:lnTo>
                      <a:pt x="0" y="98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020080" y="353880"/>
                <a:ext cx="34920" cy="121140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39" y="0"/>
                    </a:moveTo>
                    <a:lnTo>
                      <a:pt x="0" y="36"/>
                    </a:lnTo>
                    <a:lnTo>
                      <a:pt x="0" y="906"/>
                    </a:lnTo>
                    <a:lnTo>
                      <a:pt x="39" y="98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020080" y="353880"/>
                <a:ext cx="34920" cy="121140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39" y="0"/>
                    </a:moveTo>
                    <a:lnTo>
                      <a:pt x="0" y="36"/>
                    </a:lnTo>
                    <a:lnTo>
                      <a:pt x="0" y="906"/>
                    </a:lnTo>
                    <a:lnTo>
                      <a:pt x="39" y="984"/>
                    </a:lnTo>
                    <a:lnTo>
                      <a:pt x="39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015920" y="6526080"/>
                <a:ext cx="951120" cy="4464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1073" y="36"/>
                    </a:moveTo>
                    <a:lnTo>
                      <a:pt x="988" y="0"/>
                    </a:lnTo>
                    <a:lnTo>
                      <a:pt x="39" y="0"/>
                    </a:lnTo>
                    <a:lnTo>
                      <a:pt x="0" y="36"/>
                    </a:lnTo>
                    <a:lnTo>
                      <a:pt x="1073" y="36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015920" y="6526080"/>
                <a:ext cx="951120" cy="4464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1073" y="36"/>
                    </a:moveTo>
                    <a:lnTo>
                      <a:pt x="988" y="0"/>
                    </a:lnTo>
                    <a:lnTo>
                      <a:pt x="39" y="0"/>
                    </a:lnTo>
                    <a:lnTo>
                      <a:pt x="0" y="36"/>
                    </a:lnTo>
                    <a:lnTo>
                      <a:pt x="1073" y="36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104240" y="6526080"/>
                <a:ext cx="950760" cy="4464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0" y="36"/>
                    </a:moveTo>
                    <a:lnTo>
                      <a:pt x="85" y="0"/>
                    </a:lnTo>
                    <a:lnTo>
                      <a:pt x="1034" y="0"/>
                    </a:lnTo>
                    <a:lnTo>
                      <a:pt x="107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104240" y="6526080"/>
                <a:ext cx="950760" cy="4464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0" y="36"/>
                    </a:moveTo>
                    <a:lnTo>
                      <a:pt x="85" y="0"/>
                    </a:lnTo>
                    <a:lnTo>
                      <a:pt x="1034" y="0"/>
                    </a:lnTo>
                    <a:lnTo>
                      <a:pt x="1073" y="36"/>
                    </a:lnTo>
                    <a:lnTo>
                      <a:pt x="0" y="36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015920" y="353880"/>
                <a:ext cx="951120" cy="4464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1073" y="0"/>
                    </a:moveTo>
                    <a:lnTo>
                      <a:pt x="988" y="36"/>
                    </a:lnTo>
                    <a:lnTo>
                      <a:pt x="39" y="36"/>
                    </a:lnTo>
                    <a:lnTo>
                      <a:pt x="0" y="0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cff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015920" y="353880"/>
                <a:ext cx="951120" cy="4464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1073" y="0"/>
                    </a:moveTo>
                    <a:lnTo>
                      <a:pt x="988" y="36"/>
                    </a:lnTo>
                    <a:lnTo>
                      <a:pt x="39" y="36"/>
                    </a:lnTo>
                    <a:lnTo>
                      <a:pt x="0" y="0"/>
                    </a:lnTo>
                    <a:lnTo>
                      <a:pt x="1073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04240" y="353880"/>
                <a:ext cx="950760" cy="4464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0" y="0"/>
                    </a:moveTo>
                    <a:lnTo>
                      <a:pt x="85" y="36"/>
                    </a:lnTo>
                    <a:lnTo>
                      <a:pt x="1034" y="36"/>
                    </a:lnTo>
                    <a:lnTo>
                      <a:pt x="10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f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104240" y="353880"/>
                <a:ext cx="950760" cy="4464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0" y="0"/>
                    </a:moveTo>
                    <a:lnTo>
                      <a:pt x="85" y="36"/>
                    </a:lnTo>
                    <a:lnTo>
                      <a:pt x="1034" y="36"/>
                    </a:lnTo>
                    <a:lnTo>
                      <a:pt x="107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015920" y="5359320"/>
                <a:ext cx="951120" cy="12114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0"/>
                    </a:moveTo>
                    <a:lnTo>
                      <a:pt x="39" y="78"/>
                    </a:lnTo>
                    <a:lnTo>
                      <a:pt x="988" y="948"/>
                    </a:lnTo>
                    <a:lnTo>
                      <a:pt x="1073" y="9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f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015920" y="5359320"/>
                <a:ext cx="951120" cy="12114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0"/>
                    </a:moveTo>
                    <a:lnTo>
                      <a:pt x="39" y="78"/>
                    </a:lnTo>
                    <a:lnTo>
                      <a:pt x="988" y="948"/>
                    </a:lnTo>
                    <a:lnTo>
                      <a:pt x="1073" y="98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104240" y="5359320"/>
                <a:ext cx="950760" cy="12114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0"/>
                    </a:moveTo>
                    <a:lnTo>
                      <a:pt x="1034" y="78"/>
                    </a:lnTo>
                    <a:lnTo>
                      <a:pt x="85" y="948"/>
                    </a:lnTo>
                    <a:lnTo>
                      <a:pt x="0" y="984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cff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104240" y="5359320"/>
                <a:ext cx="950760" cy="12114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0"/>
                    </a:moveTo>
                    <a:lnTo>
                      <a:pt x="1034" y="78"/>
                    </a:lnTo>
                    <a:lnTo>
                      <a:pt x="85" y="948"/>
                    </a:lnTo>
                    <a:lnTo>
                      <a:pt x="0" y="984"/>
                    </a:lnTo>
                    <a:lnTo>
                      <a:pt x="1073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015920" y="353880"/>
                <a:ext cx="951120" cy="12114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984"/>
                    </a:moveTo>
                    <a:lnTo>
                      <a:pt x="39" y="906"/>
                    </a:lnTo>
                    <a:lnTo>
                      <a:pt x="988" y="36"/>
                    </a:lnTo>
                    <a:lnTo>
                      <a:pt x="1073" y="0"/>
                    </a:lnTo>
                    <a:lnTo>
                      <a:pt x="0" y="984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015920" y="353880"/>
                <a:ext cx="951120" cy="12114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984"/>
                    </a:moveTo>
                    <a:lnTo>
                      <a:pt x="39" y="906"/>
                    </a:lnTo>
                    <a:lnTo>
                      <a:pt x="988" y="36"/>
                    </a:lnTo>
                    <a:lnTo>
                      <a:pt x="1073" y="0"/>
                    </a:lnTo>
                    <a:lnTo>
                      <a:pt x="0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104240" y="353880"/>
                <a:ext cx="950760" cy="12114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984"/>
                    </a:moveTo>
                    <a:lnTo>
                      <a:pt x="1034" y="906"/>
                    </a:lnTo>
                    <a:lnTo>
                      <a:pt x="85" y="36"/>
                    </a:lnTo>
                    <a:lnTo>
                      <a:pt x="0" y="0"/>
                    </a:lnTo>
                    <a:lnTo>
                      <a:pt x="1073" y="984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04240" y="353880"/>
                <a:ext cx="950760" cy="12114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984"/>
                    </a:moveTo>
                    <a:lnTo>
                      <a:pt x="1034" y="906"/>
                    </a:lnTo>
                    <a:lnTo>
                      <a:pt x="85" y="36"/>
                    </a:lnTo>
                    <a:lnTo>
                      <a:pt x="0" y="0"/>
                    </a:lnTo>
                    <a:lnTo>
                      <a:pt x="1073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1116000" y="404640"/>
              <a:ext cx="6840720" cy="59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ctr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Arial"/>
                  <a:ea typeface="David Transparent"/>
                </a:rPr>
                <a:t>1.1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Arial"/>
                  <a:ea typeface="David Transparent"/>
                </a:rPr>
                <a:t> - רקורסיה תחילה</a:t>
              </a:r>
              <a:endParaRPr b="0" lang="en-US" sz="4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נתון מספר שלם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הדפסת כל המספרים בין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ל-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בסדר עולה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הדפס-בסדר-עולה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n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n = 1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אזי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דפס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רת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he-IL" sz="2200" spc="-1" strike="noStrike">
                  <a:solidFill>
                    <a:srgbClr val="000000"/>
                  </a:solidFill>
                  <a:latin typeface="Times New Roman"/>
                </a:rPr>
                <a:t>הדפס-בסדר-עולה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n-1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דפס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755640" y="765000"/>
            <a:ext cx="7704000" cy="5329440"/>
            <a:chOff x="755640" y="765000"/>
            <a:chExt cx="7704000" cy="5329440"/>
          </a:xfrm>
        </p:grpSpPr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755640" y="765000"/>
              <a:ext cx="7704000" cy="532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1187280" y="1268280"/>
              <a:ext cx="6767640" cy="432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r" pos="36360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8.2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סריקה בסדר תחילי</a:t>
              </a:r>
              <a:r>
                <a:rPr b="1" i="1" lang="he-IL" sz="28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r" pos="36360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r" pos="36360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 מוצא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עץ מאותחל.</a:t>
              </a:r>
              <a:endParaRPr b="0" lang="en-US" sz="18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r" pos="36360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סריקת צמתי העץ בסדר תחילי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36360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סדר-תחילי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T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 לא 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ץ-ריק?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זי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תייחס ל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סדר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-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תחיל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תת-עץ-שמאל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)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סדר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-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תחיל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תת-עץ-ימנ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r" pos="36360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            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755640" y="981000"/>
            <a:ext cx="7632720" cy="5041800"/>
            <a:chOff x="755640" y="981000"/>
            <a:chExt cx="7632720" cy="5041800"/>
          </a:xfrm>
        </p:grpSpPr>
        <p:pic>
          <p:nvPicPr>
            <p:cNvPr id="279" name="" descr=""/>
            <p:cNvPicPr/>
            <p:nvPr/>
          </p:nvPicPr>
          <p:blipFill>
            <a:blip r:embed="rId2"/>
            <a:stretch/>
          </p:blipFill>
          <p:spPr>
            <a:xfrm>
              <a:off x="755640" y="981000"/>
              <a:ext cx="7632720" cy="50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1437120" y="1303920"/>
              <a:ext cx="6269760" cy="43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r" pos="355680"/>
                  <a:tab algn="r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8.3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סריקה בסדר תוכי</a:t>
              </a:r>
              <a:r>
                <a:rPr b="1" i="1" lang="he-IL" sz="36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r" pos="355680"/>
                  <a:tab algn="r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r" pos="355680"/>
                  <a:tab algn="r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עץ מאותחל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r" pos="355680"/>
                  <a:tab algn="r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סריקת צמתי העץ בסדר תוֹכי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355680"/>
                  <a:tab algn="r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סדר-תוכי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Arial"/>
                </a:rPr>
                <a:t>T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55680"/>
                  <a:tab algn="r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55680"/>
                  <a:tab algn="r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 לא 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ץ-ריק?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זי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55680"/>
                  <a:tab algn="r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סדר-תוכ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תת-עץ-שמאל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)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55680"/>
                  <a:tab algn="r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תייחס  ל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55680"/>
                  <a:tab algn="r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סדר-תוכ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תת-עץ-ימנ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)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971640" y="981000"/>
            <a:ext cx="7561080" cy="5184720"/>
            <a:chOff x="971640" y="981000"/>
            <a:chExt cx="7561080" cy="5184720"/>
          </a:xfrm>
        </p:grpSpPr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971640" y="981000"/>
              <a:ext cx="756108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647000" y="1312920"/>
              <a:ext cx="6210000" cy="45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r" pos="363600"/>
                  <a:tab algn="r" pos="90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8.4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סריקה בסדר סופי</a:t>
              </a:r>
              <a:r>
                <a:rPr b="1" i="1" lang="he-IL" sz="36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r" pos="363600"/>
                  <a:tab algn="r" pos="90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r" pos="363600"/>
                  <a:tab algn="r" pos="90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עץ מאותחל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r" pos="363600"/>
                  <a:tab algn="r" pos="90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סריקת צמתי העץ בסדר סופ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363600"/>
                  <a:tab algn="r" pos="90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: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סדר-סופי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Arial"/>
                </a:rPr>
                <a:t>T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 לא 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ץ-ריק?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זי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סדר-סופ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תת-עץ-שמאל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)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סדר-סופ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תת-עץ-ימנ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)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תייחס  ל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826920" y="549360"/>
            <a:ext cx="7561440" cy="5904000"/>
            <a:chOff x="826920" y="549360"/>
            <a:chExt cx="7561440" cy="5904000"/>
          </a:xfrm>
        </p:grpSpPr>
        <p:pic>
          <p:nvPicPr>
            <p:cNvPr id="285" name="" descr=""/>
            <p:cNvPicPr/>
            <p:nvPr/>
          </p:nvPicPr>
          <p:blipFill>
            <a:blip r:embed="rId2"/>
            <a:stretch/>
          </p:blipFill>
          <p:spPr>
            <a:xfrm>
              <a:off x="826920" y="549360"/>
              <a:ext cx="756144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501920" y="927720"/>
              <a:ext cx="6211440" cy="51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8.5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סריקה לרוחב</a:t>
              </a:r>
              <a:r>
                <a:rPr b="1" i="1" lang="he-IL" sz="36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עץ מאותחל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סריקת צמתי העץ לפי רמות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: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סריקה-לרוחב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T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 לא 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ץ-ריק?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T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זי</a:t>
              </a:r>
              <a:endParaRPr b="0" lang="en-US" sz="17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תחל-תור </a:t>
              </a:r>
              <a:r>
                <a:rPr b="0" lang="he-IL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 (Hebrew)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Q</a:t>
              </a:r>
              <a:endParaRPr b="0" lang="en-US" sz="17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כנס-לתור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Q, T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כל עוד לא 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תור-ריק?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Q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בצע</a:t>
              </a:r>
              <a:endParaRPr b="0" lang="en-US" sz="17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וצא-מתור </a:t>
              </a:r>
              <a:r>
                <a:rPr b="0" lang="he-IL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 (Hebrew)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תייחס ל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(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T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 לא 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ץ-ריק?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(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תת-עץ-שמאלי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T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)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זי </a:t>
              </a:r>
              <a:endParaRPr b="0" lang="en-US" sz="17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כנס-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לתור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(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תת-עץ-שמאלי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Q,(T)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 לא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ץ-ריק?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(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תת-עץ-ימני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T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)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זי </a:t>
              </a:r>
              <a:endParaRPr b="0" lang="en-US" sz="17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כנס-לתור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(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תת-עץ-ימני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Q, (T)</a:t>
              </a:r>
              <a:endParaRPr b="0" lang="en-US" sz="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020600" y="353880"/>
            <a:ext cx="7039080" cy="6216840"/>
            <a:chOff x="1020600" y="353880"/>
            <a:chExt cx="7039080" cy="6216840"/>
          </a:xfrm>
        </p:grpSpPr>
        <p:grpSp>
          <p:nvGrpSpPr>
            <p:cNvPr id="92" name=""/>
            <p:cNvGrpSpPr/>
            <p:nvPr/>
          </p:nvGrpSpPr>
          <p:grpSpPr>
            <a:xfrm>
              <a:off x="1020600" y="353880"/>
              <a:ext cx="7039080" cy="6216840"/>
              <a:chOff x="1020600" y="353880"/>
              <a:chExt cx="7039080" cy="6216840"/>
            </a:xfrm>
          </p:grpSpPr>
          <p:sp>
            <p:nvSpPr>
              <p:cNvPr id="93" name=""/>
              <p:cNvSpPr/>
              <p:nvPr/>
            </p:nvSpPr>
            <p:spPr>
              <a:xfrm>
                <a:off x="1054800" y="398160"/>
                <a:ext cx="6969960" cy="3064320"/>
              </a:xfrm>
              <a:custGeom>
                <a:avLst/>
                <a:gdLst/>
                <a:ahLst/>
                <a:rect l="l" t="t" r="r" b="b"/>
                <a:pathLst>
                  <a:path w="7869" h="2489">
                    <a:moveTo>
                      <a:pt x="0" y="2489"/>
                    </a:moveTo>
                    <a:lnTo>
                      <a:pt x="0" y="0"/>
                    </a:lnTo>
                    <a:lnTo>
                      <a:pt x="7869" y="0"/>
                    </a:lnTo>
                    <a:lnTo>
                      <a:pt x="7869" y="2489"/>
                    </a:lnTo>
                    <a:lnTo>
                      <a:pt x="7784" y="2489"/>
                    </a:lnTo>
                    <a:lnTo>
                      <a:pt x="7784" y="85"/>
                    </a:lnTo>
                    <a:lnTo>
                      <a:pt x="85" y="85"/>
                    </a:lnTo>
                    <a:lnTo>
                      <a:pt x="85" y="2489"/>
                    </a:lnTo>
                    <a:lnTo>
                      <a:pt x="0" y="2489"/>
                    </a:lnTo>
                    <a:close/>
                  </a:path>
                </a:pathLst>
              </a:custGeom>
              <a:solidFill>
                <a:srgbClr val="d9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54800" y="3462480"/>
                <a:ext cx="75240" cy="43200"/>
              </a:xfrm>
              <a:prstGeom prst="rect">
                <a:avLst/>
              </a:prstGeom>
              <a:solidFill>
                <a:srgbClr val="d9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949880" y="3462480"/>
                <a:ext cx="75240" cy="43200"/>
              </a:xfrm>
              <a:prstGeom prst="rect">
                <a:avLst/>
              </a:prstGeom>
              <a:solidFill>
                <a:srgbClr val="d9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20600" y="3539160"/>
                <a:ext cx="6969960" cy="3020040"/>
              </a:xfrm>
              <a:custGeom>
                <a:avLst/>
                <a:gdLst/>
                <a:ahLst/>
                <a:rect l="l" t="t" r="r" b="b"/>
                <a:pathLst>
                  <a:path w="7869" h="2453">
                    <a:moveTo>
                      <a:pt x="0" y="0"/>
                    </a:moveTo>
                    <a:lnTo>
                      <a:pt x="0" y="2453"/>
                    </a:lnTo>
                    <a:lnTo>
                      <a:pt x="7869" y="2453"/>
                    </a:lnTo>
                    <a:lnTo>
                      <a:pt x="7869" y="0"/>
                    </a:lnTo>
                    <a:lnTo>
                      <a:pt x="7784" y="0"/>
                    </a:lnTo>
                    <a:lnTo>
                      <a:pt x="7784" y="2368"/>
                    </a:lnTo>
                    <a:lnTo>
                      <a:pt x="85" y="2368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54800" y="398160"/>
                <a:ext cx="6969960" cy="6127920"/>
              </a:xfrm>
              <a:prstGeom prst="rect">
                <a:avLst/>
              </a:pr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30400" y="502560"/>
                <a:ext cx="6819480" cy="5918760"/>
              </a:xfrm>
              <a:prstGeom prst="rect">
                <a:avLst/>
              </a:pr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020600" y="5358960"/>
                <a:ext cx="950040" cy="121176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984"/>
                    </a:moveTo>
                    <a:lnTo>
                      <a:pt x="0" y="0"/>
                    </a:lnTo>
                    <a:lnTo>
                      <a:pt x="1073" y="984"/>
                    </a:lnTo>
                    <a:lnTo>
                      <a:pt x="0" y="984"/>
                    </a:lnTo>
                    <a:close/>
                  </a:path>
                </a:pathLst>
              </a:custGeom>
              <a:solidFill>
                <a:srgbClr val="99a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020600" y="5358960"/>
                <a:ext cx="950040" cy="121176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984"/>
                    </a:moveTo>
                    <a:lnTo>
                      <a:pt x="0" y="0"/>
                    </a:lnTo>
                    <a:lnTo>
                      <a:pt x="1073" y="984"/>
                    </a:lnTo>
                    <a:lnTo>
                      <a:pt x="0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09280" y="5358960"/>
                <a:ext cx="950400" cy="121176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984"/>
                    </a:moveTo>
                    <a:lnTo>
                      <a:pt x="1073" y="0"/>
                    </a:lnTo>
                    <a:lnTo>
                      <a:pt x="0" y="984"/>
                    </a:lnTo>
                    <a:lnTo>
                      <a:pt x="1073" y="984"/>
                    </a:lnTo>
                    <a:close/>
                  </a:path>
                </a:pathLst>
              </a:custGeom>
              <a:solidFill>
                <a:srgbClr val="99a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109280" y="5358960"/>
                <a:ext cx="950400" cy="121176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984"/>
                    </a:moveTo>
                    <a:lnTo>
                      <a:pt x="1073" y="0"/>
                    </a:lnTo>
                    <a:lnTo>
                      <a:pt x="0" y="984"/>
                    </a:lnTo>
                    <a:lnTo>
                      <a:pt x="1073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020600" y="353880"/>
                <a:ext cx="950040" cy="12114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0"/>
                    </a:moveTo>
                    <a:lnTo>
                      <a:pt x="0" y="984"/>
                    </a:lnTo>
                    <a:lnTo>
                      <a:pt x="10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a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20600" y="353880"/>
                <a:ext cx="950040" cy="12114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0"/>
                    </a:moveTo>
                    <a:lnTo>
                      <a:pt x="0" y="984"/>
                    </a:lnTo>
                    <a:lnTo>
                      <a:pt x="107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09280" y="353880"/>
                <a:ext cx="950400" cy="12114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0"/>
                    </a:moveTo>
                    <a:lnTo>
                      <a:pt x="1073" y="984"/>
                    </a:lnTo>
                    <a:lnTo>
                      <a:pt x="0" y="0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99a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09280" y="353880"/>
                <a:ext cx="950400" cy="12114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0"/>
                    </a:moveTo>
                    <a:lnTo>
                      <a:pt x="1073" y="984"/>
                    </a:lnTo>
                    <a:lnTo>
                      <a:pt x="0" y="0"/>
                    </a:lnTo>
                    <a:lnTo>
                      <a:pt x="1073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054800" y="5454720"/>
                <a:ext cx="840600" cy="1071360"/>
              </a:xfrm>
              <a:custGeom>
                <a:avLst/>
                <a:gdLst/>
                <a:ahLst/>
                <a:rect l="l" t="t" r="r" b="b"/>
                <a:pathLst>
                  <a:path w="949" h="870">
                    <a:moveTo>
                      <a:pt x="0" y="870"/>
                    </a:moveTo>
                    <a:lnTo>
                      <a:pt x="0" y="0"/>
                    </a:lnTo>
                    <a:lnTo>
                      <a:pt x="949" y="870"/>
                    </a:lnTo>
                    <a:lnTo>
                      <a:pt x="0" y="87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184520" y="5454720"/>
                <a:ext cx="840600" cy="1071360"/>
              </a:xfrm>
              <a:custGeom>
                <a:avLst/>
                <a:gdLst/>
                <a:ahLst/>
                <a:rect l="l" t="t" r="r" b="b"/>
                <a:pathLst>
                  <a:path w="949" h="870">
                    <a:moveTo>
                      <a:pt x="949" y="870"/>
                    </a:moveTo>
                    <a:lnTo>
                      <a:pt x="949" y="0"/>
                    </a:lnTo>
                    <a:lnTo>
                      <a:pt x="0" y="870"/>
                    </a:lnTo>
                    <a:lnTo>
                      <a:pt x="949" y="87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054800" y="398160"/>
                <a:ext cx="840600" cy="1071000"/>
              </a:xfrm>
              <a:custGeom>
                <a:avLst/>
                <a:gdLst/>
                <a:ahLst/>
                <a:rect l="l" t="t" r="r" b="b"/>
                <a:pathLst>
                  <a:path w="949" h="870">
                    <a:moveTo>
                      <a:pt x="0" y="0"/>
                    </a:moveTo>
                    <a:lnTo>
                      <a:pt x="0" y="870"/>
                    </a:lnTo>
                    <a:lnTo>
                      <a:pt x="949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184520" y="398160"/>
                <a:ext cx="840600" cy="1071000"/>
              </a:xfrm>
              <a:custGeom>
                <a:avLst/>
                <a:gdLst/>
                <a:ahLst/>
                <a:rect l="l" t="t" r="r" b="b"/>
                <a:pathLst>
                  <a:path w="949" h="870">
                    <a:moveTo>
                      <a:pt x="949" y="0"/>
                    </a:moveTo>
                    <a:lnTo>
                      <a:pt x="949" y="870"/>
                    </a:lnTo>
                    <a:lnTo>
                      <a:pt x="0" y="0"/>
                    </a:lnTo>
                    <a:lnTo>
                      <a:pt x="949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020600" y="5358960"/>
                <a:ext cx="34200" cy="121176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0" y="984"/>
                    </a:moveTo>
                    <a:lnTo>
                      <a:pt x="39" y="948"/>
                    </a:lnTo>
                    <a:lnTo>
                      <a:pt x="39" y="78"/>
                    </a:lnTo>
                    <a:lnTo>
                      <a:pt x="0" y="0"/>
                    </a:lnTo>
                    <a:lnTo>
                      <a:pt x="0" y="984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20600" y="5358960"/>
                <a:ext cx="34200" cy="121176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0" y="984"/>
                    </a:moveTo>
                    <a:lnTo>
                      <a:pt x="39" y="948"/>
                    </a:lnTo>
                    <a:lnTo>
                      <a:pt x="39" y="78"/>
                    </a:lnTo>
                    <a:lnTo>
                      <a:pt x="0" y="0"/>
                    </a:lnTo>
                    <a:lnTo>
                      <a:pt x="0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025120" y="5358960"/>
                <a:ext cx="34200" cy="121176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39" y="984"/>
                    </a:moveTo>
                    <a:lnTo>
                      <a:pt x="0" y="948"/>
                    </a:lnTo>
                    <a:lnTo>
                      <a:pt x="0" y="78"/>
                    </a:lnTo>
                    <a:lnTo>
                      <a:pt x="39" y="0"/>
                    </a:lnTo>
                    <a:lnTo>
                      <a:pt x="39" y="984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025120" y="5358960"/>
                <a:ext cx="34200" cy="121176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39" y="984"/>
                    </a:moveTo>
                    <a:lnTo>
                      <a:pt x="0" y="948"/>
                    </a:lnTo>
                    <a:lnTo>
                      <a:pt x="0" y="78"/>
                    </a:lnTo>
                    <a:lnTo>
                      <a:pt x="39" y="0"/>
                    </a:lnTo>
                    <a:lnTo>
                      <a:pt x="39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20600" y="353880"/>
                <a:ext cx="34200" cy="121140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0" y="0"/>
                    </a:moveTo>
                    <a:lnTo>
                      <a:pt x="39" y="36"/>
                    </a:lnTo>
                    <a:lnTo>
                      <a:pt x="39" y="906"/>
                    </a:lnTo>
                    <a:lnTo>
                      <a:pt x="0" y="9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020600" y="353880"/>
                <a:ext cx="34200" cy="121140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0" y="0"/>
                    </a:moveTo>
                    <a:lnTo>
                      <a:pt x="39" y="36"/>
                    </a:lnTo>
                    <a:lnTo>
                      <a:pt x="39" y="906"/>
                    </a:lnTo>
                    <a:lnTo>
                      <a:pt x="0" y="98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025120" y="353880"/>
                <a:ext cx="34200" cy="121140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39" y="0"/>
                    </a:moveTo>
                    <a:lnTo>
                      <a:pt x="0" y="36"/>
                    </a:lnTo>
                    <a:lnTo>
                      <a:pt x="0" y="906"/>
                    </a:lnTo>
                    <a:lnTo>
                      <a:pt x="39" y="98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025120" y="353880"/>
                <a:ext cx="34200" cy="121140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39" y="0"/>
                    </a:moveTo>
                    <a:lnTo>
                      <a:pt x="0" y="36"/>
                    </a:lnTo>
                    <a:lnTo>
                      <a:pt x="0" y="906"/>
                    </a:lnTo>
                    <a:lnTo>
                      <a:pt x="39" y="984"/>
                    </a:lnTo>
                    <a:lnTo>
                      <a:pt x="39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20600" y="6526080"/>
                <a:ext cx="950040" cy="4428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1073" y="36"/>
                    </a:moveTo>
                    <a:lnTo>
                      <a:pt x="988" y="0"/>
                    </a:lnTo>
                    <a:lnTo>
                      <a:pt x="39" y="0"/>
                    </a:lnTo>
                    <a:lnTo>
                      <a:pt x="0" y="36"/>
                    </a:lnTo>
                    <a:lnTo>
                      <a:pt x="1073" y="36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20600" y="6526080"/>
                <a:ext cx="950040" cy="4428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1073" y="36"/>
                    </a:moveTo>
                    <a:lnTo>
                      <a:pt x="988" y="0"/>
                    </a:lnTo>
                    <a:lnTo>
                      <a:pt x="39" y="0"/>
                    </a:lnTo>
                    <a:lnTo>
                      <a:pt x="0" y="36"/>
                    </a:lnTo>
                    <a:lnTo>
                      <a:pt x="1073" y="36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109280" y="6526080"/>
                <a:ext cx="950400" cy="4428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0" y="36"/>
                    </a:moveTo>
                    <a:lnTo>
                      <a:pt x="85" y="0"/>
                    </a:lnTo>
                    <a:lnTo>
                      <a:pt x="1034" y="0"/>
                    </a:lnTo>
                    <a:lnTo>
                      <a:pt x="107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109280" y="6526080"/>
                <a:ext cx="950400" cy="4428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0" y="36"/>
                    </a:moveTo>
                    <a:lnTo>
                      <a:pt x="85" y="0"/>
                    </a:lnTo>
                    <a:lnTo>
                      <a:pt x="1034" y="0"/>
                    </a:lnTo>
                    <a:lnTo>
                      <a:pt x="1073" y="36"/>
                    </a:lnTo>
                    <a:lnTo>
                      <a:pt x="0" y="36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020600" y="353880"/>
                <a:ext cx="950040" cy="4428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1073" y="0"/>
                    </a:moveTo>
                    <a:lnTo>
                      <a:pt x="988" y="36"/>
                    </a:lnTo>
                    <a:lnTo>
                      <a:pt x="39" y="36"/>
                    </a:lnTo>
                    <a:lnTo>
                      <a:pt x="0" y="0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cff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020600" y="353880"/>
                <a:ext cx="950040" cy="4428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1073" y="0"/>
                    </a:moveTo>
                    <a:lnTo>
                      <a:pt x="988" y="36"/>
                    </a:lnTo>
                    <a:lnTo>
                      <a:pt x="39" y="36"/>
                    </a:lnTo>
                    <a:lnTo>
                      <a:pt x="0" y="0"/>
                    </a:lnTo>
                    <a:lnTo>
                      <a:pt x="1073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109280" y="353880"/>
                <a:ext cx="950400" cy="4428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0" y="0"/>
                    </a:moveTo>
                    <a:lnTo>
                      <a:pt x="85" y="36"/>
                    </a:lnTo>
                    <a:lnTo>
                      <a:pt x="1034" y="36"/>
                    </a:lnTo>
                    <a:lnTo>
                      <a:pt x="10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f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109280" y="353880"/>
                <a:ext cx="950400" cy="4428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0" y="0"/>
                    </a:moveTo>
                    <a:lnTo>
                      <a:pt x="85" y="36"/>
                    </a:lnTo>
                    <a:lnTo>
                      <a:pt x="1034" y="36"/>
                    </a:lnTo>
                    <a:lnTo>
                      <a:pt x="107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020600" y="5358960"/>
                <a:ext cx="950040" cy="121176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0"/>
                    </a:moveTo>
                    <a:lnTo>
                      <a:pt x="39" y="78"/>
                    </a:lnTo>
                    <a:lnTo>
                      <a:pt x="988" y="948"/>
                    </a:lnTo>
                    <a:lnTo>
                      <a:pt x="1073" y="9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f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020600" y="5358960"/>
                <a:ext cx="950040" cy="121176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0"/>
                    </a:moveTo>
                    <a:lnTo>
                      <a:pt x="39" y="78"/>
                    </a:lnTo>
                    <a:lnTo>
                      <a:pt x="988" y="948"/>
                    </a:lnTo>
                    <a:lnTo>
                      <a:pt x="1073" y="98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109280" y="5358960"/>
                <a:ext cx="950400" cy="121176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0"/>
                    </a:moveTo>
                    <a:lnTo>
                      <a:pt x="1034" y="78"/>
                    </a:lnTo>
                    <a:lnTo>
                      <a:pt x="85" y="948"/>
                    </a:lnTo>
                    <a:lnTo>
                      <a:pt x="0" y="984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cff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09280" y="5358960"/>
                <a:ext cx="950400" cy="121176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0"/>
                    </a:moveTo>
                    <a:lnTo>
                      <a:pt x="1034" y="78"/>
                    </a:lnTo>
                    <a:lnTo>
                      <a:pt x="85" y="948"/>
                    </a:lnTo>
                    <a:lnTo>
                      <a:pt x="0" y="984"/>
                    </a:lnTo>
                    <a:lnTo>
                      <a:pt x="1073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020600" y="353880"/>
                <a:ext cx="950040" cy="12114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984"/>
                    </a:moveTo>
                    <a:lnTo>
                      <a:pt x="39" y="906"/>
                    </a:lnTo>
                    <a:lnTo>
                      <a:pt x="988" y="36"/>
                    </a:lnTo>
                    <a:lnTo>
                      <a:pt x="1073" y="0"/>
                    </a:lnTo>
                    <a:lnTo>
                      <a:pt x="0" y="984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020600" y="353880"/>
                <a:ext cx="950040" cy="12114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984"/>
                    </a:moveTo>
                    <a:lnTo>
                      <a:pt x="39" y="906"/>
                    </a:lnTo>
                    <a:lnTo>
                      <a:pt x="988" y="36"/>
                    </a:lnTo>
                    <a:lnTo>
                      <a:pt x="1073" y="0"/>
                    </a:lnTo>
                    <a:lnTo>
                      <a:pt x="0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09280" y="353880"/>
                <a:ext cx="950400" cy="12114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984"/>
                    </a:moveTo>
                    <a:lnTo>
                      <a:pt x="1034" y="906"/>
                    </a:lnTo>
                    <a:lnTo>
                      <a:pt x="85" y="36"/>
                    </a:lnTo>
                    <a:lnTo>
                      <a:pt x="0" y="0"/>
                    </a:lnTo>
                    <a:lnTo>
                      <a:pt x="1073" y="984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109280" y="353880"/>
                <a:ext cx="950400" cy="121140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984"/>
                    </a:moveTo>
                    <a:lnTo>
                      <a:pt x="1034" y="906"/>
                    </a:lnTo>
                    <a:lnTo>
                      <a:pt x="85" y="36"/>
                    </a:lnTo>
                    <a:lnTo>
                      <a:pt x="0" y="0"/>
                    </a:lnTo>
                    <a:lnTo>
                      <a:pt x="1073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1173240" y="476280"/>
              <a:ext cx="6783480" cy="60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1.2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Arial"/>
                  <a:ea typeface="David Transparent"/>
                </a:rPr>
                <a:t>- רקורסיה בסוף</a:t>
              </a:r>
              <a:endParaRPr b="0" lang="en-US" sz="4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נתון מספר שלם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n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הדפסת כל המספרים בין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ל-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בסדר יורד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4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הדפס-בסדר-יורד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n =1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אזי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דפס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רת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דפס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he-IL" sz="2200" spc="-1" strike="noStrike">
                  <a:solidFill>
                    <a:srgbClr val="000000"/>
                  </a:solidFill>
                  <a:latin typeface="Times New Roman"/>
                </a:rPr>
                <a:t>הדפס-בסדר-יורד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n-1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042920" y="404640"/>
            <a:ext cx="7023240" cy="6148440"/>
            <a:chOff x="1042920" y="404640"/>
            <a:chExt cx="7023240" cy="6148440"/>
          </a:xfrm>
        </p:grpSpPr>
        <p:grpSp>
          <p:nvGrpSpPr>
            <p:cNvPr id="137" name=""/>
            <p:cNvGrpSpPr/>
            <p:nvPr/>
          </p:nvGrpSpPr>
          <p:grpSpPr>
            <a:xfrm>
              <a:off x="1042920" y="404640"/>
              <a:ext cx="7023240" cy="6148440"/>
              <a:chOff x="1042920" y="404640"/>
              <a:chExt cx="7023240" cy="6148440"/>
            </a:xfrm>
          </p:grpSpPr>
          <p:sp>
            <p:nvSpPr>
              <p:cNvPr id="138" name=""/>
              <p:cNvSpPr/>
              <p:nvPr/>
            </p:nvSpPr>
            <p:spPr>
              <a:xfrm>
                <a:off x="1077120" y="448200"/>
                <a:ext cx="6954120" cy="3030480"/>
              </a:xfrm>
              <a:custGeom>
                <a:avLst/>
                <a:gdLst/>
                <a:ahLst/>
                <a:rect l="l" t="t" r="r" b="b"/>
                <a:pathLst>
                  <a:path w="7869" h="2489">
                    <a:moveTo>
                      <a:pt x="0" y="2489"/>
                    </a:moveTo>
                    <a:lnTo>
                      <a:pt x="0" y="0"/>
                    </a:lnTo>
                    <a:lnTo>
                      <a:pt x="7869" y="0"/>
                    </a:lnTo>
                    <a:lnTo>
                      <a:pt x="7869" y="2489"/>
                    </a:lnTo>
                    <a:lnTo>
                      <a:pt x="7784" y="2489"/>
                    </a:lnTo>
                    <a:lnTo>
                      <a:pt x="7784" y="85"/>
                    </a:lnTo>
                    <a:lnTo>
                      <a:pt x="85" y="85"/>
                    </a:lnTo>
                    <a:lnTo>
                      <a:pt x="85" y="2489"/>
                    </a:lnTo>
                    <a:lnTo>
                      <a:pt x="0" y="2489"/>
                    </a:lnTo>
                    <a:close/>
                  </a:path>
                </a:pathLst>
              </a:custGeom>
              <a:solidFill>
                <a:srgbClr val="d9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7120" y="3479040"/>
                <a:ext cx="74880" cy="42480"/>
              </a:xfrm>
              <a:prstGeom prst="rect">
                <a:avLst/>
              </a:prstGeom>
              <a:solidFill>
                <a:srgbClr val="d9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956360" y="3479040"/>
                <a:ext cx="74880" cy="42480"/>
              </a:xfrm>
              <a:prstGeom prst="rect">
                <a:avLst/>
              </a:prstGeom>
              <a:solidFill>
                <a:srgbClr val="d9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42920" y="3554640"/>
                <a:ext cx="6954120" cy="2986920"/>
              </a:xfrm>
              <a:custGeom>
                <a:avLst/>
                <a:gdLst/>
                <a:ahLst/>
                <a:rect l="l" t="t" r="r" b="b"/>
                <a:pathLst>
                  <a:path w="7869" h="2453">
                    <a:moveTo>
                      <a:pt x="0" y="0"/>
                    </a:moveTo>
                    <a:lnTo>
                      <a:pt x="0" y="2453"/>
                    </a:lnTo>
                    <a:lnTo>
                      <a:pt x="7869" y="2453"/>
                    </a:lnTo>
                    <a:lnTo>
                      <a:pt x="7869" y="0"/>
                    </a:lnTo>
                    <a:lnTo>
                      <a:pt x="7784" y="0"/>
                    </a:lnTo>
                    <a:lnTo>
                      <a:pt x="7784" y="2368"/>
                    </a:lnTo>
                    <a:lnTo>
                      <a:pt x="85" y="2368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077120" y="448200"/>
                <a:ext cx="6954120" cy="6060600"/>
              </a:xfrm>
              <a:prstGeom prst="rect">
                <a:avLst/>
              </a:pr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52360" y="551520"/>
                <a:ext cx="6804000" cy="5853600"/>
              </a:xfrm>
              <a:prstGeom prst="rect">
                <a:avLst/>
              </a:pr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42920" y="5354640"/>
                <a:ext cx="947880" cy="119844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984"/>
                    </a:moveTo>
                    <a:lnTo>
                      <a:pt x="0" y="0"/>
                    </a:lnTo>
                    <a:lnTo>
                      <a:pt x="1073" y="984"/>
                    </a:lnTo>
                    <a:lnTo>
                      <a:pt x="0" y="984"/>
                    </a:lnTo>
                    <a:close/>
                  </a:path>
                </a:pathLst>
              </a:custGeom>
              <a:solidFill>
                <a:srgbClr val="99a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920" y="5354640"/>
                <a:ext cx="947880" cy="119844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984"/>
                    </a:moveTo>
                    <a:lnTo>
                      <a:pt x="0" y="0"/>
                    </a:lnTo>
                    <a:lnTo>
                      <a:pt x="1073" y="984"/>
                    </a:lnTo>
                    <a:lnTo>
                      <a:pt x="0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117920" y="5354640"/>
                <a:ext cx="948240" cy="119844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984"/>
                    </a:moveTo>
                    <a:lnTo>
                      <a:pt x="1073" y="0"/>
                    </a:lnTo>
                    <a:lnTo>
                      <a:pt x="0" y="984"/>
                    </a:lnTo>
                    <a:lnTo>
                      <a:pt x="1073" y="984"/>
                    </a:lnTo>
                    <a:close/>
                  </a:path>
                </a:pathLst>
              </a:custGeom>
              <a:solidFill>
                <a:srgbClr val="99a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117920" y="5354640"/>
                <a:ext cx="948240" cy="119844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984"/>
                    </a:moveTo>
                    <a:lnTo>
                      <a:pt x="1073" y="0"/>
                    </a:lnTo>
                    <a:lnTo>
                      <a:pt x="0" y="984"/>
                    </a:lnTo>
                    <a:lnTo>
                      <a:pt x="1073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42920" y="404640"/>
                <a:ext cx="947880" cy="11980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0"/>
                    </a:moveTo>
                    <a:lnTo>
                      <a:pt x="0" y="984"/>
                    </a:lnTo>
                    <a:lnTo>
                      <a:pt x="10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a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042920" y="404640"/>
                <a:ext cx="947880" cy="11980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0"/>
                    </a:moveTo>
                    <a:lnTo>
                      <a:pt x="0" y="984"/>
                    </a:lnTo>
                    <a:lnTo>
                      <a:pt x="107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117920" y="404640"/>
                <a:ext cx="948240" cy="11980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0"/>
                    </a:moveTo>
                    <a:lnTo>
                      <a:pt x="1073" y="984"/>
                    </a:lnTo>
                    <a:lnTo>
                      <a:pt x="0" y="0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99a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117920" y="404640"/>
                <a:ext cx="948240" cy="11980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0"/>
                    </a:moveTo>
                    <a:lnTo>
                      <a:pt x="1073" y="984"/>
                    </a:lnTo>
                    <a:lnTo>
                      <a:pt x="0" y="0"/>
                    </a:lnTo>
                    <a:lnTo>
                      <a:pt x="1073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077120" y="5449320"/>
                <a:ext cx="838440" cy="1059480"/>
              </a:xfrm>
              <a:custGeom>
                <a:avLst/>
                <a:gdLst/>
                <a:ahLst/>
                <a:rect l="l" t="t" r="r" b="b"/>
                <a:pathLst>
                  <a:path w="949" h="870">
                    <a:moveTo>
                      <a:pt x="0" y="870"/>
                    </a:moveTo>
                    <a:lnTo>
                      <a:pt x="0" y="0"/>
                    </a:lnTo>
                    <a:lnTo>
                      <a:pt x="949" y="870"/>
                    </a:lnTo>
                    <a:lnTo>
                      <a:pt x="0" y="87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92800" y="5449320"/>
                <a:ext cx="838440" cy="1059480"/>
              </a:xfrm>
              <a:custGeom>
                <a:avLst/>
                <a:gdLst/>
                <a:ahLst/>
                <a:rect l="l" t="t" r="r" b="b"/>
                <a:pathLst>
                  <a:path w="949" h="870">
                    <a:moveTo>
                      <a:pt x="949" y="870"/>
                    </a:moveTo>
                    <a:lnTo>
                      <a:pt x="949" y="0"/>
                    </a:lnTo>
                    <a:lnTo>
                      <a:pt x="0" y="870"/>
                    </a:lnTo>
                    <a:lnTo>
                      <a:pt x="949" y="87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077120" y="448200"/>
                <a:ext cx="838440" cy="1059120"/>
              </a:xfrm>
              <a:custGeom>
                <a:avLst/>
                <a:gdLst/>
                <a:ahLst/>
                <a:rect l="l" t="t" r="r" b="b"/>
                <a:pathLst>
                  <a:path w="949" h="870">
                    <a:moveTo>
                      <a:pt x="0" y="0"/>
                    </a:moveTo>
                    <a:lnTo>
                      <a:pt x="0" y="870"/>
                    </a:lnTo>
                    <a:lnTo>
                      <a:pt x="949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192800" y="448200"/>
                <a:ext cx="838440" cy="1059120"/>
              </a:xfrm>
              <a:custGeom>
                <a:avLst/>
                <a:gdLst/>
                <a:ahLst/>
                <a:rect l="l" t="t" r="r" b="b"/>
                <a:pathLst>
                  <a:path w="949" h="870">
                    <a:moveTo>
                      <a:pt x="949" y="0"/>
                    </a:moveTo>
                    <a:lnTo>
                      <a:pt x="949" y="870"/>
                    </a:lnTo>
                    <a:lnTo>
                      <a:pt x="0" y="0"/>
                    </a:lnTo>
                    <a:lnTo>
                      <a:pt x="949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042920" y="5354640"/>
                <a:ext cx="34200" cy="119844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0" y="984"/>
                    </a:moveTo>
                    <a:lnTo>
                      <a:pt x="39" y="948"/>
                    </a:lnTo>
                    <a:lnTo>
                      <a:pt x="39" y="78"/>
                    </a:lnTo>
                    <a:lnTo>
                      <a:pt x="0" y="0"/>
                    </a:lnTo>
                    <a:lnTo>
                      <a:pt x="0" y="984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42920" y="5354640"/>
                <a:ext cx="34200" cy="119844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0" y="984"/>
                    </a:moveTo>
                    <a:lnTo>
                      <a:pt x="39" y="948"/>
                    </a:lnTo>
                    <a:lnTo>
                      <a:pt x="39" y="78"/>
                    </a:lnTo>
                    <a:lnTo>
                      <a:pt x="0" y="0"/>
                    </a:lnTo>
                    <a:lnTo>
                      <a:pt x="0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31600" y="5354640"/>
                <a:ext cx="34200" cy="119844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39" y="984"/>
                    </a:moveTo>
                    <a:lnTo>
                      <a:pt x="0" y="948"/>
                    </a:lnTo>
                    <a:lnTo>
                      <a:pt x="0" y="78"/>
                    </a:lnTo>
                    <a:lnTo>
                      <a:pt x="39" y="0"/>
                    </a:lnTo>
                    <a:lnTo>
                      <a:pt x="39" y="984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31600" y="5354640"/>
                <a:ext cx="34200" cy="119844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39" y="984"/>
                    </a:moveTo>
                    <a:lnTo>
                      <a:pt x="0" y="948"/>
                    </a:lnTo>
                    <a:lnTo>
                      <a:pt x="0" y="78"/>
                    </a:lnTo>
                    <a:lnTo>
                      <a:pt x="39" y="0"/>
                    </a:lnTo>
                    <a:lnTo>
                      <a:pt x="39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42920" y="404640"/>
                <a:ext cx="34200" cy="119808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0" y="0"/>
                    </a:moveTo>
                    <a:lnTo>
                      <a:pt x="39" y="36"/>
                    </a:lnTo>
                    <a:lnTo>
                      <a:pt x="39" y="906"/>
                    </a:lnTo>
                    <a:lnTo>
                      <a:pt x="0" y="9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42920" y="404640"/>
                <a:ext cx="34200" cy="119808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0" y="0"/>
                    </a:moveTo>
                    <a:lnTo>
                      <a:pt x="39" y="36"/>
                    </a:lnTo>
                    <a:lnTo>
                      <a:pt x="39" y="906"/>
                    </a:lnTo>
                    <a:lnTo>
                      <a:pt x="0" y="98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031600" y="404640"/>
                <a:ext cx="34200" cy="119808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39" y="0"/>
                    </a:moveTo>
                    <a:lnTo>
                      <a:pt x="0" y="36"/>
                    </a:lnTo>
                    <a:lnTo>
                      <a:pt x="0" y="906"/>
                    </a:lnTo>
                    <a:lnTo>
                      <a:pt x="39" y="98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031600" y="404640"/>
                <a:ext cx="34200" cy="1198080"/>
              </a:xfrm>
              <a:custGeom>
                <a:avLst/>
                <a:gdLst/>
                <a:ahLst/>
                <a:rect l="l" t="t" r="r" b="b"/>
                <a:pathLst>
                  <a:path w="39" h="984">
                    <a:moveTo>
                      <a:pt x="39" y="0"/>
                    </a:moveTo>
                    <a:lnTo>
                      <a:pt x="0" y="36"/>
                    </a:lnTo>
                    <a:lnTo>
                      <a:pt x="0" y="906"/>
                    </a:lnTo>
                    <a:lnTo>
                      <a:pt x="39" y="984"/>
                    </a:lnTo>
                    <a:lnTo>
                      <a:pt x="39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42920" y="6509160"/>
                <a:ext cx="947880" cy="4356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1073" y="36"/>
                    </a:moveTo>
                    <a:lnTo>
                      <a:pt x="988" y="0"/>
                    </a:lnTo>
                    <a:lnTo>
                      <a:pt x="39" y="0"/>
                    </a:lnTo>
                    <a:lnTo>
                      <a:pt x="0" y="36"/>
                    </a:lnTo>
                    <a:lnTo>
                      <a:pt x="1073" y="36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042920" y="6509160"/>
                <a:ext cx="947880" cy="4356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1073" y="36"/>
                    </a:moveTo>
                    <a:lnTo>
                      <a:pt x="988" y="0"/>
                    </a:lnTo>
                    <a:lnTo>
                      <a:pt x="39" y="0"/>
                    </a:lnTo>
                    <a:lnTo>
                      <a:pt x="0" y="36"/>
                    </a:lnTo>
                    <a:lnTo>
                      <a:pt x="1073" y="36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117920" y="6509160"/>
                <a:ext cx="948240" cy="4356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0" y="36"/>
                    </a:moveTo>
                    <a:lnTo>
                      <a:pt x="85" y="0"/>
                    </a:lnTo>
                    <a:lnTo>
                      <a:pt x="1034" y="0"/>
                    </a:lnTo>
                    <a:lnTo>
                      <a:pt x="107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7920" y="6509160"/>
                <a:ext cx="948240" cy="4356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0" y="36"/>
                    </a:moveTo>
                    <a:lnTo>
                      <a:pt x="85" y="0"/>
                    </a:lnTo>
                    <a:lnTo>
                      <a:pt x="1034" y="0"/>
                    </a:lnTo>
                    <a:lnTo>
                      <a:pt x="1073" y="36"/>
                    </a:lnTo>
                    <a:lnTo>
                      <a:pt x="0" y="36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42920" y="404640"/>
                <a:ext cx="947880" cy="4356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1073" y="0"/>
                    </a:moveTo>
                    <a:lnTo>
                      <a:pt x="988" y="36"/>
                    </a:lnTo>
                    <a:lnTo>
                      <a:pt x="39" y="36"/>
                    </a:lnTo>
                    <a:lnTo>
                      <a:pt x="0" y="0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cff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42920" y="404640"/>
                <a:ext cx="947880" cy="4356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1073" y="0"/>
                    </a:moveTo>
                    <a:lnTo>
                      <a:pt x="988" y="36"/>
                    </a:lnTo>
                    <a:lnTo>
                      <a:pt x="39" y="36"/>
                    </a:lnTo>
                    <a:lnTo>
                      <a:pt x="0" y="0"/>
                    </a:lnTo>
                    <a:lnTo>
                      <a:pt x="1073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117920" y="404640"/>
                <a:ext cx="948240" cy="4356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0" y="0"/>
                    </a:moveTo>
                    <a:lnTo>
                      <a:pt x="85" y="36"/>
                    </a:lnTo>
                    <a:lnTo>
                      <a:pt x="1034" y="36"/>
                    </a:lnTo>
                    <a:lnTo>
                      <a:pt x="10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f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117920" y="404640"/>
                <a:ext cx="948240" cy="43560"/>
              </a:xfrm>
              <a:custGeom>
                <a:avLst/>
                <a:gdLst/>
                <a:ahLst/>
                <a:rect l="l" t="t" r="r" b="b"/>
                <a:pathLst>
                  <a:path w="1073" h="36">
                    <a:moveTo>
                      <a:pt x="0" y="0"/>
                    </a:moveTo>
                    <a:lnTo>
                      <a:pt x="85" y="36"/>
                    </a:lnTo>
                    <a:lnTo>
                      <a:pt x="1034" y="36"/>
                    </a:lnTo>
                    <a:lnTo>
                      <a:pt x="107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042920" y="5354640"/>
                <a:ext cx="947880" cy="119844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0"/>
                    </a:moveTo>
                    <a:lnTo>
                      <a:pt x="39" y="78"/>
                    </a:lnTo>
                    <a:lnTo>
                      <a:pt x="988" y="948"/>
                    </a:lnTo>
                    <a:lnTo>
                      <a:pt x="1073" y="9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f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42920" y="5354640"/>
                <a:ext cx="947880" cy="119844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0"/>
                    </a:moveTo>
                    <a:lnTo>
                      <a:pt x="39" y="78"/>
                    </a:lnTo>
                    <a:lnTo>
                      <a:pt x="988" y="948"/>
                    </a:lnTo>
                    <a:lnTo>
                      <a:pt x="1073" y="98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117920" y="5354640"/>
                <a:ext cx="948240" cy="119844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0"/>
                    </a:moveTo>
                    <a:lnTo>
                      <a:pt x="1034" y="78"/>
                    </a:lnTo>
                    <a:lnTo>
                      <a:pt x="85" y="948"/>
                    </a:lnTo>
                    <a:lnTo>
                      <a:pt x="0" y="984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cff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17920" y="5354640"/>
                <a:ext cx="948240" cy="119844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0"/>
                    </a:moveTo>
                    <a:lnTo>
                      <a:pt x="1034" y="78"/>
                    </a:lnTo>
                    <a:lnTo>
                      <a:pt x="85" y="948"/>
                    </a:lnTo>
                    <a:lnTo>
                      <a:pt x="0" y="984"/>
                    </a:lnTo>
                    <a:lnTo>
                      <a:pt x="1073" y="0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42920" y="404640"/>
                <a:ext cx="947880" cy="11980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984"/>
                    </a:moveTo>
                    <a:lnTo>
                      <a:pt x="39" y="906"/>
                    </a:lnTo>
                    <a:lnTo>
                      <a:pt x="988" y="36"/>
                    </a:lnTo>
                    <a:lnTo>
                      <a:pt x="1073" y="0"/>
                    </a:lnTo>
                    <a:lnTo>
                      <a:pt x="0" y="984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042920" y="404640"/>
                <a:ext cx="947880" cy="11980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0" y="984"/>
                    </a:moveTo>
                    <a:lnTo>
                      <a:pt x="39" y="906"/>
                    </a:lnTo>
                    <a:lnTo>
                      <a:pt x="988" y="36"/>
                    </a:lnTo>
                    <a:lnTo>
                      <a:pt x="1073" y="0"/>
                    </a:lnTo>
                    <a:lnTo>
                      <a:pt x="0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117920" y="404640"/>
                <a:ext cx="948240" cy="11980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984"/>
                    </a:moveTo>
                    <a:lnTo>
                      <a:pt x="1034" y="906"/>
                    </a:lnTo>
                    <a:lnTo>
                      <a:pt x="85" y="36"/>
                    </a:lnTo>
                    <a:lnTo>
                      <a:pt x="0" y="0"/>
                    </a:lnTo>
                    <a:lnTo>
                      <a:pt x="1073" y="984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117920" y="404640"/>
                <a:ext cx="948240" cy="1198080"/>
              </a:xfrm>
              <a:custGeom>
                <a:avLst/>
                <a:gdLst/>
                <a:ahLst/>
                <a:rect l="l" t="t" r="r" b="b"/>
                <a:pathLst>
                  <a:path w="1073" h="984">
                    <a:moveTo>
                      <a:pt x="1073" y="984"/>
                    </a:moveTo>
                    <a:lnTo>
                      <a:pt x="1034" y="906"/>
                    </a:lnTo>
                    <a:lnTo>
                      <a:pt x="85" y="36"/>
                    </a:lnTo>
                    <a:lnTo>
                      <a:pt x="0" y="0"/>
                    </a:lnTo>
                    <a:lnTo>
                      <a:pt x="1073" y="984"/>
                    </a:lnTo>
                  </a:path>
                </a:pathLst>
              </a:custGeom>
              <a:noFill/>
              <a:ln w="0">
                <a:solidFill>
                  <a:srgbClr val="0e0d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(Hebrew)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195560" y="476280"/>
              <a:ext cx="6761160" cy="60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1.3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Arial"/>
                  <a:ea typeface="David Transparent"/>
                </a:rPr>
                <a:t>-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רקורסיה כפולה</a:t>
              </a:r>
              <a:br>
                <a:rPr sz="4000"/>
              </a:br>
              <a:r>
                <a:rPr b="1" lang="he-IL" sz="3200" spc="-1" strike="noStrike">
                  <a:solidFill>
                    <a:srgbClr val="008080"/>
                  </a:solidFill>
                  <a:latin typeface="Times New Roman"/>
                  <a:ea typeface="Guttman Adii"/>
                </a:rPr>
                <a:t> </a:t>
              </a:r>
              <a:r>
                <a:rPr b="1" lang="he-IL" sz="2400" spc="-1" strike="noStrike">
                  <a:solidFill>
                    <a:srgbClr val="008080"/>
                  </a:solidFill>
                  <a:latin typeface="Times New Roman"/>
                  <a:ea typeface="Guttman Adii"/>
                </a:rPr>
                <a:t>(דוגמה: סדרת פיבונאצ'י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</a:rPr>
                <a:t> נתון מספר שלם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</a:rPr>
                <a:t>.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</a:rPr>
                <a:t> חישוב ערכו של המספר הפיבונאצ'י ה-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פיבונאצ'י 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&lt;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זי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חזר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n-1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רת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חזר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he-IL" sz="2200" spc="-1" strike="noStrike">
                  <a:solidFill>
                    <a:srgbClr val="000000"/>
                  </a:solidFill>
                  <a:latin typeface="Times New Roman"/>
                </a:rPr>
                <a:t>פיבונאצ'י 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n-1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) + </a:t>
              </a:r>
              <a:r>
                <a:rPr b="1" lang="he-IL" sz="2200" spc="-1" strike="noStrike">
                  <a:solidFill>
                    <a:srgbClr val="000000"/>
                  </a:solidFill>
                  <a:latin typeface="Times New Roman"/>
                </a:rPr>
                <a:t>פיבונאצ'י 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n-2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731880" y="639720"/>
            <a:ext cx="7561080" cy="5545080"/>
            <a:chOff x="731880" y="639720"/>
            <a:chExt cx="7561080" cy="554508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731880" y="639720"/>
              <a:ext cx="7561080" cy="55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876240" y="900000"/>
              <a:ext cx="7272000" cy="51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10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r" pos="536400"/>
                  <a:tab algn="r" pos="990720"/>
                  <a:tab algn="r" pos="1611360"/>
                  <a:tab algn="r" pos="214776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r" pos="536400"/>
                  <a:tab algn="r" pos="990720"/>
                  <a:tab algn="r" pos="1611360"/>
                  <a:tab algn="r" pos="214776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Arial"/>
                  <a:ea typeface="David Transparent"/>
                </a:rPr>
                <a:t>1.4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Arial"/>
                  <a:ea typeface="David Transparent"/>
                </a:rPr>
                <a:t> - הפרד ומשול</a:t>
              </a:r>
              <a:br>
                <a:rPr sz="4000"/>
              </a:br>
              <a:r>
                <a:rPr b="1" lang="he-IL" sz="2400" spc="-1" strike="noStrike">
                  <a:solidFill>
                    <a:srgbClr val="008080"/>
                  </a:solidFill>
                  <a:latin typeface="Times New Roman"/>
                  <a:ea typeface="Guttman Adii"/>
                </a:rPr>
                <a:t>(דוגמא: מקסימום בסדרה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00000"/>
                </a:lnSpc>
                <a:tabLst>
                  <a:tab algn="l" pos="0"/>
                  <a:tab algn="r" pos="536400"/>
                  <a:tab algn="r" pos="990720"/>
                  <a:tab algn="r" pos="1611360"/>
                  <a:tab algn="r" pos="214776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סדרת מספרים.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00000"/>
                </a:lnSpc>
                <a:tabLst>
                  <a:tab algn="l" pos="0"/>
                  <a:tab algn="r" pos="536400"/>
                  <a:tab algn="r" pos="990720"/>
                  <a:tab algn="r" pos="1611360"/>
                  <a:tab algn="r" pos="214776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ציאת מקסימום בעזרת פירוק הסדרה לשתי תת-סדרות ומציאת המקסימום בכל תת-סדרה בנפרד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536400"/>
                  <a:tab algn="r" pos="990720"/>
                  <a:tab algn="r" pos="1611360"/>
                  <a:tab algn="r" pos="214776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: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מצא-מקסימום (סדרת אברים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r" pos="536400"/>
                  <a:tab algn="r" pos="990720"/>
                  <a:tab algn="r" pos="1611360"/>
                  <a:tab algn="r" pos="214776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 הסדרה מכילה איבר בודד אזי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tabLst>
                  <a:tab algn="l" pos="0"/>
                  <a:tab algn="r" pos="536400"/>
                  <a:tab algn="r" pos="990720"/>
                  <a:tab algn="r" pos="1611360"/>
                  <a:tab algn="r" pos="214776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וא המקסימלי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tabLst>
                  <a:tab algn="l" pos="0"/>
                  <a:tab algn="r" pos="536400"/>
                  <a:tab algn="r" pos="990720"/>
                  <a:tab algn="r" pos="1611360"/>
                  <a:tab algn="r" pos="214776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רת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tabLst>
                  <a:tab algn="l" pos="0"/>
                  <a:tab algn="r" pos="536400"/>
                  <a:tab algn="r" pos="990720"/>
                  <a:tab algn="r" pos="1611360"/>
                  <a:tab algn="r" pos="214776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David"/>
                </a:rPr>
                <a:t>מצא-מקסימום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חלק מסדרת המספרים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max1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tabLst>
                  <a:tab algn="l" pos="0"/>
                  <a:tab algn="r" pos="536400"/>
                  <a:tab algn="r" pos="990720"/>
                  <a:tab algn="r" pos="1611360"/>
                  <a:tab algn="r" pos="214776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David"/>
                </a:rPr>
                <a:t>מצא-מקסימום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שאר האיברים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max2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0000"/>
                </a:lnSpc>
                <a:tabLst>
                  <a:tab algn="l" pos="0"/>
                  <a:tab algn="r" pos="536400"/>
                  <a:tab algn="r" pos="990720"/>
                  <a:tab algn="r" pos="1611360"/>
                  <a:tab algn="r" pos="214776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חזר את הערך הגדול מבין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x1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</a:rPr>
                <a:t> 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cs typeface="Arial"/>
                </a:rPr>
                <a:t>ו-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x2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744480" y="755640"/>
            <a:ext cx="7559640" cy="5548320"/>
            <a:chOff x="744480" y="755640"/>
            <a:chExt cx="7559640" cy="554832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744480" y="755640"/>
              <a:ext cx="7559640" cy="55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85960" y="909720"/>
              <a:ext cx="7346880" cy="52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r" pos="536400"/>
                  <a:tab algn="r" pos="1074600"/>
                  <a:tab algn="r" pos="1611360"/>
                  <a:tab algn="r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r" pos="536400"/>
                  <a:tab algn="r" pos="1074600"/>
                  <a:tab algn="r" pos="1611360"/>
                  <a:tab algn="r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Arial"/>
                  <a:ea typeface="David Transparent"/>
                </a:rPr>
                <a:t>1.5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Arial"/>
                  <a:ea typeface="David Transparent"/>
                </a:rPr>
                <a:t>- דו מימדי</a:t>
              </a:r>
              <a:br>
                <a:rPr sz="4000"/>
              </a:br>
              <a:r>
                <a:rPr b="0" i="1" lang="he-IL" sz="2800" spc="-1" strike="noStrike">
                  <a:solidFill>
                    <a:srgbClr val="008080"/>
                  </a:solidFill>
                  <a:latin typeface="Arial"/>
                  <a:ea typeface="David Transparent"/>
                </a:rPr>
                <a:t> </a:t>
              </a:r>
              <a:r>
                <a:rPr b="1" lang="he-IL" sz="2400" spc="-1" strike="noStrike">
                  <a:solidFill>
                    <a:srgbClr val="008080"/>
                  </a:solidFill>
                  <a:latin typeface="Arial"/>
                  <a:ea typeface="Guttman Adii"/>
                </a:rPr>
                <a:t>(דוגמא: דרכים בסריג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r" pos="536400"/>
                  <a:tab algn="r" pos="1074600"/>
                  <a:tab algn="r" pos="1611360"/>
                  <a:tab algn="r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David"/>
                </a:rPr>
                <a:t>נקודה ברביע החיובי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r" pos="536400"/>
                  <a:tab algn="r" pos="1074600"/>
                  <a:tab algn="r" pos="1611360"/>
                  <a:tab algn="r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David"/>
                </a:rPr>
                <a:t>חישוב מספר הדרכים האפשריות להגעה לראשית הצירים </a:t>
              </a:r>
              <a:br>
                <a:rPr sz="2000"/>
              </a:b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David"/>
                </a:rPr>
                <a:t>כאשר מותר לצעוד אחד שמאלה או אחד למטה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536400"/>
                  <a:tab algn="r" pos="1074600"/>
                  <a:tab algn="r" pos="1611360"/>
                  <a:tab algn="r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: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דרכים 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x,y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r" pos="536400"/>
                  <a:tab algn="r" pos="1074600"/>
                  <a:tab algn="r" pos="1611360"/>
                  <a:tab algn="r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r" pos="536400"/>
                  <a:tab algn="r" pos="1074600"/>
                  <a:tab algn="r" pos="1611360"/>
                  <a:tab algn="r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x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= 0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או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FrankRuehl"/>
                </a:rPr>
                <a:t>y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= 0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אזי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r" pos="536400"/>
                  <a:tab algn="r" pos="1074600"/>
                  <a:tab algn="r" pos="1611360"/>
                  <a:tab algn="r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חזר 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r" pos="536400"/>
                  <a:tab algn="r" pos="1074600"/>
                  <a:tab algn="r" pos="1611360"/>
                  <a:tab algn="r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רת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r" pos="536400"/>
                  <a:tab algn="r" pos="1074600"/>
                  <a:tab algn="r" pos="1611360"/>
                  <a:tab algn="r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חזר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דרכים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x-1,y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+ </a:t>
              </a:r>
              <a:r>
                <a:rPr b="1" lang="he-IL" sz="2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דרכים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FrankRuehl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,y-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</a:t>
              </a: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  <a:ea typeface="FrankRuehl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916360" y="62028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3300"/>
                </a:solidFill>
                <a:latin typeface="Arial"/>
                <a:cs typeface="David Transparent"/>
              </a:rPr>
              <a:t>מחלקת</a:t>
            </a:r>
            <a:r>
              <a:rPr b="0" lang="he-IL" sz="4800" spc="-1" strike="noStrike">
                <a:solidFill>
                  <a:srgbClr val="ff3300"/>
                </a:solidFill>
                <a:latin typeface="Times New Roman"/>
                <a:ea typeface="David Transparent"/>
              </a:rPr>
              <a:t> </a:t>
            </a:r>
            <a:r>
              <a:rPr b="1" lang="he-IL" sz="4800" spc="-1" strike="noStrike">
                <a:solidFill>
                  <a:srgbClr val="ff3300"/>
                </a:solidFill>
                <a:latin typeface="Arial"/>
                <a:cs typeface="David Transparent"/>
              </a:rPr>
              <a:t>רשימה</a:t>
            </a:r>
            <a:r>
              <a:rPr b="0" lang="he-IL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88" name=""/>
          <p:cNvSpPr/>
          <p:nvPr/>
        </p:nvSpPr>
        <p:spPr>
          <a:xfrm>
            <a:off x="1568520" y="1163520"/>
            <a:ext cx="55958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4.1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בניה של רשימה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4.2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שרשור רשימות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4.3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נמצא-ברשימה?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4.4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מקום-ברשימה 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4.5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מחיקת אברים מרשימה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4.6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העברות ברשימה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4.7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היפוך רשימה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21760" y="1431000"/>
            <a:ext cx="2950200" cy="3059280"/>
            <a:chOff x="221760" y="1431000"/>
            <a:chExt cx="2950200" cy="3059280"/>
          </a:xfrm>
        </p:grpSpPr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 rot="19817400">
              <a:off x="1782000" y="1700280"/>
              <a:ext cx="1287360" cy="75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 rot="19817400">
              <a:off x="323640" y="3466800"/>
              <a:ext cx="1287360" cy="75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 rot="19817400">
              <a:off x="1024560" y="2586240"/>
              <a:ext cx="1287360" cy="753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843120" y="606600"/>
            <a:ext cx="7488000" cy="5760720"/>
            <a:chOff x="843120" y="606600"/>
            <a:chExt cx="7488000" cy="576072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843120" y="606600"/>
              <a:ext cx="7488000" cy="57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1511640" y="975600"/>
              <a:ext cx="6150960" cy="50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4.1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בניה של רשימה</a:t>
              </a:r>
              <a:r>
                <a:rPr b="1" i="1" lang="he-IL" sz="28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סדרה של ערכים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בניית רשימה שמכילה את סדרת הערכים.</a:t>
              </a:r>
              <a:br>
                <a:rPr sz="2800"/>
              </a:b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: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בנה-רשימה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תחל-רשימה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גן-רשימה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p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(L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כל עוד  לא סוף-הסדרה בצע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נתון הבא בסדרה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x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כנס-לרשימה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L, p, x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, 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p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חזר את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David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David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9:16:12Z</dcterms:created>
  <dc:creator>hila</dc:creator>
  <dc:description/>
  <dc:language>en-US</dc:language>
  <cp:lastModifiedBy>Adi</cp:lastModifiedBy>
  <dcterms:modified xsi:type="dcterms:W3CDTF">2004-07-22T07:25:22Z</dcterms:modified>
  <cp:revision>70</cp:revision>
  <dc:subject/>
  <dc:title>תבניות בעיצוב תכנה</dc:title>
</cp:coreProperties>
</file>