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20D-651D-4F5C-A86E-55C1FB30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A79-4284-4379-9654-109EE06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BDC-10D1-499C-AAA2-FE8662E3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8BC-838C-4B9E-B0C0-71CA050E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F41-3116-47BC-9170-68380C1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A66-6961-470E-AC7E-6A34814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0F9-7330-44D1-AE83-D7F0D48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CCD-62FC-4D50-B08C-FDBA4D45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D5A-9BF7-49C5-AEB3-B9A44440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8AD-5785-4CAD-9A8B-8DC8946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402-6935-46D6-98E9-C755FDF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BE7-CBC9-42C5-A72D-9ABA4BB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6709DE54-5669-4316-9FF7-50708B00F51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6915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עצים בינאריים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971360"/>
            <a:ext cx="619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- בנית עץ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בסדר תחיל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בסדר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cs typeface="David"/>
              </a:rPr>
              <a:t>תוכ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בסדר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cs typeface="David"/>
              </a:rPr>
              <a:t>סופי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8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סריקה לרוחב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(בעזרת תור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0920" y="1989000"/>
            <a:ext cx="2970000" cy="2159280"/>
            <a:chOff x="250920" y="1989000"/>
            <a:chExt cx="2970000" cy="2159280"/>
          </a:xfrm>
        </p:grpSpPr>
        <p:sp>
          <p:nvSpPr>
            <p:cNvPr id="45" name=""/>
            <p:cNvSpPr/>
            <p:nvPr/>
          </p:nvSpPr>
          <p:spPr>
            <a:xfrm>
              <a:off x="1260360" y="3223080"/>
              <a:ext cx="3391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47200" y="3216240"/>
              <a:ext cx="35316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465640" y="3223080"/>
              <a:ext cx="3391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5520" y="2760480"/>
              <a:ext cx="594000" cy="513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0520" y="3634560"/>
              <a:ext cx="594000" cy="513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26920" y="2709000"/>
              <a:ext cx="594000" cy="513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19760" y="3634560"/>
              <a:ext cx="594000" cy="513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3634560"/>
              <a:ext cx="594000" cy="513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17120" y="1989000"/>
              <a:ext cx="594000" cy="513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200600" y="2349720"/>
              <a:ext cx="41580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11120" y="2349720"/>
              <a:ext cx="41544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105-8015-46C9-AD7B-2687681F8B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836640"/>
            <a:ext cx="77752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</a:t>
            </a:r>
            <a:r>
              <a:rPr b="1" i="1" lang="he-IL" sz="4000" spc="-1" strike="noStrike">
                <a:solidFill>
                  <a:srgbClr val="000000"/>
                </a:solidFill>
                <a:latin typeface="Times New Roman (Hebrew)"/>
                <a:ea typeface="David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נקודת מוצא: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סדרת נתונים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טרה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חזרת עץ בינארי ששומר את סדרת הנתונים. בחירת הבנים של צומת במהלך הבניה נעשית בצורה אקראית. </a:t>
            </a:r>
            <a:br>
              <a:rPr sz="2000"/>
            </a:b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בנה-עץ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יבר-הבא-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כל עוד לא סוף הסדרה בצע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כנס-באופן-אקראי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, x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יבר-הבא-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זר א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FA0-1BDC-4666-958A-9F5095AAC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0920" y="112392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 (המשך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635200"/>
            <a:ext cx="59770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</a:t>
            </a:r>
            <a:r>
              <a:rPr b="1" lang="he-IL" sz="2400" spc="-1" strike="noStrike">
                <a:solidFill>
                  <a:srgbClr val="000000"/>
                </a:solidFill>
                <a:latin typeface="Times New Roman (Hebrew)"/>
              </a:rPr>
              <a:t>:   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אתחל-עץ-צומת 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1" lang="he-IL" sz="2400" spc="-1" strike="noStrike">
                <a:solidFill>
                  <a:srgbClr val="000000"/>
                </a:solidFill>
                <a:latin typeface="Times New Roman (Hebrew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ltree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rtree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בנה-עץ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ltree, rtree, x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2000"/>
            </a:b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זר א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4B4-236E-4AA0-B4BE-889BA7A68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0000" cy="568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765000"/>
            <a:ext cx="7775280" cy="55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8.1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 (Hebrew)"/>
                <a:ea typeface="David Transparent"/>
              </a:rPr>
              <a:t> - בנית עץ (המשך)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    </a:t>
            </a:r>
            <a:r>
              <a:rPr b="1" lang="he-IL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הכנס-באופן-אקראי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, x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זי   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r" pos="355680"/>
                <a:tab algn="r" pos="901800"/>
                <a:tab algn="r" pos="1434960"/>
                <a:tab algn="r" pos="1968480"/>
                <a:tab algn="r" pos="25146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קבע-כיוון-אקראי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d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 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 0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תת-עץ שמאלי,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1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תת-עץ ימני }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d = 0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לא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  <a:cs typeface="Times New Roman"/>
              </a:rPr>
              <a:t>הכנס-באופן-אקרא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,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1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לף-תת-עץ-שמאל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T1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ם לא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עץ-ריק?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)), אזי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 (Hebrew)"/>
                <a:cs typeface="Times New Roman"/>
              </a:rPr>
              <a:t>הכנס-באופן-אקראי 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Times New Roman"/>
              </a:rPr>
              <a:t>(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, 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חרת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עץ-צומת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T1</a:t>
            </a:r>
            <a:br>
              <a:rPr sz="1400"/>
            </a:b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החלף-תת-עץ-ימני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T1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e-IL" sz="1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	</a:t>
            </a: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108-AB86-48E6-8C33-278FC7035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755640" y="765000"/>
            <a:ext cx="7704000" cy="5329440"/>
            <a:chOff x="755640" y="765000"/>
            <a:chExt cx="7704000" cy="53294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755640" y="765000"/>
              <a:ext cx="7704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87280" y="1268280"/>
              <a:ext cx="676764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תחילי</a:t>
              </a:r>
              <a:r>
                <a:rPr b="1" i="1" lang="he-IL" sz="28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.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בסדר תחילי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תחיל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-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תחי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-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תחי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E8E-296A-446E-9414-99D3D37611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755640" y="981000"/>
            <a:ext cx="7632720" cy="5041800"/>
            <a:chOff x="755640" y="981000"/>
            <a:chExt cx="7632720" cy="50418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755640" y="981000"/>
              <a:ext cx="7632720" cy="50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437120" y="1303920"/>
              <a:ext cx="6269760" cy="43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תוכי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עץ מאותחל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סריקת צמתי העץ בסדר תוֹכי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תוכ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תוכ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 ל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55680"/>
                  <a:tab algn="r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תוכ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4BF-B980-4B44-B031-AA9E446A3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971640" y="981000"/>
            <a:ext cx="7561080" cy="5184720"/>
            <a:chOff x="971640" y="981000"/>
            <a:chExt cx="7561080" cy="518472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971640" y="981000"/>
              <a:ext cx="7561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647000" y="1312920"/>
              <a:ext cx="6210000" cy="45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4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בסדר סופי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בסדר 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דר-סופי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דר-סופ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 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F91-A9B7-4430-9FD9-46A17AD84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826920" y="549360"/>
            <a:ext cx="7561440" cy="5904000"/>
            <a:chOff x="826920" y="549360"/>
            <a:chExt cx="7561440" cy="59040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826920" y="549360"/>
              <a:ext cx="756144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501920" y="927720"/>
              <a:ext cx="6211440" cy="51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8.5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- סריקה לרוחב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עץ מאותחל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סריקת צמתי העץ לפי רמו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סריקה-לרוחב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T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תחל-תור </a:t>
              </a:r>
              <a:r>
                <a:rPr b="0" lang="he-I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, 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ור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Q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בצע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וצא-מתור </a:t>
              </a:r>
              <a:r>
                <a:rPr b="0" lang="he-I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תייחס ל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שמאלי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(T)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ם לא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עץ-ריק?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T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 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זי 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r" pos="363600"/>
                  <a:tab algn="r" pos="900000"/>
                  <a:tab algn="r" pos="1436760"/>
                  <a:tab algn="r" pos="197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כנס-לתור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17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תת-עץ-ימני</a:t>
              </a:r>
              <a:r>
                <a:rPr b="0" lang="he-IL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Q, (T)</a:t>
              </a:r>
              <a:endParaRPr b="0" lang="en-US" sz="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583-AD08-4072-8338-CAB823196D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hila</dc:creator>
  <dc:description/>
  <dc:language>en-US</dc:language>
  <cp:lastModifiedBy>Tal</cp:lastModifiedBy>
  <dcterms:modified xsi:type="dcterms:W3CDTF">2004-07-18T13:43:58Z</dcterms:modified>
  <cp:revision>52</cp:revision>
  <dc:subject/>
  <dc:title>תבניות בעיצוב תכנה</dc:title>
</cp:coreProperties>
</file>